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42090F-25CE-46E0-919C-395AB52296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5BA37D-38A7-483F-9EA5-609965EE94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83A3EA-C700-4796-AD10-A978195CF6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B2666A-BB1C-4694-853B-16241805D8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C777A3-F56D-47FE-9409-0BED37AAC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7EEFFA-C7AA-4ED3-B437-4200FE831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BED9B1-0830-4878-95CF-85734A449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0C3AB3-7D9A-4892-A753-9005ECC56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5216E8-85AE-488F-B1DF-3C9EA4895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6045C2-796F-43DA-9772-B590D6BF6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EFC34C-2846-42C1-9229-FB4266E35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7A64FA-0ACA-4A95-A0C6-2DC0677CA6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334AAD-F9C9-49E4-9A9A-96BD1BCD3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F82585-2E29-4E85-8260-5494C7D1C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FFA9AF-C294-4029-B8CA-9647E74F6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1A983D-8507-46DA-837F-EC3F6A0F4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C634EA-FB29-421B-81CE-5245B3950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225BD9-F0B8-4414-8F11-898668814A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25CC2A-8E16-4D92-83B9-36D93FC3B8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074B25-50CD-42D7-BBB0-F338682684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1A32A5-1D22-4BB7-889E-D1FC68CD66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741AE0-E6B4-4BD5-AB3D-D8871F6863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F442BF-A3CF-49AC-B34B-EB5CB6B9AD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E12970-50C4-4FE7-8CB9-3457D1CD70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457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901E5-909B-47CD-A172-992A2B0E86E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paint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  <p:grpSp>
        <p:nvGrpSpPr>
          <p:cNvPr id="4" name=""/>
          <p:cNvGrpSpPr/>
          <p:nvPr/>
        </p:nvGrpSpPr>
        <p:grpSpPr>
          <a:xfrm>
            <a:off x="8381880" y="6248520"/>
            <a:ext cx="609840" cy="457200"/>
            <a:chOff x="8381880" y="6248520"/>
            <a:chExt cx="609840" cy="457200"/>
          </a:xfrm>
        </p:grpSpPr>
        <p:pic>
          <p:nvPicPr>
            <p:cNvPr id="5" name="" descr=""/>
            <p:cNvPicPr/>
            <p:nvPr/>
          </p:nvPicPr>
          <p:blipFill>
            <a:blip r:embed="rId3"/>
            <a:stretch/>
          </p:blipFill>
          <p:spPr>
            <a:xfrm>
              <a:off x="8381880" y="6248520"/>
              <a:ext cx="60984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" name="PlaceHolder 4"/>
            <p:cNvSpPr>
              <a:spLocks noGrp="1"/>
            </p:cNvSpPr>
            <p:nvPr>
              <p:ph type="ftr" idx="2"/>
            </p:nvPr>
          </p:nvSpPr>
          <p:spPr>
            <a:xfrm>
              <a:off x="8381880" y="6248520"/>
              <a:ext cx="60984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b">
              <a:noAutofit/>
            </a:bodyPr>
            <a:lstStyle>
              <a:lvl1pPr indent="0" algn="ctr">
                <a:lnSpc>
                  <a:spcPct val="100000"/>
                </a:lnSpc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  <a:defRPr b="0" lang="en-US" sz="1400" spc="-1" strike="noStrike">
                  <a:solidFill>
                    <a:srgbClr val="000000"/>
                  </a:solidFill>
                  <a:latin typeface="Tahoma"/>
                </a:defRPr>
              </a:lvl1pPr>
            </a:lstStyle>
            <a:p>
              <a:pPr indent="0" algn="ctr">
                <a:lnSpc>
                  <a:spcPct val="100000"/>
                </a:lnSpc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&lt;footer&g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1828800" y="2438280"/>
            <a:ext cx="6172200" cy="4648320"/>
            <a:chOff x="1828800" y="2438280"/>
            <a:chExt cx="6172200" cy="4648320"/>
          </a:xfrm>
        </p:grpSpPr>
        <p:pic>
          <p:nvPicPr>
            <p:cNvPr id="44" name="" descr=""/>
            <p:cNvPicPr/>
            <p:nvPr/>
          </p:nvPicPr>
          <p:blipFill>
            <a:blip r:embed="rId2">
              <a:lum bright="70000" contrast="-70000"/>
            </a:blip>
            <a:stretch/>
          </p:blipFill>
          <p:spPr>
            <a:xfrm>
              <a:off x="1828800" y="2438280"/>
              <a:ext cx="6172200" cy="464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"/>
            <p:cNvSpPr txBox="1"/>
            <p:nvPr/>
          </p:nvSpPr>
          <p:spPr>
            <a:xfrm>
              <a:off x="1828800" y="2438280"/>
              <a:ext cx="6172200" cy="4648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&lt;footer&g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3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4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5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A8B4C-2FEE-43C4-A943-C3EDFA19135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aint" descr=""/>
          <p:cNvPicPr/>
          <p:nvPr/>
        </p:nvPicPr>
        <p:blipFill>
          <a:blip r:embed="rId3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CP/IP für Anfänge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438280" y="464796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haos Communication Congres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Berlin, 27.-29. Dezember 1998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therne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0 oder 100 Mbit/s: Gleiches Protokol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rame-Typ: Ethernet-I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6 Byte Adressen, weltweit eindeutig (in der Hardware festgelegt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SMA/CD, “Shared media”, nicht kollisionsfrei, stochastisches Verhalt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uerdings auch “switched Ethernet”, kollisionsfrei (gleiches Protokoll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32ABB6-ECD4-4CFD-817C-690E078A08E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"/>
          <p:cNvGrpSpPr/>
          <p:nvPr/>
        </p:nvGrpSpPr>
        <p:grpSpPr>
          <a:xfrm>
            <a:off x="692280" y="1606680"/>
            <a:ext cx="7302600" cy="3788640"/>
            <a:chOff x="692280" y="1606680"/>
            <a:chExt cx="7302600" cy="3788640"/>
          </a:xfrm>
        </p:grpSpPr>
        <p:sp>
          <p:nvSpPr>
            <p:cNvPr id="163" name=""/>
            <p:cNvSpPr/>
            <p:nvPr/>
          </p:nvSpPr>
          <p:spPr>
            <a:xfrm>
              <a:off x="692280" y="1606680"/>
              <a:ext cx="368280" cy="749160"/>
            </a:xfrm>
            <a:prstGeom prst="rect">
              <a:avLst/>
            </a:prstGeom>
            <a:solidFill>
              <a:srgbClr val="9966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120760" y="4937040"/>
              <a:ext cx="58741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6 Byte Zieladresse (destination address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62120" y="2362320"/>
              <a:ext cx="0" cy="274320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62120" y="5105520"/>
              <a:ext cx="1523880" cy="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1149480" y="1606680"/>
            <a:ext cx="5829120" cy="3255480"/>
            <a:chOff x="1149480" y="1606680"/>
            <a:chExt cx="5829120" cy="3255480"/>
          </a:xfrm>
        </p:grpSpPr>
        <p:sp>
          <p:nvSpPr>
            <p:cNvPr id="168" name=""/>
            <p:cNvSpPr/>
            <p:nvPr/>
          </p:nvSpPr>
          <p:spPr>
            <a:xfrm>
              <a:off x="1149480" y="1606680"/>
              <a:ext cx="368280" cy="749160"/>
            </a:xfrm>
            <a:prstGeom prst="rect">
              <a:avLst/>
            </a:prstGeom>
            <a:solidFill>
              <a:srgbClr val="9966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265840" y="4403880"/>
              <a:ext cx="47127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 Byte Quelladresse (source address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295280" y="2209680"/>
              <a:ext cx="0" cy="24386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295280" y="4648320"/>
              <a:ext cx="990720" cy="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1606680" y="1606680"/>
            <a:ext cx="6528960" cy="2721960"/>
            <a:chOff x="1606680" y="1606680"/>
            <a:chExt cx="6528960" cy="2721960"/>
          </a:xfrm>
        </p:grpSpPr>
        <p:sp>
          <p:nvSpPr>
            <p:cNvPr id="173" name=""/>
            <p:cNvSpPr/>
            <p:nvPr/>
          </p:nvSpPr>
          <p:spPr>
            <a:xfrm>
              <a:off x="1606680" y="1606680"/>
              <a:ext cx="215640" cy="74916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284560" y="3870360"/>
              <a:ext cx="58510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 Byte Typ: 0800=IP,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0806=ARP, 0835=RAR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676520" y="2209680"/>
              <a:ext cx="0" cy="190512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>
              <a:off x="1676160" y="4114800"/>
              <a:ext cx="609480" cy="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1911240" y="1600200"/>
            <a:ext cx="6738840" cy="1509120"/>
            <a:chOff x="1911240" y="1600200"/>
            <a:chExt cx="6738840" cy="1509120"/>
          </a:xfrm>
        </p:grpSpPr>
        <p:sp>
          <p:nvSpPr>
            <p:cNvPr id="178" name=""/>
            <p:cNvSpPr/>
            <p:nvPr/>
          </p:nvSpPr>
          <p:spPr>
            <a:xfrm>
              <a:off x="1911240" y="1606680"/>
              <a:ext cx="6616800" cy="74916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038480" y="1600200"/>
              <a:ext cx="533520" cy="457200"/>
            </a:xfrm>
            <a:prstGeom prst="line">
              <a:avLst/>
            </a:prstGeom>
            <a:ln w="127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4114800" y="2057400"/>
              <a:ext cx="457200" cy="0"/>
            </a:xfrm>
            <a:prstGeom prst="line">
              <a:avLst/>
            </a:prstGeom>
            <a:ln w="127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114800" y="2057400"/>
              <a:ext cx="533520" cy="304920"/>
            </a:xfrm>
            <a:prstGeom prst="line">
              <a:avLst/>
            </a:prstGeom>
            <a:ln w="127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248560" y="2651040"/>
              <a:ext cx="64015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6 - 1500 Bytes Nutzdaten (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ahoma"/>
                </a:rPr>
                <a:t>MTU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=1500 byte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09680" y="1981080"/>
              <a:ext cx="0" cy="8384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4" name=""/>
          <p:cNvGrpSpPr/>
          <p:nvPr/>
        </p:nvGrpSpPr>
        <p:grpSpPr>
          <a:xfrm>
            <a:off x="2214000" y="1606680"/>
            <a:ext cx="6618960" cy="2112480"/>
            <a:chOff x="2214000" y="1606680"/>
            <a:chExt cx="6618960" cy="2112480"/>
          </a:xfrm>
        </p:grpSpPr>
        <p:sp>
          <p:nvSpPr>
            <p:cNvPr id="185" name=""/>
            <p:cNvSpPr/>
            <p:nvPr/>
          </p:nvSpPr>
          <p:spPr>
            <a:xfrm>
              <a:off x="8616960" y="1606680"/>
              <a:ext cx="216000" cy="74916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214000" y="3260880"/>
              <a:ext cx="37497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 Byte CRC (Prüfsumme)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638680" y="3505320"/>
              <a:ext cx="3048120" cy="0"/>
            </a:xfrm>
            <a:prstGeom prst="line">
              <a:avLst/>
            </a:prstGeom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8686800" y="2209320"/>
              <a:ext cx="0" cy="1295640"/>
            </a:xfrm>
            <a:prstGeom prst="line">
              <a:avLst/>
            </a:prstGeom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466560" y="5516640"/>
            <a:ext cx="7129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r Datenteil muß notfalls auf 46 Bytes aufgefüllt werd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thernet (RFC894)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FBB5EB-E34D-4658-9811-D7B99507E29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xkurs: Ethernet-Kabe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10Base-2, Cheap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G58 Kabel, 50 O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s-Verkabelung, T-Stück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abel muß mit je 50 Ohm terminiert se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185 m /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 Mbit/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2276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10Base-T usw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drillte Pa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A568 Cat.3/4/5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 Adernpaare (2 genutz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ern-Verkabelung vom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. 90+10 m/Stra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hlertolera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 und 100 Mbit/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F93D6C-5FB7-4D9B-9E43-E91462CA311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"/>
          <p:cNvGrpSpPr/>
          <p:nvPr/>
        </p:nvGrpSpPr>
        <p:grpSpPr>
          <a:xfrm>
            <a:off x="762120" y="3276720"/>
            <a:ext cx="4343400" cy="1066680"/>
            <a:chOff x="762120" y="3276720"/>
            <a:chExt cx="4343400" cy="1066680"/>
          </a:xfrm>
        </p:grpSpPr>
        <p:sp>
          <p:nvSpPr>
            <p:cNvPr id="195" name=""/>
            <p:cNvSpPr/>
            <p:nvPr/>
          </p:nvSpPr>
          <p:spPr>
            <a:xfrm>
              <a:off x="762120" y="3276720"/>
              <a:ext cx="609480" cy="1066680"/>
            </a:xfrm>
            <a:prstGeom prst="ellipse">
              <a:avLst/>
            </a:prstGeom>
            <a:noFill/>
            <a:ln w="381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066680" y="3276720"/>
              <a:ext cx="3962520" cy="0"/>
            </a:xfrm>
            <a:prstGeom prst="line">
              <a:avLst/>
            </a:prstGeom>
            <a:ln w="5724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066680" y="4343400"/>
              <a:ext cx="4038840" cy="0"/>
            </a:xfrm>
            <a:prstGeom prst="line">
              <a:avLst/>
            </a:prstGeom>
            <a:ln w="5724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8" name=""/>
          <p:cNvGrpSpPr/>
          <p:nvPr/>
        </p:nvGrpSpPr>
        <p:grpSpPr>
          <a:xfrm>
            <a:off x="4267080" y="2743200"/>
            <a:ext cx="4565520" cy="2718000"/>
            <a:chOff x="4267080" y="2743200"/>
            <a:chExt cx="4565520" cy="2718000"/>
          </a:xfrm>
        </p:grpSpPr>
        <p:sp>
          <p:nvSpPr>
            <p:cNvPr id="199" name=""/>
            <p:cNvSpPr/>
            <p:nvPr/>
          </p:nvSpPr>
          <p:spPr>
            <a:xfrm flipH="1">
              <a:off x="4267080" y="3733560"/>
              <a:ext cx="977760" cy="292320"/>
            </a:xfrm>
            <a:prstGeom prst="parallelogram">
              <a:avLst>
                <a:gd name="adj" fmla="val 83605"/>
              </a:avLst>
            </a:prstGeom>
            <a:solidFill>
              <a:srgbClr val="eaeaea"/>
            </a:solidFill>
            <a:ln w="12600">
              <a:solidFill>
                <a:srgbClr val="5e574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rot="5400000">
              <a:off x="3848040" y="3695760"/>
              <a:ext cx="2425680" cy="520560"/>
            </a:xfrm>
            <a:prstGeom prst="parallelogram">
              <a:avLst>
                <a:gd name="adj" fmla="val 76390"/>
              </a:avLst>
            </a:prstGeom>
            <a:solidFill>
              <a:srgbClr val="eaeae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333760" y="3124080"/>
              <a:ext cx="3035520" cy="2044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162560" y="3276360"/>
              <a:ext cx="1206720" cy="1396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162560" y="3504960"/>
              <a:ext cx="1206720" cy="1396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162560" y="3733560"/>
              <a:ext cx="1206720" cy="1396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162560" y="3962160"/>
              <a:ext cx="1206720" cy="1396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162560" y="4190760"/>
              <a:ext cx="1206720" cy="1396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162560" y="4419360"/>
              <a:ext cx="1206720" cy="1396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162560" y="4647960"/>
              <a:ext cx="1206720" cy="1396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162560" y="4876560"/>
              <a:ext cx="1206720" cy="1396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8359560" y="3195360"/>
              <a:ext cx="473040" cy="226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ahoma"/>
                </a:rPr>
                <a:t>6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ahoma"/>
                </a:rPr>
                <a:t>7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ahoma"/>
                </a:rPr>
                <a:t>8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 flipH="1">
              <a:off x="4799880" y="2743200"/>
              <a:ext cx="3568680" cy="368280"/>
            </a:xfrm>
            <a:prstGeom prst="parallelogram">
              <a:avLst>
                <a:gd name="adj" fmla="val 135617"/>
              </a:avLst>
            </a:prstGeom>
            <a:solidFill>
              <a:srgbClr val="eaeae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768960" y="1736640"/>
            <a:ext cx="30027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A 568A-Belegu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2514240" y="2895120"/>
            <a:ext cx="4648680" cy="686160"/>
            <a:chOff x="2514240" y="2895120"/>
            <a:chExt cx="4648680" cy="686160"/>
          </a:xfrm>
        </p:grpSpPr>
        <p:sp>
          <p:nvSpPr>
            <p:cNvPr id="214" name=""/>
            <p:cNvSpPr/>
            <p:nvPr/>
          </p:nvSpPr>
          <p:spPr>
            <a:xfrm flipH="1">
              <a:off x="5028840" y="3352680"/>
              <a:ext cx="213372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 flipH="1" flipV="1">
              <a:off x="4419360" y="2895480"/>
              <a:ext cx="609480" cy="45720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flipH="1">
              <a:off x="2514240" y="2895480"/>
              <a:ext cx="198108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 flipH="1">
              <a:off x="5028840" y="3352680"/>
              <a:ext cx="2133720" cy="0"/>
            </a:xfrm>
            <a:prstGeom prst="line">
              <a:avLst/>
            </a:prstGeom>
            <a:ln w="76320">
              <a:solidFill>
                <a:srgbClr val="33cc33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 flipH="1" flipV="1">
              <a:off x="4419360" y="2895120"/>
              <a:ext cx="533160" cy="381240"/>
            </a:xfrm>
            <a:prstGeom prst="line">
              <a:avLst/>
            </a:prstGeom>
            <a:ln w="76320">
              <a:solidFill>
                <a:srgbClr val="33cc33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flipH="1">
              <a:off x="2514240" y="2895480"/>
              <a:ext cx="1981080" cy="0"/>
            </a:xfrm>
            <a:prstGeom prst="line">
              <a:avLst/>
            </a:prstGeom>
            <a:ln w="76320">
              <a:solidFill>
                <a:srgbClr val="33cc33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H="1">
              <a:off x="4876920" y="3581280"/>
              <a:ext cx="2286000" cy="0"/>
            </a:xfrm>
            <a:prstGeom prst="line">
              <a:avLst/>
            </a:prstGeom>
            <a:ln w="7632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H="1" flipV="1">
              <a:off x="4495320" y="3200400"/>
              <a:ext cx="381240" cy="380880"/>
            </a:xfrm>
            <a:prstGeom prst="line">
              <a:avLst/>
            </a:prstGeom>
            <a:ln w="507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>
              <a:off x="2514240" y="3200400"/>
              <a:ext cx="1981080" cy="0"/>
            </a:xfrm>
            <a:prstGeom prst="line">
              <a:avLst/>
            </a:prstGeom>
            <a:ln w="7632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3" name=""/>
          <p:cNvSpPr/>
          <p:nvPr/>
        </p:nvSpPr>
        <p:spPr>
          <a:xfrm>
            <a:off x="462600" y="2590920"/>
            <a:ext cx="21175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weiß-grü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grü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weiß-or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la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iß-bla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iß-brau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au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2514240" y="3962520"/>
            <a:ext cx="4648320" cy="380880"/>
            <a:chOff x="2514240" y="3962520"/>
            <a:chExt cx="4648320" cy="380880"/>
          </a:xfrm>
        </p:grpSpPr>
        <p:sp>
          <p:nvSpPr>
            <p:cNvPr id="225" name=""/>
            <p:cNvSpPr/>
            <p:nvPr/>
          </p:nvSpPr>
          <p:spPr>
            <a:xfrm>
              <a:off x="2514600" y="3962520"/>
              <a:ext cx="1981080" cy="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 flipH="1">
              <a:off x="4647960" y="4038480"/>
              <a:ext cx="2514600" cy="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495680" y="3962520"/>
              <a:ext cx="152640" cy="7596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flipH="1">
              <a:off x="4647960" y="4267080"/>
              <a:ext cx="251460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 flipH="1">
              <a:off x="4495680" y="4267080"/>
              <a:ext cx="152640" cy="763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flipH="1">
              <a:off x="2514240" y="4343400"/>
              <a:ext cx="198108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 flipH="1">
              <a:off x="4647960" y="4267080"/>
              <a:ext cx="2514600" cy="0"/>
            </a:xfrm>
            <a:prstGeom prst="line">
              <a:avLst/>
            </a:prstGeom>
            <a:ln w="7632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flipH="1">
              <a:off x="4495680" y="4267080"/>
              <a:ext cx="152640" cy="76320"/>
            </a:xfrm>
            <a:prstGeom prst="line">
              <a:avLst/>
            </a:prstGeom>
            <a:ln w="5076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2514240" y="4343400"/>
              <a:ext cx="1981080" cy="0"/>
            </a:xfrm>
            <a:prstGeom prst="line">
              <a:avLst/>
            </a:prstGeom>
            <a:ln w="7632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"/>
          <p:cNvGrpSpPr/>
          <p:nvPr/>
        </p:nvGrpSpPr>
        <p:grpSpPr>
          <a:xfrm>
            <a:off x="2514240" y="3580920"/>
            <a:ext cx="4648680" cy="1143360"/>
            <a:chOff x="2514240" y="3580920"/>
            <a:chExt cx="4648680" cy="1143360"/>
          </a:xfrm>
        </p:grpSpPr>
        <p:sp>
          <p:nvSpPr>
            <p:cNvPr id="235" name=""/>
            <p:cNvSpPr/>
            <p:nvPr/>
          </p:nvSpPr>
          <p:spPr>
            <a:xfrm flipH="1">
              <a:off x="4647960" y="3809880"/>
              <a:ext cx="251460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 flipH="1" flipV="1">
              <a:off x="4495680" y="3580920"/>
              <a:ext cx="152640" cy="22860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flipH="1">
              <a:off x="2514240" y="3581280"/>
              <a:ext cx="198108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flipH="1">
              <a:off x="4647960" y="3809880"/>
              <a:ext cx="2514600" cy="0"/>
            </a:xfrm>
            <a:prstGeom prst="line">
              <a:avLst/>
            </a:prstGeom>
            <a:ln w="76320">
              <a:solidFill>
                <a:srgbClr val="ff6633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 flipH="1" flipV="1">
              <a:off x="4495680" y="3580920"/>
              <a:ext cx="152640" cy="228600"/>
            </a:xfrm>
            <a:prstGeom prst="line">
              <a:avLst/>
            </a:prstGeom>
            <a:ln w="50760">
              <a:solidFill>
                <a:srgbClr val="ff6633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flipH="1">
              <a:off x="2514240" y="3581280"/>
              <a:ext cx="1981080" cy="0"/>
            </a:xfrm>
            <a:prstGeom prst="line">
              <a:avLst/>
            </a:prstGeom>
            <a:ln w="76320">
              <a:solidFill>
                <a:srgbClr val="ff6633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 flipH="1">
              <a:off x="4724280" y="4495680"/>
              <a:ext cx="2438640" cy="0"/>
            </a:xfrm>
            <a:prstGeom prst="line">
              <a:avLst/>
            </a:prstGeom>
            <a:ln w="76320">
              <a:solidFill>
                <a:srgbClr val="ff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flipH="1">
              <a:off x="4495320" y="4495680"/>
              <a:ext cx="228600" cy="228600"/>
            </a:xfrm>
            <a:prstGeom prst="line">
              <a:avLst/>
            </a:prstGeom>
            <a:ln w="50760">
              <a:solidFill>
                <a:srgbClr val="ff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flipH="1">
              <a:off x="2514240" y="4724280"/>
              <a:ext cx="1981080" cy="0"/>
            </a:xfrm>
            <a:prstGeom prst="line">
              <a:avLst/>
            </a:prstGeom>
            <a:ln w="76320">
              <a:solidFill>
                <a:srgbClr val="ff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2514240" y="4724280"/>
            <a:ext cx="4648680" cy="762120"/>
            <a:chOff x="2514240" y="4724280"/>
            <a:chExt cx="4648680" cy="762120"/>
          </a:xfrm>
        </p:grpSpPr>
        <p:sp>
          <p:nvSpPr>
            <p:cNvPr id="245" name=""/>
            <p:cNvSpPr/>
            <p:nvPr/>
          </p:nvSpPr>
          <p:spPr>
            <a:xfrm flipH="1">
              <a:off x="4876920" y="4724280"/>
              <a:ext cx="228600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 flipH="1">
              <a:off x="4495320" y="4724280"/>
              <a:ext cx="381240" cy="38124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 flipH="1">
              <a:off x="2514240" y="5105520"/>
              <a:ext cx="198108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>
              <a:off x="4876920" y="4724280"/>
              <a:ext cx="2286000" cy="0"/>
            </a:xfrm>
            <a:prstGeom prst="line">
              <a:avLst/>
            </a:prstGeom>
            <a:ln w="76320">
              <a:solidFill>
                <a:srgbClr val="996633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>
              <a:off x="4495320" y="4724280"/>
              <a:ext cx="381240" cy="381240"/>
            </a:xfrm>
            <a:prstGeom prst="line">
              <a:avLst/>
            </a:prstGeom>
            <a:ln w="50760">
              <a:solidFill>
                <a:srgbClr val="996633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>
              <a:off x="2514240" y="5105520"/>
              <a:ext cx="1981080" cy="0"/>
            </a:xfrm>
            <a:prstGeom prst="line">
              <a:avLst/>
            </a:prstGeom>
            <a:ln w="76320">
              <a:solidFill>
                <a:srgbClr val="996633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H="1">
              <a:off x="4952520" y="4952880"/>
              <a:ext cx="2210040" cy="0"/>
            </a:xfrm>
            <a:prstGeom prst="line">
              <a:avLst/>
            </a:prstGeom>
            <a:ln w="7632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>
              <a:off x="4495680" y="4952880"/>
              <a:ext cx="457200" cy="53352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 flipH="1">
              <a:off x="2514240" y="5486400"/>
              <a:ext cx="1981080" cy="0"/>
            </a:xfrm>
            <a:prstGeom prst="line">
              <a:avLst/>
            </a:prstGeom>
            <a:ln w="7632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xkurs: RJ45-Stecke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5" name=""/>
          <p:cNvSpPr/>
          <p:nvPr/>
        </p:nvSpPr>
        <p:spPr>
          <a:xfrm>
            <a:off x="4800600" y="1295280"/>
            <a:ext cx="3962520" cy="1600200"/>
          </a:xfrm>
          <a:prstGeom prst="wedgeRoundRectCallout">
            <a:avLst>
              <a:gd name="adj1" fmla="val -53805"/>
              <a:gd name="adj2" fmla="val 109125"/>
              <a:gd name="adj3" fmla="val 16667"/>
            </a:avLst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J45-Stecke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ick auf die Kontakte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e Rastfeder zeigt nach unt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500282-0215-4513-96C4-B9FA484EC70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IP - Internet Protoco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ketvermittel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gesicher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erbindungsl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2 bit Adressen, meist als 1.2.3.4 (dezimal) geschrieb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5DD891-8DC3-49A6-8C29-95757035098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IP - Adresse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ine Adresse gehört jeweils zu einem Interface. D.h. ein Rechner mit mehreren Netzwerkkarten hat auch mehrere Adresse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nn Daten zu groß für den nächsten Hop, werden sie zerlegt (fragmentiert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hr Details spät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814639-36B9-41A2-9B83-0D98F46377E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3378600" y="5715000"/>
            <a:ext cx="456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0 Byte Header, plus Option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1" name=""/>
          <p:cNvGrpSpPr/>
          <p:nvPr/>
        </p:nvGrpSpPr>
        <p:grpSpPr>
          <a:xfrm>
            <a:off x="692280" y="2062080"/>
            <a:ext cx="7226280" cy="2966760"/>
            <a:chOff x="692280" y="2062080"/>
            <a:chExt cx="7226280" cy="2966760"/>
          </a:xfrm>
        </p:grpSpPr>
        <p:sp>
          <p:nvSpPr>
            <p:cNvPr id="262" name=""/>
            <p:cNvSpPr/>
            <p:nvPr/>
          </p:nvSpPr>
          <p:spPr>
            <a:xfrm>
              <a:off x="692280" y="2062080"/>
              <a:ext cx="825480" cy="53172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606680" y="2062080"/>
              <a:ext cx="825480" cy="53172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521080" y="2062080"/>
              <a:ext cx="1739880" cy="53172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349880" y="2062080"/>
              <a:ext cx="3568680" cy="53172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92280" y="2663640"/>
              <a:ext cx="3568680" cy="53172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349880" y="2663640"/>
              <a:ext cx="520560" cy="53172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92280" y="3269880"/>
              <a:ext cx="1739880" cy="5320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521080" y="3269880"/>
              <a:ext cx="1739880" cy="5320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349880" y="3269880"/>
              <a:ext cx="3568680" cy="5320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1" name=""/>
            <p:cNvGrpSpPr/>
            <p:nvPr/>
          </p:nvGrpSpPr>
          <p:grpSpPr>
            <a:xfrm>
              <a:off x="4959360" y="2644560"/>
              <a:ext cx="2959200" cy="550800"/>
              <a:chOff x="4959360" y="2644560"/>
              <a:chExt cx="2959200" cy="550800"/>
            </a:xfrm>
          </p:grpSpPr>
          <p:sp>
            <p:nvSpPr>
              <p:cNvPr id="272" name=""/>
              <p:cNvSpPr/>
              <p:nvPr/>
            </p:nvSpPr>
            <p:spPr>
              <a:xfrm>
                <a:off x="4959360" y="2663640"/>
                <a:ext cx="2959200" cy="53172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5241960" y="2644560"/>
                <a:ext cx="183960" cy="36360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4" name=""/>
            <p:cNvSpPr/>
            <p:nvPr/>
          </p:nvSpPr>
          <p:spPr>
            <a:xfrm>
              <a:off x="692280" y="4497120"/>
              <a:ext cx="7226280" cy="53172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92280" y="3887640"/>
              <a:ext cx="7226280" cy="53172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6" name=""/>
          <p:cNvGrpSpPr/>
          <p:nvPr/>
        </p:nvGrpSpPr>
        <p:grpSpPr>
          <a:xfrm>
            <a:off x="654840" y="2038320"/>
            <a:ext cx="895320" cy="544680"/>
            <a:chOff x="654840" y="2038320"/>
            <a:chExt cx="895320" cy="544680"/>
          </a:xfrm>
        </p:grpSpPr>
        <p:sp>
          <p:nvSpPr>
            <p:cNvPr id="277" name=""/>
            <p:cNvSpPr/>
            <p:nvPr/>
          </p:nvSpPr>
          <p:spPr>
            <a:xfrm>
              <a:off x="692280" y="2057400"/>
              <a:ext cx="825480" cy="52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4840" y="2038320"/>
              <a:ext cx="895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Vers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1499400" y="2038320"/>
            <a:ext cx="1014120" cy="528840"/>
            <a:chOff x="1499400" y="2038320"/>
            <a:chExt cx="1014120" cy="528840"/>
          </a:xfrm>
        </p:grpSpPr>
        <p:sp>
          <p:nvSpPr>
            <p:cNvPr id="280" name=""/>
            <p:cNvSpPr/>
            <p:nvPr/>
          </p:nvSpPr>
          <p:spPr>
            <a:xfrm>
              <a:off x="1606680" y="2057400"/>
              <a:ext cx="825480" cy="50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499400" y="2038320"/>
              <a:ext cx="10141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H.Le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2" name=""/>
          <p:cNvGrpSpPr/>
          <p:nvPr/>
        </p:nvGrpSpPr>
        <p:grpSpPr>
          <a:xfrm>
            <a:off x="2521080" y="2038320"/>
            <a:ext cx="1739880" cy="528840"/>
            <a:chOff x="2521080" y="2038320"/>
            <a:chExt cx="1739880" cy="528840"/>
          </a:xfrm>
        </p:grpSpPr>
        <p:sp>
          <p:nvSpPr>
            <p:cNvPr id="283" name=""/>
            <p:cNvSpPr/>
            <p:nvPr/>
          </p:nvSpPr>
          <p:spPr>
            <a:xfrm>
              <a:off x="2521080" y="2057400"/>
              <a:ext cx="1739880" cy="50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3067560" y="2038320"/>
              <a:ext cx="7596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TO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5" name=""/>
          <p:cNvGrpSpPr/>
          <p:nvPr/>
        </p:nvGrpSpPr>
        <p:grpSpPr>
          <a:xfrm>
            <a:off x="4349880" y="2038320"/>
            <a:ext cx="3686400" cy="544680"/>
            <a:chOff x="4349880" y="2038320"/>
            <a:chExt cx="3686400" cy="544680"/>
          </a:xfrm>
        </p:grpSpPr>
        <p:sp>
          <p:nvSpPr>
            <p:cNvPr id="286" name=""/>
            <p:cNvSpPr/>
            <p:nvPr/>
          </p:nvSpPr>
          <p:spPr>
            <a:xfrm>
              <a:off x="4349880" y="2057400"/>
              <a:ext cx="3568680" cy="52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711680" y="2038320"/>
              <a:ext cx="33246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Gesamtlänge (in byte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8" name=""/>
          <p:cNvGrpSpPr/>
          <p:nvPr/>
        </p:nvGrpSpPr>
        <p:grpSpPr>
          <a:xfrm>
            <a:off x="506880" y="2666880"/>
            <a:ext cx="3769920" cy="544320"/>
            <a:chOff x="506880" y="2666880"/>
            <a:chExt cx="3769920" cy="544320"/>
          </a:xfrm>
        </p:grpSpPr>
        <p:sp>
          <p:nvSpPr>
            <p:cNvPr id="289" name=""/>
            <p:cNvSpPr/>
            <p:nvPr/>
          </p:nvSpPr>
          <p:spPr>
            <a:xfrm>
              <a:off x="708120" y="2685960"/>
              <a:ext cx="3568680" cy="52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06880" y="2666880"/>
              <a:ext cx="35805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laufende Nr. des Pake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1" name=""/>
          <p:cNvGrpSpPr/>
          <p:nvPr/>
        </p:nvGrpSpPr>
        <p:grpSpPr>
          <a:xfrm>
            <a:off x="4215240" y="2647800"/>
            <a:ext cx="3695400" cy="544320"/>
            <a:chOff x="4215240" y="2647800"/>
            <a:chExt cx="3695400" cy="544320"/>
          </a:xfrm>
        </p:grpSpPr>
        <p:sp>
          <p:nvSpPr>
            <p:cNvPr id="292" name=""/>
            <p:cNvSpPr/>
            <p:nvPr/>
          </p:nvSpPr>
          <p:spPr>
            <a:xfrm>
              <a:off x="4341960" y="2666880"/>
              <a:ext cx="520560" cy="52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215240" y="2647800"/>
              <a:ext cx="8722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flag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4" name=""/>
            <p:cNvGrpSpPr/>
            <p:nvPr/>
          </p:nvGrpSpPr>
          <p:grpSpPr>
            <a:xfrm>
              <a:off x="4951440" y="2647800"/>
              <a:ext cx="2959200" cy="544320"/>
              <a:chOff x="4951440" y="2647800"/>
              <a:chExt cx="2959200" cy="544320"/>
            </a:xfrm>
          </p:grpSpPr>
          <p:sp>
            <p:nvSpPr>
              <p:cNvPr id="295" name=""/>
              <p:cNvSpPr/>
              <p:nvPr/>
            </p:nvSpPr>
            <p:spPr>
              <a:xfrm>
                <a:off x="4951440" y="2666880"/>
                <a:ext cx="2959200" cy="525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5149080" y="2647800"/>
                <a:ext cx="255780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Fragment-Offse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97" name=""/>
          <p:cNvGrpSpPr/>
          <p:nvPr/>
        </p:nvGrpSpPr>
        <p:grpSpPr>
          <a:xfrm>
            <a:off x="622800" y="3257640"/>
            <a:ext cx="1829520" cy="543960"/>
            <a:chOff x="622800" y="3257640"/>
            <a:chExt cx="1829520" cy="543960"/>
          </a:xfrm>
        </p:grpSpPr>
        <p:sp>
          <p:nvSpPr>
            <p:cNvPr id="298" name=""/>
            <p:cNvSpPr/>
            <p:nvPr/>
          </p:nvSpPr>
          <p:spPr>
            <a:xfrm>
              <a:off x="684360" y="3276360"/>
              <a:ext cx="1739880" cy="52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22800" y="3257640"/>
              <a:ext cx="18295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Time to liv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513160" y="3257640"/>
            <a:ext cx="1739880" cy="543960"/>
            <a:chOff x="2513160" y="3257640"/>
            <a:chExt cx="1739880" cy="543960"/>
          </a:xfrm>
        </p:grpSpPr>
        <p:sp>
          <p:nvSpPr>
            <p:cNvPr id="301" name=""/>
            <p:cNvSpPr/>
            <p:nvPr/>
          </p:nvSpPr>
          <p:spPr>
            <a:xfrm>
              <a:off x="2513160" y="3276360"/>
              <a:ext cx="1739880" cy="52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655000" y="3257640"/>
              <a:ext cx="1480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Protokol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4229640" y="3257640"/>
            <a:ext cx="3700800" cy="543960"/>
            <a:chOff x="4229640" y="3257640"/>
            <a:chExt cx="3700800" cy="543960"/>
          </a:xfrm>
        </p:grpSpPr>
        <p:sp>
          <p:nvSpPr>
            <p:cNvPr id="304" name=""/>
            <p:cNvSpPr/>
            <p:nvPr/>
          </p:nvSpPr>
          <p:spPr>
            <a:xfrm>
              <a:off x="4341960" y="3276360"/>
              <a:ext cx="3568680" cy="52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229640" y="3257640"/>
              <a:ext cx="37008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Prüfsumme ü. d. Head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6" name=""/>
          <p:cNvSpPr/>
          <p:nvPr/>
        </p:nvSpPr>
        <p:spPr>
          <a:xfrm>
            <a:off x="692280" y="3889440"/>
            <a:ext cx="7226280" cy="5223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ll-IP-Adresse (sourc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92280" y="4498920"/>
            <a:ext cx="7226280" cy="5223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el-IP-Adresse (destin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IP Paketaufbau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9" name=""/>
          <p:cNvSpPr/>
          <p:nvPr/>
        </p:nvSpPr>
        <p:spPr>
          <a:xfrm>
            <a:off x="380880" y="5334120"/>
            <a:ext cx="2590920" cy="1143000"/>
          </a:xfrm>
          <a:prstGeom prst="wedgeRoundRectCallout">
            <a:avLst>
              <a:gd name="adj1" fmla="val -19731"/>
              <a:gd name="adj2" fmla="val -315277"/>
              <a:gd name="adj3" fmla="val 16667"/>
            </a:avLst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sionsnum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 Protoko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124080" y="5334120"/>
            <a:ext cx="2590920" cy="1143000"/>
          </a:xfrm>
          <a:prstGeom prst="wedgeRoundRectCallout">
            <a:avLst>
              <a:gd name="adj1" fmla="val -87254"/>
              <a:gd name="adj2" fmla="val -310833"/>
              <a:gd name="adj3" fmla="val 16667"/>
            </a:avLst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änge des Heade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by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867280" y="5334120"/>
            <a:ext cx="2819520" cy="1066680"/>
          </a:xfrm>
          <a:prstGeom prst="wedgeRoundRectCallout">
            <a:avLst>
              <a:gd name="adj1" fmla="val -144314"/>
              <a:gd name="adj2" fmla="val -325000"/>
              <a:gd name="adj3" fmla="val 16667"/>
            </a:avLst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C318DD-1952-4EAC-BDC1-D42C1DCC4F6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ICMP: 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Internet Control Message Protocol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ür Status- und Fehlermeldung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st unreachable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twork unreachable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ING nutzt ICMP echo request/rep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il von IP (network layer), nutzt aber IP-Pakete zur Datenübertragu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289857-AA5F-4B7A-A0A7-F24AC7FDAB0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RP: 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ddress Resolution Protoco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Zur Zustellung von IP-Paketen im LAN wird die physische (z.B. Ethernet-) Adresse benötigt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thernet-Adressen (48 bit) sind weltweit eindeutig in der Hardware “eingebrannt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gische IP-Adressen (32 bit) sind vom Netzverwalter festgeleg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P erlaubt Umsetzung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9A798B-2603-4CDD-8AAD-FF20779083B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692280" y="1758960"/>
            <a:ext cx="901440" cy="4483080"/>
          </a:xfrm>
          <a:prstGeom prst="rect">
            <a:avLst/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778880" y="1758960"/>
            <a:ext cx="901440" cy="448308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55120" y="1736640"/>
            <a:ext cx="1199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7733880" y="1736640"/>
            <a:ext cx="10141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mp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0" name=""/>
          <p:cNvGrpSpPr/>
          <p:nvPr/>
        </p:nvGrpSpPr>
        <p:grpSpPr>
          <a:xfrm>
            <a:off x="1905120" y="2041560"/>
            <a:ext cx="5486400" cy="824040"/>
            <a:chOff x="1905120" y="2041560"/>
            <a:chExt cx="5486400" cy="824040"/>
          </a:xfrm>
        </p:grpSpPr>
        <p:sp>
          <p:nvSpPr>
            <p:cNvPr id="321" name=""/>
            <p:cNvSpPr/>
            <p:nvPr/>
          </p:nvSpPr>
          <p:spPr>
            <a:xfrm>
              <a:off x="1905120" y="2438280"/>
              <a:ext cx="5486400" cy="0"/>
            </a:xfrm>
            <a:prstGeom prst="line">
              <a:avLst/>
            </a:prstGeom>
            <a:ln w="50760">
              <a:solidFill>
                <a:srgbClr val="ff66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949040" y="2041560"/>
              <a:ext cx="49460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ARP-Request (broadcast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“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Wer hat hier IP-Adresse 1.2.3.4?”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3" name=""/>
          <p:cNvGrpSpPr/>
          <p:nvPr/>
        </p:nvGrpSpPr>
        <p:grpSpPr>
          <a:xfrm>
            <a:off x="1750680" y="3641760"/>
            <a:ext cx="5868000" cy="1189800"/>
            <a:chOff x="1750680" y="3641760"/>
            <a:chExt cx="5868000" cy="1189800"/>
          </a:xfrm>
        </p:grpSpPr>
        <p:sp>
          <p:nvSpPr>
            <p:cNvPr id="324" name=""/>
            <p:cNvSpPr/>
            <p:nvPr/>
          </p:nvSpPr>
          <p:spPr>
            <a:xfrm>
              <a:off x="1905120" y="4038480"/>
              <a:ext cx="5333760" cy="0"/>
            </a:xfrm>
            <a:prstGeom prst="line">
              <a:avLst/>
            </a:prstGeom>
            <a:ln w="50760">
              <a:solidFill>
                <a:srgbClr val="ffcc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750680" y="3641760"/>
              <a:ext cx="5868000" cy="11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ARP-Reply (unicast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“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Ich habe IP-Adresse 1.2.3.4, und mein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Ethernet-Adresse ist a.b.c.d.e.f”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6" name=""/>
          <p:cNvGrpSpPr/>
          <p:nvPr/>
        </p:nvGrpSpPr>
        <p:grpSpPr>
          <a:xfrm>
            <a:off x="533880" y="4268880"/>
            <a:ext cx="3041280" cy="1973160"/>
            <a:chOff x="533880" y="4268880"/>
            <a:chExt cx="3041280" cy="1973160"/>
          </a:xfrm>
        </p:grpSpPr>
        <p:sp>
          <p:nvSpPr>
            <p:cNvPr id="327" name=""/>
            <p:cNvSpPr/>
            <p:nvPr/>
          </p:nvSpPr>
          <p:spPr>
            <a:xfrm>
              <a:off x="1073160" y="5264280"/>
              <a:ext cx="2502000" cy="977760"/>
            </a:xfrm>
            <a:prstGeom prst="ellipse">
              <a:avLst/>
            </a:prstGeom>
            <a:solidFill>
              <a:srgbClr val="9966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472400" y="5546880"/>
              <a:ext cx="17211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ARP-Cach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33880" y="4268880"/>
              <a:ext cx="1370880" cy="1828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2556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0" name=""/>
          <p:cNvGrpSpPr/>
          <p:nvPr/>
        </p:nvGrpSpPr>
        <p:grpSpPr>
          <a:xfrm>
            <a:off x="5797440" y="2440080"/>
            <a:ext cx="3043080" cy="5486040"/>
            <a:chOff x="5797440" y="2440080"/>
            <a:chExt cx="3043080" cy="5486040"/>
          </a:xfrm>
        </p:grpSpPr>
        <p:sp>
          <p:nvSpPr>
            <p:cNvPr id="331" name=""/>
            <p:cNvSpPr/>
            <p:nvPr/>
          </p:nvSpPr>
          <p:spPr>
            <a:xfrm>
              <a:off x="5797440" y="5264280"/>
              <a:ext cx="2502000" cy="977760"/>
            </a:xfrm>
            <a:prstGeom prst="ellipse">
              <a:avLst/>
            </a:prstGeom>
            <a:solidFill>
              <a:srgbClr val="9966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196680" y="5546880"/>
              <a:ext cx="17211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ARP-Cach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7469280" y="2440080"/>
              <a:ext cx="1371240" cy="5486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92042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92042"/>
                </a:path>
              </a:pathLst>
            </a:custGeom>
            <a:noFill/>
            <a:ln cap="rnd" w="25560">
              <a:solidFill>
                <a:srgbClr val="ff66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RP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ABBFF0-036F-4BDF-8A2D-933AEFB772F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Übersich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Tahoma"/>
              </a:rPr>
              <a:t>TCP/IP und das Intern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tokol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hichtenmod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, UDP, TCP, AR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outing und Congest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wendung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griffspunk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53DF19-255B-434C-A287-99BC40DD1E2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UDP - 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User Datagram Protoco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mpelstes Internet-Protokoll auf Transportebene (Ebene 3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erbindungsl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gesichert - “fire and forget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wendungen: z.B. DNS, NF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Zusätzlich zum 20 Byte IP-Header noch zwei 16 bit Portnummern, 16 bit Länge und eine 16 bit Prüfsum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A0D0BF-D983-4114-A8DF-7E00310C80D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7" name=""/>
          <p:cNvGrpSpPr/>
          <p:nvPr/>
        </p:nvGrpSpPr>
        <p:grpSpPr>
          <a:xfrm>
            <a:off x="692280" y="1758960"/>
            <a:ext cx="7226280" cy="596880"/>
            <a:chOff x="692280" y="1758960"/>
            <a:chExt cx="7226280" cy="596880"/>
          </a:xfrm>
        </p:grpSpPr>
        <p:sp>
          <p:nvSpPr>
            <p:cNvPr id="338" name=""/>
            <p:cNvSpPr/>
            <p:nvPr/>
          </p:nvSpPr>
          <p:spPr>
            <a:xfrm>
              <a:off x="692280" y="1758960"/>
              <a:ext cx="7226280" cy="59688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12800" y="1828800"/>
              <a:ext cx="4612320" cy="4582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IP Header (20 Byte + Optionen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0" name=""/>
          <p:cNvGrpSpPr/>
          <p:nvPr/>
        </p:nvGrpSpPr>
        <p:grpSpPr>
          <a:xfrm>
            <a:off x="692280" y="2444760"/>
            <a:ext cx="7226280" cy="2425680"/>
            <a:chOff x="692280" y="2444760"/>
            <a:chExt cx="7226280" cy="2425680"/>
          </a:xfrm>
        </p:grpSpPr>
        <p:sp>
          <p:nvSpPr>
            <p:cNvPr id="341" name=""/>
            <p:cNvSpPr/>
            <p:nvPr/>
          </p:nvSpPr>
          <p:spPr>
            <a:xfrm>
              <a:off x="692280" y="2444760"/>
              <a:ext cx="3568680" cy="6732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349880" y="2444760"/>
              <a:ext cx="3568680" cy="6732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92280" y="3206880"/>
              <a:ext cx="3568680" cy="6728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4349880" y="3206880"/>
              <a:ext cx="3568680" cy="6728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692280" y="3968640"/>
              <a:ext cx="7226280" cy="901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6" name=""/>
          <p:cNvGrpSpPr/>
          <p:nvPr/>
        </p:nvGrpSpPr>
        <p:grpSpPr>
          <a:xfrm>
            <a:off x="681120" y="2422440"/>
            <a:ext cx="3571920" cy="695520"/>
            <a:chOff x="681120" y="2422440"/>
            <a:chExt cx="3571920" cy="695520"/>
          </a:xfrm>
        </p:grpSpPr>
        <p:sp>
          <p:nvSpPr>
            <p:cNvPr id="347" name=""/>
            <p:cNvSpPr/>
            <p:nvPr/>
          </p:nvSpPr>
          <p:spPr>
            <a:xfrm>
              <a:off x="681120" y="2444760"/>
              <a:ext cx="3571920" cy="67320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878400" y="2422440"/>
              <a:ext cx="30866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Source port numb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9" name=""/>
          <p:cNvGrpSpPr/>
          <p:nvPr/>
        </p:nvGrpSpPr>
        <p:grpSpPr>
          <a:xfrm>
            <a:off x="4208400" y="2438280"/>
            <a:ext cx="3752640" cy="695520"/>
            <a:chOff x="4208400" y="2438280"/>
            <a:chExt cx="3752640" cy="695520"/>
          </a:xfrm>
        </p:grpSpPr>
        <p:sp>
          <p:nvSpPr>
            <p:cNvPr id="350" name=""/>
            <p:cNvSpPr/>
            <p:nvPr/>
          </p:nvSpPr>
          <p:spPr>
            <a:xfrm>
              <a:off x="4343400" y="2460600"/>
              <a:ext cx="3571920" cy="67320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4208400" y="2438280"/>
              <a:ext cx="37526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Destination port numb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2" name=""/>
          <p:cNvGrpSpPr/>
          <p:nvPr/>
        </p:nvGrpSpPr>
        <p:grpSpPr>
          <a:xfrm>
            <a:off x="692280" y="3184560"/>
            <a:ext cx="3571920" cy="695160"/>
            <a:chOff x="692280" y="3184560"/>
            <a:chExt cx="3571920" cy="695160"/>
          </a:xfrm>
        </p:grpSpPr>
        <p:sp>
          <p:nvSpPr>
            <p:cNvPr id="353" name=""/>
            <p:cNvSpPr/>
            <p:nvPr/>
          </p:nvSpPr>
          <p:spPr>
            <a:xfrm>
              <a:off x="692280" y="3206880"/>
              <a:ext cx="3571920" cy="67284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546560" y="3184560"/>
              <a:ext cx="17730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UDP Läng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5" name=""/>
          <p:cNvGrpSpPr/>
          <p:nvPr/>
        </p:nvGrpSpPr>
        <p:grpSpPr>
          <a:xfrm>
            <a:off x="4338720" y="3184560"/>
            <a:ext cx="3571920" cy="695160"/>
            <a:chOff x="4338720" y="3184560"/>
            <a:chExt cx="3571920" cy="695160"/>
          </a:xfrm>
        </p:grpSpPr>
        <p:sp>
          <p:nvSpPr>
            <p:cNvPr id="356" name=""/>
            <p:cNvSpPr/>
            <p:nvPr/>
          </p:nvSpPr>
          <p:spPr>
            <a:xfrm>
              <a:off x="4338720" y="3206880"/>
              <a:ext cx="3571920" cy="67284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4796280" y="3184560"/>
              <a:ext cx="25761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UDP Prüfsum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8" name=""/>
          <p:cNvGrpSpPr/>
          <p:nvPr/>
        </p:nvGrpSpPr>
        <p:grpSpPr>
          <a:xfrm>
            <a:off x="681120" y="3946680"/>
            <a:ext cx="7237440" cy="923760"/>
            <a:chOff x="681120" y="3946680"/>
            <a:chExt cx="7237440" cy="923760"/>
          </a:xfrm>
        </p:grpSpPr>
        <p:sp>
          <p:nvSpPr>
            <p:cNvPr id="359" name=""/>
            <p:cNvSpPr/>
            <p:nvPr/>
          </p:nvSpPr>
          <p:spPr>
            <a:xfrm>
              <a:off x="681120" y="3973680"/>
              <a:ext cx="7237440" cy="89676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363840" y="3946680"/>
              <a:ext cx="16876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Nutzdate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UDP Paketaufbau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85800" y="1752480"/>
            <a:ext cx="7226280" cy="596880"/>
            <a:chOff x="685800" y="1752480"/>
            <a:chExt cx="7226280" cy="596880"/>
          </a:xfrm>
        </p:grpSpPr>
        <p:sp>
          <p:nvSpPr>
            <p:cNvPr id="363" name=""/>
            <p:cNvSpPr/>
            <p:nvPr/>
          </p:nvSpPr>
          <p:spPr>
            <a:xfrm>
              <a:off x="685800" y="1752480"/>
              <a:ext cx="7226280" cy="59688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6320" y="1822320"/>
              <a:ext cx="4612320" cy="45828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IP Header (20 Byte + Optionen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A1B969-DA4A-4B2F-93F2-12DE0E442D2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ort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DP und TCP verwenden “Ports” als Erweiterung der IP-Adress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ine Datenübertragung ist durch 4 Adressen gekennzeichnet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ll-Adresse, Quell-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el-Adresse, Ziel-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rts beschreiben einen Prozess auf einem Rechner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BA03D4-7F05-4D59-B9FB-1A4B254D347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CP: 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mission Control Protoco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erbindungsorientiert (wie Telefon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esicherte Verbindung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es kommt an, in der richtigen Reihenfolge, und nicht doppel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e meisten Internet-Anwendungen verwenden TC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itaus komplexer als UD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ent-Server Modell übli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ersucht, Netzüberlast zu vermeid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8FF4E3-90D9-4687-9418-26FCB4D8B3C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692280" y="1758960"/>
            <a:ext cx="7226280" cy="444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0" name=""/>
          <p:cNvGrpSpPr/>
          <p:nvPr/>
        </p:nvGrpSpPr>
        <p:grpSpPr>
          <a:xfrm>
            <a:off x="692280" y="2292480"/>
            <a:ext cx="7226280" cy="3797280"/>
            <a:chOff x="692280" y="2292480"/>
            <a:chExt cx="7226280" cy="3797280"/>
          </a:xfrm>
        </p:grpSpPr>
        <p:sp>
          <p:nvSpPr>
            <p:cNvPr id="371" name=""/>
            <p:cNvSpPr/>
            <p:nvPr/>
          </p:nvSpPr>
          <p:spPr>
            <a:xfrm>
              <a:off x="692280" y="2292480"/>
              <a:ext cx="3568680" cy="44424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349880" y="2292480"/>
              <a:ext cx="3568680" cy="44424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692280" y="2825640"/>
              <a:ext cx="7226280" cy="4446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92280" y="3359160"/>
              <a:ext cx="7226280" cy="4446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4349880" y="3892680"/>
              <a:ext cx="3568680" cy="44424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2280" y="3892680"/>
              <a:ext cx="3568680" cy="44424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2280" y="4425840"/>
              <a:ext cx="3568680" cy="4446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349880" y="4425840"/>
              <a:ext cx="3568680" cy="4446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2280" y="4959360"/>
              <a:ext cx="7226280" cy="4446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92280" y="5492880"/>
              <a:ext cx="7226280" cy="5968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692280" y="2270160"/>
            <a:ext cx="7270560" cy="466560"/>
            <a:chOff x="692280" y="2270160"/>
            <a:chExt cx="7270560" cy="466560"/>
          </a:xfrm>
        </p:grpSpPr>
        <p:grpSp>
          <p:nvGrpSpPr>
            <p:cNvPr id="382" name=""/>
            <p:cNvGrpSpPr/>
            <p:nvPr/>
          </p:nvGrpSpPr>
          <p:grpSpPr>
            <a:xfrm>
              <a:off x="692280" y="2270160"/>
              <a:ext cx="3571920" cy="466560"/>
              <a:chOff x="692280" y="2270160"/>
              <a:chExt cx="3571920" cy="466560"/>
            </a:xfrm>
          </p:grpSpPr>
          <p:sp>
            <p:nvSpPr>
              <p:cNvPr id="383" name=""/>
              <p:cNvSpPr/>
              <p:nvPr/>
            </p:nvSpPr>
            <p:spPr>
              <a:xfrm>
                <a:off x="692280" y="2287440"/>
                <a:ext cx="3571920" cy="44928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889560" y="2270160"/>
                <a:ext cx="30866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Source port numbe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5" name=""/>
            <p:cNvGrpSpPr/>
            <p:nvPr/>
          </p:nvGrpSpPr>
          <p:grpSpPr>
            <a:xfrm>
              <a:off x="4210200" y="2270160"/>
              <a:ext cx="3752640" cy="466560"/>
              <a:chOff x="4210200" y="2270160"/>
              <a:chExt cx="3752640" cy="466560"/>
            </a:xfrm>
          </p:grpSpPr>
          <p:sp>
            <p:nvSpPr>
              <p:cNvPr id="386" name=""/>
              <p:cNvSpPr/>
              <p:nvPr/>
            </p:nvSpPr>
            <p:spPr>
              <a:xfrm>
                <a:off x="4344840" y="2287440"/>
                <a:ext cx="3571920" cy="44928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4210200" y="2270160"/>
                <a:ext cx="37526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Destination port numbe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88" name=""/>
          <p:cNvGrpSpPr/>
          <p:nvPr/>
        </p:nvGrpSpPr>
        <p:grpSpPr>
          <a:xfrm>
            <a:off x="692280" y="2803680"/>
            <a:ext cx="7226280" cy="466560"/>
            <a:chOff x="692280" y="2803680"/>
            <a:chExt cx="7226280" cy="466560"/>
          </a:xfrm>
        </p:grpSpPr>
        <p:sp>
          <p:nvSpPr>
            <p:cNvPr id="389" name=""/>
            <p:cNvSpPr/>
            <p:nvPr/>
          </p:nvSpPr>
          <p:spPr>
            <a:xfrm>
              <a:off x="692280" y="2820960"/>
              <a:ext cx="7226280" cy="44928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808720" y="2803680"/>
              <a:ext cx="28094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Sequence numb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1" name=""/>
          <p:cNvGrpSpPr/>
          <p:nvPr/>
        </p:nvGrpSpPr>
        <p:grpSpPr>
          <a:xfrm>
            <a:off x="692280" y="3336840"/>
            <a:ext cx="7226280" cy="466920"/>
            <a:chOff x="692280" y="3336840"/>
            <a:chExt cx="7226280" cy="466920"/>
          </a:xfrm>
        </p:grpSpPr>
        <p:sp>
          <p:nvSpPr>
            <p:cNvPr id="392" name=""/>
            <p:cNvSpPr/>
            <p:nvPr/>
          </p:nvSpPr>
          <p:spPr>
            <a:xfrm>
              <a:off x="692280" y="3354480"/>
              <a:ext cx="7226280" cy="44928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2174040" y="3336840"/>
              <a:ext cx="40849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Acknowledgement numb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4" name=""/>
          <p:cNvGrpSpPr/>
          <p:nvPr/>
        </p:nvGrpSpPr>
        <p:grpSpPr>
          <a:xfrm>
            <a:off x="551880" y="3870360"/>
            <a:ext cx="1014120" cy="466560"/>
            <a:chOff x="551880" y="3870360"/>
            <a:chExt cx="1014120" cy="466560"/>
          </a:xfrm>
        </p:grpSpPr>
        <p:sp>
          <p:nvSpPr>
            <p:cNvPr id="395" name=""/>
            <p:cNvSpPr/>
            <p:nvPr/>
          </p:nvSpPr>
          <p:spPr>
            <a:xfrm>
              <a:off x="692280" y="3887640"/>
              <a:ext cx="749160" cy="44928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551880" y="3870360"/>
              <a:ext cx="10141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H.Le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7" name=""/>
          <p:cNvGrpSpPr/>
          <p:nvPr/>
        </p:nvGrpSpPr>
        <p:grpSpPr>
          <a:xfrm>
            <a:off x="1319400" y="3870360"/>
            <a:ext cx="1506240" cy="466560"/>
            <a:chOff x="1319400" y="3870360"/>
            <a:chExt cx="1506240" cy="466560"/>
          </a:xfrm>
        </p:grpSpPr>
        <p:sp>
          <p:nvSpPr>
            <p:cNvPr id="398" name=""/>
            <p:cNvSpPr/>
            <p:nvPr/>
          </p:nvSpPr>
          <p:spPr>
            <a:xfrm>
              <a:off x="1509840" y="3887640"/>
              <a:ext cx="1150920" cy="44928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319400" y="3870360"/>
              <a:ext cx="15062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Reserv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0" name=""/>
          <p:cNvGrpSpPr/>
          <p:nvPr/>
        </p:nvGrpSpPr>
        <p:grpSpPr>
          <a:xfrm>
            <a:off x="2727360" y="3870360"/>
            <a:ext cx="1539720" cy="466560"/>
            <a:chOff x="2727360" y="3870360"/>
            <a:chExt cx="1539720" cy="466560"/>
          </a:xfrm>
        </p:grpSpPr>
        <p:grpSp>
          <p:nvGrpSpPr>
            <p:cNvPr id="401" name=""/>
            <p:cNvGrpSpPr/>
            <p:nvPr/>
          </p:nvGrpSpPr>
          <p:grpSpPr>
            <a:xfrm>
              <a:off x="2728800" y="3870360"/>
              <a:ext cx="1532160" cy="466560"/>
              <a:chOff x="2728800" y="3870360"/>
              <a:chExt cx="1532160" cy="466560"/>
            </a:xfrm>
          </p:grpSpPr>
          <p:sp>
            <p:nvSpPr>
              <p:cNvPr id="402" name=""/>
              <p:cNvSpPr/>
              <p:nvPr/>
            </p:nvSpPr>
            <p:spPr>
              <a:xfrm>
                <a:off x="2728800" y="3887640"/>
                <a:ext cx="1532160" cy="44928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3351240" y="3870360"/>
                <a:ext cx="24444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4" name=""/>
            <p:cNvSpPr/>
            <p:nvPr/>
          </p:nvSpPr>
          <p:spPr>
            <a:xfrm>
              <a:off x="2727360" y="3870360"/>
              <a:ext cx="15397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Flag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5" name=""/>
          <p:cNvGrpSpPr/>
          <p:nvPr/>
        </p:nvGrpSpPr>
        <p:grpSpPr>
          <a:xfrm>
            <a:off x="4349880" y="3870360"/>
            <a:ext cx="3568680" cy="466560"/>
            <a:chOff x="4349880" y="3870360"/>
            <a:chExt cx="3568680" cy="466560"/>
          </a:xfrm>
        </p:grpSpPr>
        <p:sp>
          <p:nvSpPr>
            <p:cNvPr id="406" name=""/>
            <p:cNvSpPr/>
            <p:nvPr/>
          </p:nvSpPr>
          <p:spPr>
            <a:xfrm>
              <a:off x="4349880" y="3887640"/>
              <a:ext cx="3568680" cy="44928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127120" y="3870360"/>
              <a:ext cx="19238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window siz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8" name=""/>
          <p:cNvGrpSpPr/>
          <p:nvPr/>
        </p:nvGrpSpPr>
        <p:grpSpPr>
          <a:xfrm>
            <a:off x="692280" y="4403880"/>
            <a:ext cx="3568680" cy="466560"/>
            <a:chOff x="692280" y="4403880"/>
            <a:chExt cx="3568680" cy="466560"/>
          </a:xfrm>
        </p:grpSpPr>
        <p:sp>
          <p:nvSpPr>
            <p:cNvPr id="409" name=""/>
            <p:cNvSpPr/>
            <p:nvPr/>
          </p:nvSpPr>
          <p:spPr>
            <a:xfrm>
              <a:off x="692280" y="4421160"/>
              <a:ext cx="3568680" cy="44928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309320" y="4403880"/>
              <a:ext cx="22471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TCP checksu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1" name=""/>
          <p:cNvGrpSpPr/>
          <p:nvPr/>
        </p:nvGrpSpPr>
        <p:grpSpPr>
          <a:xfrm>
            <a:off x="4349880" y="4403880"/>
            <a:ext cx="3568680" cy="466560"/>
            <a:chOff x="4349880" y="4403880"/>
            <a:chExt cx="3568680" cy="466560"/>
          </a:xfrm>
        </p:grpSpPr>
        <p:sp>
          <p:nvSpPr>
            <p:cNvPr id="412" name=""/>
            <p:cNvSpPr/>
            <p:nvPr/>
          </p:nvSpPr>
          <p:spPr>
            <a:xfrm>
              <a:off x="4349880" y="4421160"/>
              <a:ext cx="3568680" cy="44928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4945680" y="4403880"/>
              <a:ext cx="22867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urgent point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692280" y="4937040"/>
            <a:ext cx="7226280" cy="466920"/>
            <a:chOff x="692280" y="4937040"/>
            <a:chExt cx="7226280" cy="466920"/>
          </a:xfrm>
        </p:grpSpPr>
        <p:sp>
          <p:nvSpPr>
            <p:cNvPr id="415" name=""/>
            <p:cNvSpPr/>
            <p:nvPr/>
          </p:nvSpPr>
          <p:spPr>
            <a:xfrm>
              <a:off x="692280" y="4954680"/>
              <a:ext cx="7226280" cy="44928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2034360" y="4937040"/>
              <a:ext cx="43624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Optionen (sofern vorhanden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7" name=""/>
          <p:cNvGrpSpPr/>
          <p:nvPr/>
        </p:nvGrpSpPr>
        <p:grpSpPr>
          <a:xfrm>
            <a:off x="692280" y="5470560"/>
            <a:ext cx="7226280" cy="619200"/>
            <a:chOff x="692280" y="5470560"/>
            <a:chExt cx="7226280" cy="619200"/>
          </a:xfrm>
        </p:grpSpPr>
        <p:sp>
          <p:nvSpPr>
            <p:cNvPr id="418" name=""/>
            <p:cNvSpPr/>
            <p:nvPr/>
          </p:nvSpPr>
          <p:spPr>
            <a:xfrm>
              <a:off x="692280" y="5491080"/>
              <a:ext cx="7226280" cy="59868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959120" y="5470560"/>
              <a:ext cx="45162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Nutzdaten (sofern vorhanden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CP Paketaufbau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85800" y="1676520"/>
            <a:ext cx="7226280" cy="824040"/>
            <a:chOff x="685800" y="1676520"/>
            <a:chExt cx="7226280" cy="824040"/>
          </a:xfrm>
        </p:grpSpPr>
        <p:sp>
          <p:nvSpPr>
            <p:cNvPr id="422" name=""/>
            <p:cNvSpPr/>
            <p:nvPr/>
          </p:nvSpPr>
          <p:spPr>
            <a:xfrm>
              <a:off x="685800" y="1676520"/>
              <a:ext cx="7226280" cy="5270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838080" y="1676520"/>
              <a:ext cx="4513320" cy="8240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IP Header (20 Byte + Optionen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E8AA07-3ACB-4359-A7F1-0C029F26DAC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CP - 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quence / Ack number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quence number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mer des ersten Bytes in diesem Segment (Flags zählen m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knowledgement number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e Sequence number, die als nächste erwartet wi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09281B-D930-47BD-A9C4-C112431D343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CP - Flag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G - urgent pointer ist gülti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K - acknowledgement number ist gülti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SH - Empfänger soll sofort verarbeiten (push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ST - Reset der Verbindu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N - Verbindungsaufba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N - Verbindungsabba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6BB672-B905-46B5-BDD6-6D01C56A1F12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CP - Window siz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indow siz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 Empfänger bestimmt, wieviel Daten er noch aufnehmen will (z.B. Puffergröß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nn der Empfänger (wieder) mehr Daten verarbeiten kann, sendet er ein “Window updat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i Window size 0 kann nichts mehr gesendet werden, bis der Empfänger sein Window wieder öffnet (window updat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512A91-AB94-47D8-ACDA-E9C0BA3A4651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/>
          <p:nvPr/>
        </p:nvSpPr>
        <p:spPr>
          <a:xfrm>
            <a:off x="692280" y="1758960"/>
            <a:ext cx="901440" cy="4483080"/>
          </a:xfrm>
          <a:prstGeom prst="rect">
            <a:avLst/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7778880" y="1758960"/>
            <a:ext cx="901440" cy="448308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59440" y="1736640"/>
            <a:ext cx="1006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7727040" y="1736640"/>
            <a:ext cx="1105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4" name=""/>
          <p:cNvGrpSpPr/>
          <p:nvPr/>
        </p:nvGrpSpPr>
        <p:grpSpPr>
          <a:xfrm>
            <a:off x="1981080" y="2193840"/>
            <a:ext cx="5486400" cy="824040"/>
            <a:chOff x="1981080" y="2193840"/>
            <a:chExt cx="5486400" cy="824040"/>
          </a:xfrm>
        </p:grpSpPr>
        <p:sp>
          <p:nvSpPr>
            <p:cNvPr id="435" name=""/>
            <p:cNvSpPr/>
            <p:nvPr/>
          </p:nvSpPr>
          <p:spPr>
            <a:xfrm>
              <a:off x="1981080" y="2590920"/>
              <a:ext cx="5486400" cy="0"/>
            </a:xfrm>
            <a:prstGeom prst="line">
              <a:avLst/>
            </a:prstGeom>
            <a:ln w="50760">
              <a:solidFill>
                <a:srgbClr val="ff66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2094120" y="2193840"/>
              <a:ext cx="48182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SY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“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meine initial sequence no. ist...”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1981080" y="3413160"/>
            <a:ext cx="5472720" cy="824040"/>
            <a:chOff x="1981080" y="3413160"/>
            <a:chExt cx="5472720" cy="824040"/>
          </a:xfrm>
        </p:grpSpPr>
        <p:sp>
          <p:nvSpPr>
            <p:cNvPr id="438" name=""/>
            <p:cNvSpPr/>
            <p:nvPr/>
          </p:nvSpPr>
          <p:spPr>
            <a:xfrm>
              <a:off x="1981080" y="3809880"/>
              <a:ext cx="5334120" cy="0"/>
            </a:xfrm>
            <a:prstGeom prst="line">
              <a:avLst/>
            </a:prstGeom>
            <a:ln w="50760">
              <a:solidFill>
                <a:srgbClr val="ffcc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056680" y="3413160"/>
              <a:ext cx="53971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SYN + AC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“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OK. Meine initial sequence no. ist...”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0" name=""/>
          <p:cNvGrpSpPr/>
          <p:nvPr/>
        </p:nvGrpSpPr>
        <p:grpSpPr>
          <a:xfrm>
            <a:off x="1981080" y="4632480"/>
            <a:ext cx="5486400" cy="824040"/>
            <a:chOff x="1981080" y="4632480"/>
            <a:chExt cx="5486400" cy="824040"/>
          </a:xfrm>
        </p:grpSpPr>
        <p:sp>
          <p:nvSpPr>
            <p:cNvPr id="441" name=""/>
            <p:cNvSpPr/>
            <p:nvPr/>
          </p:nvSpPr>
          <p:spPr>
            <a:xfrm>
              <a:off x="1981080" y="5029200"/>
              <a:ext cx="5486400" cy="0"/>
            </a:xfrm>
            <a:prstGeom prst="line">
              <a:avLst/>
            </a:prstGeom>
            <a:ln w="50760">
              <a:solidFill>
                <a:srgbClr val="ff66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4079520" y="4632480"/>
              <a:ext cx="8312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AC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“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OK”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CP - Verbindungsaufbau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0C3707-D950-4586-8F19-06D83076DD67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"/>
          <p:cNvSpPr/>
          <p:nvPr/>
        </p:nvSpPr>
        <p:spPr>
          <a:xfrm>
            <a:off x="692280" y="1758960"/>
            <a:ext cx="901440" cy="4483080"/>
          </a:xfrm>
          <a:prstGeom prst="rect">
            <a:avLst/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7778880" y="1758960"/>
            <a:ext cx="901440" cy="448308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59440" y="1736640"/>
            <a:ext cx="1006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7727040" y="1736640"/>
            <a:ext cx="1105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8" name=""/>
          <p:cNvGrpSpPr/>
          <p:nvPr/>
        </p:nvGrpSpPr>
        <p:grpSpPr>
          <a:xfrm>
            <a:off x="1981080" y="1812960"/>
            <a:ext cx="5486400" cy="824040"/>
            <a:chOff x="1981080" y="1812960"/>
            <a:chExt cx="5486400" cy="824040"/>
          </a:xfrm>
        </p:grpSpPr>
        <p:sp>
          <p:nvSpPr>
            <p:cNvPr id="449" name=""/>
            <p:cNvSpPr/>
            <p:nvPr/>
          </p:nvSpPr>
          <p:spPr>
            <a:xfrm>
              <a:off x="1981080" y="2209680"/>
              <a:ext cx="5486400" cy="0"/>
            </a:xfrm>
            <a:prstGeom prst="line">
              <a:avLst/>
            </a:prstGeom>
            <a:ln w="50760">
              <a:solidFill>
                <a:srgbClr val="ff66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2416320" y="1812960"/>
              <a:ext cx="41626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Daten, ACK, window upda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oder Teile dav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1" name=""/>
          <p:cNvGrpSpPr/>
          <p:nvPr/>
        </p:nvGrpSpPr>
        <p:grpSpPr>
          <a:xfrm>
            <a:off x="1981080" y="2727360"/>
            <a:ext cx="5334120" cy="824040"/>
            <a:chOff x="1981080" y="2727360"/>
            <a:chExt cx="5334120" cy="824040"/>
          </a:xfrm>
        </p:grpSpPr>
        <p:sp>
          <p:nvSpPr>
            <p:cNvPr id="452" name=""/>
            <p:cNvSpPr/>
            <p:nvPr/>
          </p:nvSpPr>
          <p:spPr>
            <a:xfrm>
              <a:off x="1981080" y="3124080"/>
              <a:ext cx="5334120" cy="0"/>
            </a:xfrm>
            <a:prstGeom prst="line">
              <a:avLst/>
            </a:prstGeom>
            <a:ln w="50760">
              <a:solidFill>
                <a:srgbClr val="ffcc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670120" y="2727360"/>
              <a:ext cx="41626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Daten, ACK, window upda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oder Teile dav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4" name=""/>
          <p:cNvGrpSpPr/>
          <p:nvPr/>
        </p:nvGrpSpPr>
        <p:grpSpPr>
          <a:xfrm>
            <a:off x="1981080" y="3641760"/>
            <a:ext cx="5486400" cy="824040"/>
            <a:chOff x="1981080" y="3641760"/>
            <a:chExt cx="5486400" cy="824040"/>
          </a:xfrm>
        </p:grpSpPr>
        <p:sp>
          <p:nvSpPr>
            <p:cNvPr id="455" name=""/>
            <p:cNvSpPr/>
            <p:nvPr/>
          </p:nvSpPr>
          <p:spPr>
            <a:xfrm>
              <a:off x="1981080" y="4038480"/>
              <a:ext cx="5486400" cy="0"/>
            </a:xfrm>
            <a:prstGeom prst="line">
              <a:avLst/>
            </a:prstGeom>
            <a:ln w="50760">
              <a:solidFill>
                <a:srgbClr val="ff66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2416320" y="3641760"/>
              <a:ext cx="41626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Daten, ACK, window upda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oder Teile dav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7" name=""/>
          <p:cNvGrpSpPr/>
          <p:nvPr/>
        </p:nvGrpSpPr>
        <p:grpSpPr>
          <a:xfrm>
            <a:off x="1981080" y="4556160"/>
            <a:ext cx="5334120" cy="824040"/>
            <a:chOff x="1981080" y="4556160"/>
            <a:chExt cx="5334120" cy="824040"/>
          </a:xfrm>
        </p:grpSpPr>
        <p:sp>
          <p:nvSpPr>
            <p:cNvPr id="458" name=""/>
            <p:cNvSpPr/>
            <p:nvPr/>
          </p:nvSpPr>
          <p:spPr>
            <a:xfrm>
              <a:off x="1981080" y="4952880"/>
              <a:ext cx="5334120" cy="0"/>
            </a:xfrm>
            <a:prstGeom prst="line">
              <a:avLst/>
            </a:prstGeom>
            <a:ln w="50760">
              <a:solidFill>
                <a:srgbClr val="ffcc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2670120" y="4556160"/>
              <a:ext cx="41626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Daten, ACK, window upda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oder Teile dav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CP - Verbindung steh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B55D59-5B89-4CE2-9E71-BB242410621B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CP/IP und das Interne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rdware-unabhängi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twicklung seit 1983 (DARPA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eine zentrale Verwaltu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ein zentraler Knoten (im Gegensatz zu SNA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usfallsicherheit als Designziel (DOD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outing Paket-per-Paket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EF84D8-9F83-40A5-AA6E-6C041E8643D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"/>
          <p:cNvSpPr/>
          <p:nvPr/>
        </p:nvSpPr>
        <p:spPr>
          <a:xfrm>
            <a:off x="692280" y="1758960"/>
            <a:ext cx="901440" cy="4483080"/>
          </a:xfrm>
          <a:prstGeom prst="rect">
            <a:avLst/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7778880" y="1758960"/>
            <a:ext cx="901440" cy="448308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559440" y="1736640"/>
            <a:ext cx="1006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7727040" y="1736640"/>
            <a:ext cx="1105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5" name=""/>
          <p:cNvGrpSpPr/>
          <p:nvPr/>
        </p:nvGrpSpPr>
        <p:grpSpPr>
          <a:xfrm>
            <a:off x="1406880" y="1812960"/>
            <a:ext cx="6194160" cy="824040"/>
            <a:chOff x="1406880" y="1812960"/>
            <a:chExt cx="6194160" cy="824040"/>
          </a:xfrm>
        </p:grpSpPr>
        <p:sp>
          <p:nvSpPr>
            <p:cNvPr id="466" name=""/>
            <p:cNvSpPr/>
            <p:nvPr/>
          </p:nvSpPr>
          <p:spPr>
            <a:xfrm>
              <a:off x="1981080" y="2209680"/>
              <a:ext cx="548640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1406880" y="1812960"/>
              <a:ext cx="61941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FI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“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ich bin fertig und will nicht mehr senden”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8" name=""/>
          <p:cNvGrpSpPr/>
          <p:nvPr/>
        </p:nvGrpSpPr>
        <p:grpSpPr>
          <a:xfrm>
            <a:off x="1981080" y="2727360"/>
            <a:ext cx="5334120" cy="824040"/>
            <a:chOff x="1981080" y="2727360"/>
            <a:chExt cx="5334120" cy="824040"/>
          </a:xfrm>
        </p:grpSpPr>
        <p:sp>
          <p:nvSpPr>
            <p:cNvPr id="469" name=""/>
            <p:cNvSpPr/>
            <p:nvPr/>
          </p:nvSpPr>
          <p:spPr>
            <a:xfrm>
              <a:off x="1981080" y="3124080"/>
              <a:ext cx="5334120" cy="0"/>
            </a:xfrm>
            <a:prstGeom prst="line">
              <a:avLst/>
            </a:prstGeom>
            <a:ln w="50760">
              <a:solidFill>
                <a:srgbClr val="ffcc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199680" y="2727360"/>
              <a:ext cx="31021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ACK des FI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“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Danke, verstanden”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1" name=""/>
          <p:cNvGrpSpPr/>
          <p:nvPr/>
        </p:nvGrpSpPr>
        <p:grpSpPr>
          <a:xfrm>
            <a:off x="1660680" y="4175280"/>
            <a:ext cx="6194160" cy="824040"/>
            <a:chOff x="1660680" y="4175280"/>
            <a:chExt cx="6194160" cy="824040"/>
          </a:xfrm>
        </p:grpSpPr>
        <p:sp>
          <p:nvSpPr>
            <p:cNvPr id="472" name=""/>
            <p:cNvSpPr/>
            <p:nvPr/>
          </p:nvSpPr>
          <p:spPr>
            <a:xfrm>
              <a:off x="1981080" y="4572000"/>
              <a:ext cx="5334120" cy="0"/>
            </a:xfrm>
            <a:prstGeom prst="line">
              <a:avLst/>
            </a:prstGeom>
            <a:ln w="50760">
              <a:solidFill>
                <a:srgbClr val="ffcc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660680" y="4175280"/>
              <a:ext cx="61941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FI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“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ich bin fertig und will nicht mehr senden”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4" name=""/>
          <p:cNvGrpSpPr/>
          <p:nvPr/>
        </p:nvGrpSpPr>
        <p:grpSpPr>
          <a:xfrm>
            <a:off x="1981080" y="5089680"/>
            <a:ext cx="5486400" cy="824040"/>
            <a:chOff x="1981080" y="5089680"/>
            <a:chExt cx="5486400" cy="824040"/>
          </a:xfrm>
        </p:grpSpPr>
        <p:sp>
          <p:nvSpPr>
            <p:cNvPr id="475" name=""/>
            <p:cNvSpPr/>
            <p:nvPr/>
          </p:nvSpPr>
          <p:spPr>
            <a:xfrm>
              <a:off x="1981080" y="5486400"/>
              <a:ext cx="548640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2945520" y="5089680"/>
              <a:ext cx="31021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ACK des FI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“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Danke, verstanden”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CP - Verbindungsabbau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C8162A-940D-4746-8A67-7013A81B24F4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Übersich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P/IP und das Intern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tokol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hichtenmod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, UDP, TCP, AR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Tahoma"/>
              </a:rPr>
              <a:t>Routing und Congest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wendung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griffspunk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F464CA-FEAD-490D-B379-5CC7092FBA26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P-Adressen sind 32 bit organisier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s gibt Class-A, Class-B und Class-C Netze.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ese unterscheiden sich durch die Netzmaske, die angibt, welcher Teil der Adresse das Netz und welcher den Rechner innerhalb des Netzes bezeichne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outing-Entscheidungen werden nur nach dem Netz-Teil der Adresse getroffen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14B286-782A-4E7F-82A7-4DEB6AE3F358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2" name=""/>
          <p:cNvGrpSpPr/>
          <p:nvPr/>
        </p:nvGrpSpPr>
        <p:grpSpPr>
          <a:xfrm>
            <a:off x="723240" y="1682640"/>
            <a:ext cx="8033400" cy="596880"/>
            <a:chOff x="723240" y="1682640"/>
            <a:chExt cx="8033400" cy="596880"/>
          </a:xfrm>
        </p:grpSpPr>
        <p:sp>
          <p:nvSpPr>
            <p:cNvPr id="483" name=""/>
            <p:cNvSpPr/>
            <p:nvPr/>
          </p:nvSpPr>
          <p:spPr>
            <a:xfrm>
              <a:off x="723240" y="1736640"/>
              <a:ext cx="11937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Class 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2139840" y="1682640"/>
              <a:ext cx="1587600" cy="59688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Netz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3816360" y="1682640"/>
              <a:ext cx="1587600" cy="59688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Hos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5492880" y="1682640"/>
              <a:ext cx="1587240" cy="59688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Hos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7169040" y="1682640"/>
              <a:ext cx="1587600" cy="59688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Hos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8" name=""/>
          <p:cNvGrpSpPr/>
          <p:nvPr/>
        </p:nvGrpSpPr>
        <p:grpSpPr>
          <a:xfrm>
            <a:off x="720000" y="2374920"/>
            <a:ext cx="8036640" cy="596880"/>
            <a:chOff x="720000" y="2374920"/>
            <a:chExt cx="8036640" cy="596880"/>
          </a:xfrm>
        </p:grpSpPr>
        <p:sp>
          <p:nvSpPr>
            <p:cNvPr id="489" name=""/>
            <p:cNvSpPr/>
            <p:nvPr/>
          </p:nvSpPr>
          <p:spPr>
            <a:xfrm>
              <a:off x="720000" y="2428920"/>
              <a:ext cx="11970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Class 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2139840" y="2374920"/>
              <a:ext cx="1587600" cy="59688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Netz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3816360" y="2374920"/>
              <a:ext cx="1587600" cy="59688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Netz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5492880" y="2374920"/>
              <a:ext cx="1587240" cy="59688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Hos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7169040" y="2374920"/>
              <a:ext cx="1587600" cy="59688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Hos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4" name=""/>
          <p:cNvGrpSpPr/>
          <p:nvPr/>
        </p:nvGrpSpPr>
        <p:grpSpPr>
          <a:xfrm>
            <a:off x="724680" y="3060720"/>
            <a:ext cx="8031960" cy="596880"/>
            <a:chOff x="724680" y="3060720"/>
            <a:chExt cx="8031960" cy="596880"/>
          </a:xfrm>
        </p:grpSpPr>
        <p:sp>
          <p:nvSpPr>
            <p:cNvPr id="495" name=""/>
            <p:cNvSpPr/>
            <p:nvPr/>
          </p:nvSpPr>
          <p:spPr>
            <a:xfrm>
              <a:off x="724680" y="3114720"/>
              <a:ext cx="11908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Class 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2139840" y="3060720"/>
              <a:ext cx="1587600" cy="59688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Netz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3816360" y="3060720"/>
              <a:ext cx="1587600" cy="59688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Netz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5492880" y="3060720"/>
              <a:ext cx="1587240" cy="59688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Netz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7169040" y="3060720"/>
              <a:ext cx="1587600" cy="59688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Hos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0" name=""/>
          <p:cNvSpPr/>
          <p:nvPr/>
        </p:nvSpPr>
        <p:spPr>
          <a:xfrm>
            <a:off x="685800" y="4495680"/>
            <a:ext cx="807732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s gibt nur wenige Class B und noch weniger Class A Netz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ass C-Netze, oder Blöcke davon, sind das Üblich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e Klassen wurden eingeführt, um die Tabellen in den Router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lein zu halt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s ist möglich, die Netzmaske unabhängig von der Klasse frei zu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tzen, um ein Netz weiter zu unterteilen (subnettin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Netzmask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502" name=""/>
          <p:cNvGrpSpPr/>
          <p:nvPr/>
        </p:nvGrpSpPr>
        <p:grpSpPr>
          <a:xfrm>
            <a:off x="718560" y="3733920"/>
            <a:ext cx="8044560" cy="596880"/>
            <a:chOff x="718560" y="3733920"/>
            <a:chExt cx="8044560" cy="596880"/>
          </a:xfrm>
        </p:grpSpPr>
        <p:sp>
          <p:nvSpPr>
            <p:cNvPr id="503" name=""/>
            <p:cNvSpPr/>
            <p:nvPr/>
          </p:nvSpPr>
          <p:spPr>
            <a:xfrm>
              <a:off x="718560" y="3787920"/>
              <a:ext cx="15397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Subnet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 z.B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2146320" y="3733920"/>
              <a:ext cx="1587600" cy="59688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Netz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3822840" y="3733920"/>
              <a:ext cx="1587240" cy="59688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Netz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5499000" y="3733920"/>
              <a:ext cx="1587600" cy="59688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Netz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7924680" y="3733920"/>
              <a:ext cx="838440" cy="59688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Hos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7162920" y="3733920"/>
              <a:ext cx="761760" cy="59688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Netz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9" name=""/>
          <p:cNvSpPr/>
          <p:nvPr/>
        </p:nvSpPr>
        <p:spPr>
          <a:xfrm>
            <a:off x="6400800" y="609480"/>
            <a:ext cx="2362320" cy="609840"/>
          </a:xfrm>
          <a:prstGeom prst="wedgeRoundRectCallout">
            <a:avLst>
              <a:gd name="adj1" fmla="val -161625"/>
              <a:gd name="adj2" fmla="val 172398"/>
              <a:gd name="adj3" fmla="val 16667"/>
            </a:avLst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55.0.0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6400800" y="609480"/>
            <a:ext cx="2362320" cy="609840"/>
          </a:xfrm>
          <a:prstGeom prst="wedgeRoundRectCallout">
            <a:avLst>
              <a:gd name="adj1" fmla="val -89717"/>
              <a:gd name="adj2" fmla="val 286981"/>
              <a:gd name="adj3" fmla="val 16667"/>
            </a:avLst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55.255.0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400800" y="609480"/>
            <a:ext cx="2362320" cy="609840"/>
          </a:xfrm>
          <a:prstGeom prst="wedgeRoundRectCallout">
            <a:avLst>
              <a:gd name="adj1" fmla="val -17944"/>
              <a:gd name="adj2" fmla="val 414324"/>
              <a:gd name="adj3" fmla="val 16667"/>
            </a:avLst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55.255.255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6400800" y="609480"/>
            <a:ext cx="2362320" cy="609840"/>
          </a:xfrm>
          <a:prstGeom prst="wedgeRoundRectCallout">
            <a:avLst>
              <a:gd name="adj1" fmla="val 14851"/>
              <a:gd name="adj2" fmla="val 501824"/>
              <a:gd name="adj3" fmla="val 16667"/>
            </a:avLst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55.255.255.2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54CB71-F26A-43E8-856B-249C4B806EDA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Netzmask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ress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92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68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53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tzmas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55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55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55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4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resse &amp; Netzmas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92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68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53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bitweises UND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Tahoma"/>
              </a:rPr>
              <a:t>Netz-Teil der Adresse</a:t>
            </a:r>
            <a:r>
              <a:rPr b="0" lang="en-US" sz="3200" spc="-1" strike="noStrike">
                <a:solidFill>
                  <a:srgbClr val="ff66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6600"/>
                </a:solidFill>
                <a:latin typeface="Tahoma"/>
              </a:rPr>
              <a:t>192.</a:t>
            </a:r>
            <a:r>
              <a:rPr b="0" lang="en-US" sz="3200" spc="-1" strike="noStrike">
                <a:solidFill>
                  <a:srgbClr val="ff66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6600"/>
                </a:solidFill>
                <a:latin typeface="Tahoma"/>
              </a:rPr>
              <a:t>168.</a:t>
            </a:r>
            <a:r>
              <a:rPr b="0" lang="en-US" sz="3200" spc="-1" strike="noStrike">
                <a:solidFill>
                  <a:srgbClr val="ff66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6600"/>
                </a:solidFill>
                <a:latin typeface="Tahoma"/>
              </a:rPr>
              <a:t>153.</a:t>
            </a:r>
            <a:r>
              <a:rPr b="0" lang="en-US" sz="3200" spc="-1" strike="noStrike">
                <a:solidFill>
                  <a:srgbClr val="ff66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6600"/>
                </a:solidFill>
                <a:latin typeface="Tahoma"/>
              </a:rPr>
              <a:t>1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Tahoma"/>
              </a:rPr>
              <a:t>Host-Teil der Adresse</a:t>
            </a:r>
            <a:r>
              <a:rPr b="0" lang="en-US" sz="3200" spc="-1" strike="noStrike">
                <a:solidFill>
                  <a:srgbClr val="996633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996633"/>
                </a:solidFill>
                <a:latin typeface="Tahoma"/>
              </a:rPr>
              <a:t>0.</a:t>
            </a:r>
            <a:r>
              <a:rPr b="0" lang="en-US" sz="3200" spc="-1" strike="noStrike">
                <a:solidFill>
                  <a:srgbClr val="996633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996633"/>
                </a:solidFill>
                <a:latin typeface="Tahoma"/>
              </a:rPr>
              <a:t>0.</a:t>
            </a:r>
            <a:r>
              <a:rPr b="0" lang="en-US" sz="3200" spc="-1" strike="noStrike">
                <a:solidFill>
                  <a:srgbClr val="996633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996633"/>
                </a:solidFill>
                <a:latin typeface="Tahoma"/>
              </a:rPr>
              <a:t>0.</a:t>
            </a:r>
            <a:r>
              <a:rPr b="0" lang="en-US" sz="3200" spc="-1" strike="noStrike">
                <a:solidFill>
                  <a:srgbClr val="996633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996633"/>
                </a:solidFill>
                <a:latin typeface="Tahoma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57BE6A-A5A6-47FE-B887-5702F14899B3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Routing-Ablauf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ufspalten der Zieladresse in Netz- und Host-Teil (durch AND mit der Netzmask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urchsuchen der Routing-Tabelle nach dem errechneten Netztei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nn gefunden: An das in der Tabelle eingetragene Interface senden (next hop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nst: Zur Default-Route, falls vorhand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sonsten: ICMP “Network unreachable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53D983-920B-48BC-ABDE-46214AE77292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Routing-Protokoll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outing-Protokolle dienen dazu, die Routingtabellen automatisch zu pflegen, wenn z.B. Wege unpassierbar werd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s gibt verschiedene Protokol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IP: Fuer LAN geeignet, viel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GP, BGP: Fuer WAN / ASN zu AS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ter UNIX in routed (nur RIP) bzw. gated implementier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779386-256A-41DE-B91C-46EF431F6251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Nameserve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ür Menschen sind numerische Adressen schwer merkb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her sorgt das DNS (Domain Name System) dafür, daß leichter merkbare Namen verwendet werden könn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ameserver bilden eine weltweit verteilte Datenban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9EE735-CAB9-4A73-8199-8946BA5DF47C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Nameserve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e Namen sind hierarchisch organisiert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z.B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lackbox.congress.ccc.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ine Anfrage fragt na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? Deutschland!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ns.nic.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cc.de? Chaos!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ns.ccc.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ress.ccc.de?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ns.congress.ccc.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ultat: 195.21.208.2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6239B0-0155-4296-9F3F-B90AE0A263DD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Vermeidung von Überlas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nn das Netz an einer Stelle stark belastet ist (z.B. Übergang vom LAN ins langsamere WAN), gehen Pakete verlore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nn nun der Sender weiter mit voller Kapazität sendet, wird die Situation nur schlimme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0362EF-BCA3-4B86-BD8A-4449C747F93A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CP/IP und das Interne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plikationsunabhängi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ndards: “RFC” (Request for Comment), numeriert - auf vielen Servern verfügbar, z.B. ftp://rtfm.mit.ed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uch auf der Chaos-CD enthalt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 Gegensatz zu den ISO/OSI-Protokollen kein “offizieller” Standard, aber weithin akzeptier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9DB2D4-DA4E-498D-AF53-911FB076ABC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Vermeidung von Überlas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P hat zwei Mechanismen zur Vermeidung von Überlast: Slow Start und Congestion Avoidanc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1E54FD-33F3-4978-AF8B-4D1532FE419A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low Star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ine TCP-Verbindung beginnt nicht, mit der Window-Größe zu senden, die die Gegenseite annonciert, sondern sendet zunächst nur ein Segmen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e effektive Window-Groesse wird nun mit jedem eingetroffenen ACK um ein weiteres Segment erhöht, bis die Windowgröße erreicht is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E74206-0C95-43D0-985F-05642D7D10C3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ongestion Avoidanc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nn zwischendurch Pakete verlorengehen (erkennbar daran, daß doppelte ACK-Nachrichten eintreffen), wird das fehlende Paket erneut gesendet (retransmit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e Datenrate wird dann vermindert und steigt langsam wieder a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BC2D91-E2BC-456C-9B12-C7FC143D93A7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Übersich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P/IP und das Intern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tokol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hichtenmod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, UDP, TCP, AR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outing und Congest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Tahoma"/>
              </a:rPr>
              <a:t>Anwendung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griffspunk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4C8504-E4C2-434E-AE9A-AE5323FC4378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nwendunge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e meisten Anwendungen basieren auf TCP, nur wenige auf UDP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DP-basierend sind NFS (Network File System) und DN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5F0229-4250-4B50-8F10-5F6360124C3D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UDP-Anwendunge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FS: Network File System, entwickelt von Sun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lativ langsam, aber extrem stabil. Das Protokoll ist “stateless”, d.h. alle Status-information liegt nur auf dem Client. Der Server kann zwischendurch neu starten, ohne daß der Client dies normalerweise merkt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FS Version 2 kann auch TCP verwende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1B6CAC-475D-44C5-A7F7-B579411C7E21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UDP-Anwendunge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NS: Domain Name system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ents fragen über UDP bei den Name Servern an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e Server antworten ihrerseits per UDP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ceroute: Feststellen, wie meine Daten zum Empfänger kommen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ur aktuelles Bild, das nächste Paket kann schon einen anderen Weg nehme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E36E65-F2DC-45A6-A88A-4476E2C815B4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CP-Anwendunge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lnet: Terminal-Emulation, logi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SH: Das “bessere Telnet”, verschlüsse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TP: Dateitransf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TTP: Übertragungsprotokoll des WW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MTP, POP3: Electronic Mai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w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0026ED-2A9B-40F8-AC85-86ABC1D09BDE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Übersich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P/IP und das Intern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tokol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hichtenmod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, UDP, TCP, AR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outing und Congest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wendung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Tahoma"/>
              </a:rPr>
              <a:t>Angriffspunk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ACA3EA-B208-44E3-A885-CBE748406224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ngriffspunkt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eses Thema bildet einen besonderen Schwerpunkt morge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her hier nur ein knapper Überblick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A2412A-E671-4A30-AD96-D40B05C8D2AB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Übersich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P/IP und das Intern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Tahoma"/>
              </a:rPr>
              <a:t>Protokol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Tahoma"/>
              </a:rPr>
              <a:t>Schichtenmod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Tahoma"/>
              </a:rPr>
              <a:t>IP, UDP, TCP, AR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outing und Congest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wendung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griffspunk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DCC716-3424-4C55-8412-FFE7E479C5B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ngriffspunkt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nial of Service: Berechtigte Nutzer können nicht arbeit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usspähen von Daten durch passives Mitles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erfälschen von Daten unterweg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ktiver Eingriff in Netzknoten (Rechner, Router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P Spoof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97FCF4-10B5-441A-BDAD-E6F5A048C946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Denial of Servic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lood ping usw.: Überlasten eines Netzes oder Rechn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ing mit zu großen Paket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N-floo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llegale Fragmen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ruht meist auf Fehlern in der IP-Implementierung des angegriffenen 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85BAAD-8DCF-4D98-8CD8-24FA9A6F5CA3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usspähen von Date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itlesen (Sniffer) im L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i Ethernet einfa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ur Fehleranalyse oder Spion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find, tcpdump, RMON-Prob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itlesen in WAN-Zwischenstationen, z.B. beim Internet-Provid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g-Dateien, z.B. WWW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E88306-8F14-49F4-AA5D-18A420DD3F92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inschleusen von Date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inschleusen anderer Daten (unter falscher Identität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Übernahme (hijacking) bestehender Verbindungen, z.B. juggernau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ft bei applikationsspezifischen Client-Server-Systemen, z.B. Datenbank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6BF188-D2A8-4C76-A570-B029EC800998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IP Spoofing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zen der Quell-Adresse im IP-Header auf eine andere Adres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ft eine Adresse im angegriffenen L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asis für weitere Attack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eine Antwort mögli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infache Protokolle, wie SMTP, funktionieren auch ohne Antwort (Antwort vorhersehbar) -&gt; E-Mail Sp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78C8D6-AFE1-4A15-8E26-CB7B7EE8AD7B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Literatu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.Richard Stevens, TCP/IP Illustrated, Addison-Wesley (besonders Vol.1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laf Kirch, Linux Network Administrators Guide, LDP bzw. O’Reil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uglas Comer, Internetworking with TCP/IP, Prentice-Hal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EBB649-5E86-4564-B34B-1E457FED3209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rotokoll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ketorientier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chichtenmodel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ressieru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B36B09-51D5-44F9-9408-A2B6E83BFAA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2292480" y="5264280"/>
            <a:ext cx="6006960" cy="901440"/>
            <a:chOff x="2292480" y="5264280"/>
            <a:chExt cx="6006960" cy="901440"/>
          </a:xfrm>
        </p:grpSpPr>
        <p:sp>
          <p:nvSpPr>
            <p:cNvPr id="101" name=""/>
            <p:cNvSpPr/>
            <p:nvPr/>
          </p:nvSpPr>
          <p:spPr>
            <a:xfrm>
              <a:off x="2292480" y="5264280"/>
              <a:ext cx="6006960" cy="90144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295360" y="5470560"/>
              <a:ext cx="45453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Link: Hardware, Gerätetreiber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2259720" y="4273560"/>
            <a:ext cx="6039720" cy="901800"/>
            <a:chOff x="2259720" y="4273560"/>
            <a:chExt cx="6039720" cy="901800"/>
          </a:xfrm>
        </p:grpSpPr>
        <p:sp>
          <p:nvSpPr>
            <p:cNvPr id="104" name=""/>
            <p:cNvSpPr/>
            <p:nvPr/>
          </p:nvSpPr>
          <p:spPr>
            <a:xfrm>
              <a:off x="2292480" y="4273560"/>
              <a:ext cx="6006960" cy="90180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259720" y="4479840"/>
              <a:ext cx="51472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Network: Paketzustellung, Rou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2292480" y="3282840"/>
            <a:ext cx="6006960" cy="901800"/>
            <a:chOff x="2292480" y="3282840"/>
            <a:chExt cx="6006960" cy="901800"/>
          </a:xfrm>
        </p:grpSpPr>
        <p:sp>
          <p:nvSpPr>
            <p:cNvPr id="107" name=""/>
            <p:cNvSpPr/>
            <p:nvPr/>
          </p:nvSpPr>
          <p:spPr>
            <a:xfrm>
              <a:off x="2292480" y="3282840"/>
              <a:ext cx="6006960" cy="90180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293920" y="3489480"/>
              <a:ext cx="39812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Transport: Paketsicheru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2261880" y="2292480"/>
            <a:ext cx="6037560" cy="901440"/>
            <a:chOff x="2261880" y="2292480"/>
            <a:chExt cx="6037560" cy="901440"/>
          </a:xfrm>
        </p:grpSpPr>
        <p:sp>
          <p:nvSpPr>
            <p:cNvPr id="110" name=""/>
            <p:cNvSpPr/>
            <p:nvPr/>
          </p:nvSpPr>
          <p:spPr>
            <a:xfrm>
              <a:off x="2292480" y="2292480"/>
              <a:ext cx="6006960" cy="90144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261880" y="2575080"/>
              <a:ext cx="45331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Application: Benutzerprozes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chichtenmodel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6EB2DF-5250-4817-B53E-87830F7BAA8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"/>
          <p:cNvGrpSpPr/>
          <p:nvPr/>
        </p:nvGrpSpPr>
        <p:grpSpPr>
          <a:xfrm>
            <a:off x="2282400" y="5264280"/>
            <a:ext cx="6017040" cy="901440"/>
            <a:chOff x="2282400" y="5264280"/>
            <a:chExt cx="6017040" cy="901440"/>
          </a:xfrm>
        </p:grpSpPr>
        <p:sp>
          <p:nvSpPr>
            <p:cNvPr id="114" name=""/>
            <p:cNvSpPr/>
            <p:nvPr/>
          </p:nvSpPr>
          <p:spPr>
            <a:xfrm>
              <a:off x="2292480" y="5264280"/>
              <a:ext cx="6006960" cy="90144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282400" y="5470560"/>
              <a:ext cx="59778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Link: Netzwerkkarte, Gerätetreiber (ARP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2292480" y="4273560"/>
            <a:ext cx="6006960" cy="901800"/>
            <a:chOff x="2292480" y="4273560"/>
            <a:chExt cx="6006960" cy="901800"/>
          </a:xfrm>
        </p:grpSpPr>
        <p:sp>
          <p:nvSpPr>
            <p:cNvPr id="117" name=""/>
            <p:cNvSpPr/>
            <p:nvPr/>
          </p:nvSpPr>
          <p:spPr>
            <a:xfrm>
              <a:off x="2292480" y="4273560"/>
              <a:ext cx="6006960" cy="90180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368440" y="4479840"/>
              <a:ext cx="14119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Networ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292480" y="3282840"/>
            <a:ext cx="6006960" cy="901800"/>
            <a:chOff x="2292480" y="3282840"/>
            <a:chExt cx="6006960" cy="901800"/>
          </a:xfrm>
        </p:grpSpPr>
        <p:sp>
          <p:nvSpPr>
            <p:cNvPr id="120" name=""/>
            <p:cNvSpPr/>
            <p:nvPr/>
          </p:nvSpPr>
          <p:spPr>
            <a:xfrm>
              <a:off x="2292480" y="3282840"/>
              <a:ext cx="6006960" cy="90180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366640" y="3489480"/>
              <a:ext cx="15948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Transpor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2292480" y="2292480"/>
            <a:ext cx="6006960" cy="901440"/>
            <a:chOff x="2292480" y="2292480"/>
            <a:chExt cx="6006960" cy="901440"/>
          </a:xfrm>
        </p:grpSpPr>
        <p:sp>
          <p:nvSpPr>
            <p:cNvPr id="123" name=""/>
            <p:cNvSpPr/>
            <p:nvPr/>
          </p:nvSpPr>
          <p:spPr>
            <a:xfrm>
              <a:off x="2292480" y="2292480"/>
              <a:ext cx="6006960" cy="90144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351520" y="2575080"/>
              <a:ext cx="17928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Applic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2292480" y="5264280"/>
            <a:ext cx="6006960" cy="901440"/>
            <a:chOff x="2292480" y="5264280"/>
            <a:chExt cx="6006960" cy="901440"/>
          </a:xfrm>
        </p:grpSpPr>
        <p:sp>
          <p:nvSpPr>
            <p:cNvPr id="126" name=""/>
            <p:cNvSpPr/>
            <p:nvPr/>
          </p:nvSpPr>
          <p:spPr>
            <a:xfrm>
              <a:off x="2292480" y="5264280"/>
              <a:ext cx="6006960" cy="90144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398680" y="5470560"/>
              <a:ext cx="7765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Lin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578480" y="5416560"/>
            <a:ext cx="1739880" cy="673200"/>
            <a:chOff x="4578480" y="5416560"/>
            <a:chExt cx="1739880" cy="673200"/>
          </a:xfrm>
        </p:grpSpPr>
        <p:sp>
          <p:nvSpPr>
            <p:cNvPr id="129" name=""/>
            <p:cNvSpPr/>
            <p:nvPr/>
          </p:nvSpPr>
          <p:spPr>
            <a:xfrm>
              <a:off x="4578480" y="5416560"/>
              <a:ext cx="1739880" cy="6732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629960" y="5470560"/>
              <a:ext cx="1422360" cy="4582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Etherne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6330960" y="5416560"/>
            <a:ext cx="1847520" cy="673200"/>
            <a:chOff x="6330960" y="5416560"/>
            <a:chExt cx="1847520" cy="673200"/>
          </a:xfrm>
        </p:grpSpPr>
        <p:sp>
          <p:nvSpPr>
            <p:cNvPr id="132" name=""/>
            <p:cNvSpPr/>
            <p:nvPr/>
          </p:nvSpPr>
          <p:spPr>
            <a:xfrm>
              <a:off x="6330960" y="5416560"/>
              <a:ext cx="1816200" cy="6732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391800" y="5470560"/>
              <a:ext cx="1786680" cy="4582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Token R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4578480" y="4425840"/>
            <a:ext cx="3568680" cy="673200"/>
            <a:chOff x="4578480" y="4425840"/>
            <a:chExt cx="3568680" cy="673200"/>
          </a:xfrm>
        </p:grpSpPr>
        <p:sp>
          <p:nvSpPr>
            <p:cNvPr id="135" name=""/>
            <p:cNvSpPr/>
            <p:nvPr/>
          </p:nvSpPr>
          <p:spPr>
            <a:xfrm>
              <a:off x="4578480" y="4425840"/>
              <a:ext cx="3568680" cy="6732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783320" y="4479840"/>
              <a:ext cx="473040" cy="4582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I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7162920" y="4572000"/>
            <a:ext cx="884160" cy="82404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C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4578480" y="3435480"/>
            <a:ext cx="1739880" cy="672840"/>
            <a:chOff x="4578480" y="3435480"/>
            <a:chExt cx="1739880" cy="672840"/>
          </a:xfrm>
        </p:grpSpPr>
        <p:sp>
          <p:nvSpPr>
            <p:cNvPr id="139" name=""/>
            <p:cNvSpPr/>
            <p:nvPr/>
          </p:nvSpPr>
          <p:spPr>
            <a:xfrm>
              <a:off x="4578480" y="3435480"/>
              <a:ext cx="1739880" cy="6728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775760" y="3489480"/>
              <a:ext cx="730800" cy="4582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TC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6407280" y="3435480"/>
            <a:ext cx="1739880" cy="672840"/>
            <a:chOff x="6407280" y="3435480"/>
            <a:chExt cx="1739880" cy="672840"/>
          </a:xfrm>
        </p:grpSpPr>
        <p:sp>
          <p:nvSpPr>
            <p:cNvPr id="142" name=""/>
            <p:cNvSpPr/>
            <p:nvPr/>
          </p:nvSpPr>
          <p:spPr>
            <a:xfrm>
              <a:off x="6407280" y="3435480"/>
              <a:ext cx="1739880" cy="6728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585840" y="3489480"/>
              <a:ext cx="814320" cy="4582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UD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4578480" y="2444760"/>
            <a:ext cx="825480" cy="673200"/>
            <a:chOff x="4578480" y="2444760"/>
            <a:chExt cx="825480" cy="673200"/>
          </a:xfrm>
        </p:grpSpPr>
        <p:sp>
          <p:nvSpPr>
            <p:cNvPr id="145" name=""/>
            <p:cNvSpPr/>
            <p:nvPr/>
          </p:nvSpPr>
          <p:spPr>
            <a:xfrm>
              <a:off x="4578480" y="2444760"/>
              <a:ext cx="825480" cy="6732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655160" y="2498760"/>
              <a:ext cx="587520" cy="4582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ft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492880" y="2444760"/>
            <a:ext cx="848160" cy="673200"/>
            <a:chOff x="5492880" y="2444760"/>
            <a:chExt cx="848160" cy="673200"/>
          </a:xfrm>
        </p:grpSpPr>
        <p:sp>
          <p:nvSpPr>
            <p:cNvPr id="148" name=""/>
            <p:cNvSpPr/>
            <p:nvPr/>
          </p:nvSpPr>
          <p:spPr>
            <a:xfrm>
              <a:off x="5492880" y="2444760"/>
              <a:ext cx="825480" cy="6732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560200" y="2498760"/>
              <a:ext cx="780840" cy="4582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htt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6407280" y="2444760"/>
            <a:ext cx="825480" cy="673200"/>
            <a:chOff x="6407280" y="2444760"/>
            <a:chExt cx="825480" cy="673200"/>
          </a:xfrm>
        </p:grpSpPr>
        <p:sp>
          <p:nvSpPr>
            <p:cNvPr id="151" name=""/>
            <p:cNvSpPr/>
            <p:nvPr/>
          </p:nvSpPr>
          <p:spPr>
            <a:xfrm>
              <a:off x="6407280" y="2444760"/>
              <a:ext cx="825480" cy="6732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489000" y="2498760"/>
              <a:ext cx="742680" cy="4582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NF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7315200" y="2438280"/>
            <a:ext cx="878760" cy="673200"/>
            <a:chOff x="7315200" y="2438280"/>
            <a:chExt cx="878760" cy="673200"/>
          </a:xfrm>
        </p:grpSpPr>
        <p:sp>
          <p:nvSpPr>
            <p:cNvPr id="154" name=""/>
            <p:cNvSpPr/>
            <p:nvPr/>
          </p:nvSpPr>
          <p:spPr>
            <a:xfrm>
              <a:off x="7315200" y="2438280"/>
              <a:ext cx="838080" cy="6732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387200" y="2492280"/>
              <a:ext cx="8067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DN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chichtenmodel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"/>
          <p:cNvSpPr/>
          <p:nvPr/>
        </p:nvSpPr>
        <p:spPr>
          <a:xfrm>
            <a:off x="5943600" y="5638680"/>
            <a:ext cx="723960" cy="82404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R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FC10A1-E2E3-49B3-95EC-48AF2530560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Link Laye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thern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ken 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DLC (für WAN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w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A170E3-1980-422A-8130-B9E153550D0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5-28T16:36:34Z</dcterms:created>
  <dc:creator>Jan H. Haul</dc:creator>
  <dc:description/>
  <dc:language>en-US</dc:language>
  <cp:lastModifiedBy>Hans-Joachim Haul</cp:lastModifiedBy>
  <cp:lastPrinted>1998-12-25T15:06:52Z</cp:lastPrinted>
  <dcterms:modified xsi:type="dcterms:W3CDTF">1998-12-25T15:07:46Z</dcterms:modified>
  <cp:revision>21</cp:revision>
  <dc:subject/>
  <dc:title>TCP/IP fuer Anfaenger</dc:title>
</cp:coreProperties>
</file>