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1318-EB2E-494B-BC39-8D3AEFEB4CA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a:t>
            </a:r>
            <a:r>
              <a:rPr b="0" lang="ja-JP" sz="3200" spc="-1" strike="noStrike">
                <a:solidFill>
                  <a:srgbClr val="000000"/>
                </a:solidFill>
                <a:latin typeface="Arial"/>
              </a:rPr>
              <a:t>(DA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ドメインオブジェクト</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エンティティ層との依存関係を持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サービス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仕様はフレームワークに依存してはいけ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サービス層、永続化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そのも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8T12:02:56Z</dcterms:modified>
  <cp:revision>29</cp:revision>
  <dc:subject/>
  <dc:title>スライド 1</dc:title>
</cp:coreProperties>
</file>