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C1EB-CE7E-40AC-B322-967D21BD0AF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CD64-FCAC-4DAC-A4CB-30DB6DB4F81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9:56Z</dcterms:modified>
  <cp:revision>113</cp:revision>
  <dc:subject/>
  <dc:title>スライド 1</dc:title>
</cp:coreProperties>
</file>