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BBFA-2344-4D56-BB6D-58534CFEDF3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6C2A-A4E2-425F-8AC9-FF4CCB0E789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aopalliance.sourceforge.net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71280" y="5229360"/>
            <a:ext cx="596916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主催 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初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日改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栗原 傑享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sataka Kurihar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ープンな仕様策定プロジェク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仕様の標準化を目指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パイ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環境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opalliance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作業中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現在）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準拠を今後行ってい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コンテナ・フレームワーク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等の相互利用が可能にな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-AP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Allian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ドラフトで幸いに相違がほとんどなかったため、早期実現が可能と思わ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定義者が明示的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12T06:34:57Z</dcterms:modified>
  <cp:revision>41</cp:revision>
  <dc:subject/>
  <dc:title>スライド 1</dc:title>
</cp:coreProperties>
</file>