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059280" y="2602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59280" y="2602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1280" y="-1440"/>
            <a:ext cx="9072720" cy="6815160"/>
            <a:chOff x="71280" y="-1440"/>
            <a:chExt cx="9072720" cy="6815160"/>
          </a:xfrm>
        </p:grpSpPr>
        <p:sp>
          <p:nvSpPr>
            <p:cNvPr id="1" name=""/>
            <p:cNvSpPr/>
            <p:nvPr/>
          </p:nvSpPr>
          <p:spPr>
            <a:xfrm>
              <a:off x="4643280" y="6597720"/>
              <a:ext cx="41198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900" spc="-1" strike="noStrike">
                  <a:solidFill>
                    <a:srgbClr val="000000"/>
                  </a:solidFill>
                  <a:latin typeface="Tahoma"/>
                </a:rPr>
                <a:t>© Copyright The Seasar Project and others 2004. all rights reserved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71280" y="-1440"/>
              <a:ext cx="2916360" cy="134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619280" y="836640"/>
              <a:ext cx="7524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643280" y="6597720"/>
              <a:ext cx="450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748720" y="6454800"/>
              <a:ext cx="287280" cy="287280"/>
            </a:xfrm>
            <a:prstGeom prst="ellipse">
              <a:avLst/>
            </a:prstGeom>
            <a:solidFill>
              <a:srgbClr val="ff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ADC9C658-EEDE-4607-B5FA-194BE8FE3B86}" type="slidenum">
                <a:rPr b="1" lang="ja-JP" sz="9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395280" y="1268280"/>
            <a:ext cx="8748720" cy="5545440"/>
            <a:chOff x="395280" y="1268280"/>
            <a:chExt cx="8748720" cy="5545440"/>
          </a:xfrm>
        </p:grpSpPr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395280" y="1268280"/>
              <a:ext cx="3600360" cy="16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340000" y="2349360"/>
              <a:ext cx="680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643280" y="6597720"/>
              <a:ext cx="41198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900" spc="-1" strike="noStrike">
                  <a:solidFill>
                    <a:srgbClr val="000000"/>
                  </a:solidFill>
                  <a:latin typeface="Tahoma"/>
                </a:rPr>
                <a:t>© Copyright The Seasar Project and others 2004. all rights reserved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43280" y="6597720"/>
              <a:ext cx="450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748720" y="6454800"/>
              <a:ext cx="287280" cy="287280"/>
            </a:xfrm>
            <a:prstGeom prst="ellipse">
              <a:avLst/>
            </a:prstGeom>
            <a:solidFill>
              <a:srgbClr val="ff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のからさわぎ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Op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004.4.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the Fu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これからの</a:t>
            </a: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に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期待したいもの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うえやんさ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Nazuna</a:t>
            </a: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ちゃんは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どこに消えた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What Is “Seasar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特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オープンソース（ライセンス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SL1.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純国産（メイン開発者はひがやすおさん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ure 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oC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レームワー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呼び方は「しーさー」で沖縄の狛犬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(?)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こと。ひがさんは沖縄出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目指すも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解体と再構築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美味しいところを手軽に利用！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「易しさ」 と「優しさ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’s 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歴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00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前～ひがさんオリジナル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サーバ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TA,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ネクションプーリングなどな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00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初期版～スターロジック用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omcat,iBATI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と組み合わせて、外国為替オンライントレーディングシステムで使用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WEB+DB PRESS Vol.15,16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参照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 V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～オールインワン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サーバ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lowlet,Rulet,Sqlet,Jetty,HSQLDB,GPSS,Eclips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ラグインなどが整備され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004/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 V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oC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として華麗に進化！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従来の機能を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oC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ベースで再構築し、よりしなやかに強靭になった</a:t>
            </a:r>
            <a:br>
              <a:rPr sz="2400"/>
            </a:b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歴史が今日、ここからはじまる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プロジェクト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別名「ひがやすおと愉快な仲間たち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ミッショ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盛り上げることを通じて、ソフトウェア開発の現場をより楽しく、より幸せにしていくこ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役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ひがさんのやる気を損ねない（笑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日々周辺の雑務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SourceForg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メンテなど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こまめな宴会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知ってもらうためのマーケティン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担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現在はスターロジックのメンバーが中心ですが、特に何も決めていません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皆さん、どんどん「自由に」何でも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やっちゃってくださ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We G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さぁ、からさわごう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合言葉は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「もっと優しく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もっと易しく」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のからさわぎ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春の嵐スペシャ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004.4.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小林さ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ここがセクシー！</a:t>
            </a:r>
            <a:br>
              <a:rPr sz="7200"/>
            </a:b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だと感じ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のコード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ug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さ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の導入を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阻んだひとこと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匿名さん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pring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使い始めさ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私</a:t>
            </a: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60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と</a:t>
            </a:r>
            <a:br>
              <a:rPr sz="7200"/>
            </a:b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あの子</a:t>
            </a: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6000" spc="-1" strike="noStrike">
                <a:solidFill>
                  <a:srgbClr val="000000"/>
                </a:solidFill>
                <a:latin typeface="Arial"/>
              </a:rPr>
              <a:t>Spring etc</a:t>
            </a: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の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魅力徹底比較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03:49:45Z</dcterms:created>
  <dc:creator>Masataka Kurihara</dc:creator>
  <dc:description/>
  <dc:language>en-US</dc:language>
  <cp:lastModifiedBy>羽生　章洋</cp:lastModifiedBy>
  <dcterms:modified xsi:type="dcterms:W3CDTF">2004-04-11T10:38:46Z</dcterms:modified>
  <cp:revision>36</cp:revision>
  <dc:subject/>
  <dc:title>スライド 1</dc:title>
</cp:coreProperties>
</file>