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5560" y="25560"/>
            <a:ext cx="3466800" cy="12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6C10-9B83-4F93-A15C-B8A5B07E66C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" y="981000"/>
            <a:ext cx="4762440" cy="171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7720" y="6553080"/>
            <a:ext cx="485280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Foundation and the others 2005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3400" y="6597720"/>
            <a:ext cx="4800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FF6F-FA5D-4F71-BC63-BEF3CCCF654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560" y="2463480"/>
            <a:ext cx="865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Kvasir/Sora 3</a:t>
            </a:r>
            <a:br>
              <a:rPr sz="4400"/>
            </a:b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Pluggabl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なアプリケーションコンテ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5.07.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Sandbox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田　健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プラグインで拡張可能なアプリケーション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ろいろなプラグインを組み合わせてオリジナ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を簡単に構築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ずは使ってみて、次にプラグインを書いてみ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なるべく早くリリースできるよう頑張ります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m( )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己紹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名前：横田　健彦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kirni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かりにくいハンドルですいません、「スキールニル」と読み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イト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ttp://kvasir.skirnir.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構築し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住まい：東京都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北の方で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特徴：北欧神話フリーク、阪神ファ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仲間募集中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（クヴァシル・そら）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ーブレットベースのコンテンツ管理システ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ちょっぴ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（管理画面はかなり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スタマイズの自由度高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ブログなどのアプリケーションも追加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名前の由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開発機の名前、北欧神話の神様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ora=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息子の名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覚え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独自仕様が多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づ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ップグレードしづら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次世代版（バージョン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kvasir.sandbox.seasar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アプリケーションプラットフォー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プリケーションとしてサーブレットコンテナ上で動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ライクなプラグインアーキテクチャを採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追加が容易、ブログアプリ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覚え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作成手順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プラグイン作成手順とかなり類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→プラグインのアップグレードも簡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ベ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の開発効率向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製作の動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宅サイトを構築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Zop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ベースだったら作ってなかった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^^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vasir/Sora 3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作ったの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より使いやすいシステムにしたかっ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誰でも覚えやすく使いやすいシステムを目指し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わよくばプラグインを作ってもらえたら助かる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プラグインアーキテクチャに感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っぽ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あったら楽しそ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定義ファイル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lugin.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905120"/>
            <a:ext cx="8076960" cy="4343400"/>
          </a:xfrm>
          <a:prstGeom prst="rect">
            <a:avLst/>
          </a:prstGeom>
          <a:solidFill>
            <a:srgbClr val="cc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?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plugin id="net.seasar.kvasir.plugin.blog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ame="%plugin.name“ version=“1.0.0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vider-name="%plugin.provider-name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ass="net.seasar.kvasir.plugin.blog.BlogPlugi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container config="plugin.dicon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"conf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library name=“blog-1.0.0.jar”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un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import plugin="net.seasar.kvasir.plugin.page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requir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基本的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定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3505320"/>
            <a:ext cx="365760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プラグイン用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の定義ファイ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114800"/>
            <a:ext cx="365760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利用ライブラリ・リソー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05720" y="5105520"/>
            <a:ext cx="1752480" cy="838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3300"/>
                </a:solidFill>
                <a:latin typeface="Arial"/>
              </a:rPr>
              <a:t>依存プラグイ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デモンストレ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だ動きません…。プラグインできてません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近日中に基本部を完成させ今後ブログプラグイン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M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を開発予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4076640" cy="331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72000" y="2362320"/>
            <a:ext cx="40384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イト構築例（雰囲気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5410080"/>
            <a:ext cx="7619760" cy="762120"/>
          </a:xfrm>
          <a:prstGeom prst="rect">
            <a:avLst/>
          </a:prstGeom>
          <a:solidFill>
            <a:srgbClr val="99cc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8000"/>
                </a:solidFill>
                <a:latin typeface="Arial"/>
              </a:rPr>
              <a:t>Kvasir/S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66880" y="4191120"/>
            <a:ext cx="190512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91120"/>
            <a:ext cx="1904760" cy="1218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4191120"/>
            <a:ext cx="190512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ユーザ管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4191120"/>
            <a:ext cx="1904760" cy="12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00280" y="15238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ブログ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47080" y="1981080"/>
            <a:ext cx="21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掲示板を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23120" y="24382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会員制掲示板も設置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18960" y="2895480"/>
            <a:ext cx="50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サイトの見た目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ンプレートで記述した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0600" y="1066680"/>
            <a:ext cx="40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ず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vasir/Sor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インストー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56560" y="34290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3300"/>
                </a:solidFill>
                <a:latin typeface="Arial"/>
              </a:rPr>
              <a:t>プラグインの追加で自由に拡張可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皆さんへの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使ってみてフィードバックを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ラグインを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系プラグインのデザインを考えて下さい、アイコン作っ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チュートリアルドキュメント書いて下さ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、お願いは尽きませんが、まずは興味を持っていただければうれしいで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7T03:46:01Z</dcterms:created>
  <dc:creator>羽生　章洋</dc:creator>
  <dc:description/>
  <dc:language>en-US</dc:language>
  <cp:lastModifiedBy>羽生　章洋</cp:lastModifiedBy>
  <dcterms:modified xsi:type="dcterms:W3CDTF">2005-07-13T07:44:21Z</dcterms:modified>
  <cp:revision>575</cp:revision>
  <dc:subject/>
  <dc:title>くーす本の内容を先取り！ DI時代の業務システム構築技法 ～業務分析からシステム設計・開発までを一気に突っ走る～</dc:title>
</cp:coreProperties>
</file>