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1B81-DFA5-4BE4-9264-41327A336A1B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7BDA-8682-4452-A9B4-156864FC5439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Kestre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木村　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skimura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わってい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ダク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所属会社：リコーソフトウエア（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MM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のレベ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達成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200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ricoh-soft.co.j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s2kestrel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は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2.2.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ＡＰＩに依存しないように修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正規表現のＡＰＩ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もちろん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UnitTe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全て通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は、ほぼ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などがバージョン落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用のコード名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estr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本語訳では、チョウゲンボウ（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某案件にて、ＪＶＭのバージョン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使えない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も、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った方が断然開発がスムー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(2.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ssist(2.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是非一緒に開発して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ッタになると良い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然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アのコードを読む機会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理解が深まる可能性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Kestrel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J2SE1.3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用の</a:t>
            </a: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Satoshi Kimura</dc:creator>
  <dc:description/>
  <dc:language>en-US</dc:language>
  <cp:lastModifiedBy>羽生　章洋</cp:lastModifiedBy>
  <dcterms:modified xsi:type="dcterms:W3CDTF">2005-07-14T02:58:39Z</dcterms:modified>
  <cp:revision>624</cp:revision>
  <dc:subject/>
  <dc:title>S2Kestrel ～J2SE1.3用のS2Container</dc:title>
</cp:coreProperties>
</file>