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FA9D-9431-48D9-AA86-501ADF46939F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3AC8-33E0-4025-AE25-2419C1E266A3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2Cayenn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の組合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松永　隆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のトランザクション制御を組み合わせ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の仕組みは、ほとんど意識しなくて良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が普及すれば、需要が増え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名前：松永　隆宏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ua4i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生息地：大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職業：派遣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G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弱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ブログ：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ttp://d.hatena.ne.jp/aua4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：</a:t>
            </a:r>
            <a:br>
              <a:rPr sz="28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seasar.satin.jp/wiki/index.php?Sandbox%2FS2Ca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マッピングツール「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」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のトランザクション制御と組み合わせて使うための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と同じポジション（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現在実装している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インタフェースによる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の自動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今後、実装させたい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フェースの実装クラスの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yenne Mode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標準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ツ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t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分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Conte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簡単に作成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通常は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用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書く変わりに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句の内容を表すメソッドを使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LTe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複雑な条件などを使用したい場合は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QLTemple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って、直接コマンドを実行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Cayenn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を作る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プロジェクトに何か貢献したかっ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に参加したら、自分のレベルが上がる気がしたか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某コミッタにそそのかされて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eAutoDao.d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clude path="s2Cayenne.dic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examples.cayenne.dao.EmployeeAutoDao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spect&gt;j2ee.requiredTx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aspect&gt;s2cayenne.interceptor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s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2Cayenne.di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s namespace="s2cayenne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include path="j2ee.dicon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org.seasar.cayenne.impl.S2DataContextFactoryImpl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class="org.seasar.cayenne.dao.impl.CayenneDaoMetaDataFactoryImpl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component name="interceptor" class="org.seasar.cayenne.interceptors.S2CayenneDaoIntercepto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eAutoDao.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interface EmployeeAutoDao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Class BEAN = Employee.clas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List getAllEmploye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insert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update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blic void delete(Employee entit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96720"/>
            <a:ext cx="5765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2342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ちゃんとした「プロジェクト」にし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開発を手伝ってくれる方募集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に詳しい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ちょっとでも「やる気」のある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何だったら、プロジェクトを引き継いでくれる方・・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「音沙汰無し」はやはり寂し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フィードバックが欲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yenn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との連携につい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羽生　章洋</cp:lastModifiedBy>
  <dcterms:modified xsi:type="dcterms:W3CDTF">2005-07-14T03:00:56Z</dcterms:modified>
  <cp:revision>9</cp:revision>
  <dc:subject/>
  <dc:title>S2Cayenne ～Seasar2とCayenneの組合せ</dc:title>
</cp:coreProperties>
</file>