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F721-A57E-4E7B-B175-08F3BD6AF7B5}" type="slidenum"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BFB1-07E0-4D4D-9FAD-C86D2D9A4EF2}" type="slidenum">
              <a:rPr b="1" lang="ja-JP" sz="9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2.NET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砂上の楼閣で野望を叫ぶ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ja-JP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佐藤　太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3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佐藤　太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d.hatena.ne.jp/taichitaichi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ｱﾔｼｲ思いつきがある時と、考えをまとめたい時に書いて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か、色々不思議な事に立ち会い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以上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0 →2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バージョンア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を開発している筈なのに、自分だけ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X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を開発した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最近、原点回帰とも言え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EW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開発して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もっと色々知りたい方は、この後の宴会に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s2dotnet.oscj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T Framewor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上で動作する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用モックアスペ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トランザクション管理アスペ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イルは同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タグは一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式言語は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なく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Script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埋め込みリソース、外部リソース共に扱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インの実装者は、杉本和也さ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ログ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kamedan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0344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が動作しており、既に実案件に投入されてい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＋バ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ミッタ不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もそ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コミュニティは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エンジニア主体なので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な人は中々居ない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膨大で、かつ、ポリシーもキチンとあるプラットフォームなのに２人ではキツ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知らない事が多く、かなり試行錯誤を繰り返して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ADO.NE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JDBC,S2DAO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相当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あると生産性が根本的に違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O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も出来るが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ASP.NET(S2JSF,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相当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、相当開発し易いので、どう折り合いをつけるか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Remoting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P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は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t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部分もあ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2Container 4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新機能の実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自動登録はあると便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terpriseLibrary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日本語の情報が少し少ない気がするので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VisualStudio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ijimuna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イルのビジュアルエディタプラグイ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のイベントインジェク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ォームデザイナから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に登録されたコンポーネントとイベントを紐付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Factorie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これからリリースするであろう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ftware Factori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応ツールを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用に拡張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15652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、使ってみ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そして、開発に参加して欲し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いうか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4114800"/>
            <a:ext cx="8001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助けて下さい！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8920" y="396720"/>
            <a:ext cx="57639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324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.N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足りない事は多いけれど、やりたい事や夢はイッパイで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、メーリングリストにご参加下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lists.sourceforge.jp/mailman/listinfo/seasar-s2dot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ブログへのトラックバックもお待ちしており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羽生　章洋</cp:lastModifiedBy>
  <dcterms:modified xsi:type="dcterms:W3CDTF">2005-07-13T07:47:17Z</dcterms:modified>
  <cp:revision>11</cp:revision>
  <dc:subject/>
  <dc:title>S2.NET ～砂上の楼閣で野望を叫ぶ！</dc:title>
</cp:coreProperties>
</file>