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2F0E-C196-4D4D-B207-503B74D759B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5E81-E6CC-49C8-BBCF-CEEB01413EEE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4800" spc="-1" strike="noStrike">
                <a:solidFill>
                  <a:srgbClr val="000000"/>
                </a:solidFill>
                <a:latin typeface="Century"/>
              </a:rPr>
              <a:t>S2JMS &amp; S2JCA</a:t>
            </a:r>
            <a:br>
              <a:rPr sz="48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～非同期メッセージングも易しく優し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浩一</a:t>
            </a:r>
            <a:r>
              <a:rPr b="1" i="1" lang="ja-JP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ja-JP" sz="32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4932360" y="4149720"/>
            <a:ext cx="144000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A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268280"/>
            <a:ext cx="1079280" cy="4321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ラウ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1268280"/>
            <a:ext cx="2160720" cy="4321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ベース</a:t>
            </a:r>
            <a:br>
              <a:rPr sz="2800"/>
            </a:b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従業員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追加されたら通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32360" y="1268280"/>
            <a:ext cx="1441440" cy="144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HSQ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414972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表示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162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1640" y="1628640"/>
            <a:ext cx="720720" cy="719280"/>
          </a:xfrm>
          <a:prstGeom prst="leftRightArrow">
            <a:avLst>
              <a:gd name="adj1" fmla="val 50000"/>
              <a:gd name="adj2" fmla="val 1994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4720" y="451008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331280" y="450864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445080" y="451008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24000" y="3933720"/>
            <a:ext cx="6769080" cy="23749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entury"/>
              </a:rPr>
              <a:t>追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con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 Exampl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mployeeLogicIm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71640" y="1989000"/>
            <a:ext cx="7921440" cy="265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examples.jsf.logic.impl.EmployeeLogicImp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&gt;logicInterceptorChain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aspect pointcut="inser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sendMessageInter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aspec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on2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ndMessageInterce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1989000"/>
            <a:ext cx="7921440" cy="375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name="sendMessageInterceptor"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class="...SendMessageIntercep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messa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component class="...TextMessageCreato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property name="tex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"</a:t>
            </a:r>
            <a:r>
              <a:rPr b="1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#{employeeDto.empno}:#{employeeDto.ename}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proper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  <a:ea typeface="ＭＳ Ｐ明朝"/>
              </a:rPr>
              <a:t>&lt;/compon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使い方を教えてくだ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使い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2P or Pub/Su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ranscted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xtMessage or e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ュー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トピッ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複数のロジッ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募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緒に開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同期メッセージングも易しく優し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送信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信系はこれ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明朝"/>
              </a:rPr>
              <a:t>小林 浩一 </a:t>
            </a:r>
            <a:r>
              <a:rPr b="1" i="1" lang="ja-JP" sz="3600" spc="-1" strike="noStrike">
                <a:solidFill>
                  <a:srgbClr val="000000"/>
                </a:solidFill>
                <a:latin typeface="Century"/>
              </a:rPr>
              <a:t>(koichi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d.hatena.ne.jp/koichik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話題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モデル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デルの画像たく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画像では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イドル画像でも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職場では見ない方が賢明か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ms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 Messaging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のため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(Messaging-Oriented Middlewa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BM WebSphereMQ(aka MQSeries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面倒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易しく優しく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s2jca.oscj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 Connector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V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外部にある様々なりソースを扱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O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もリソースの一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，トランザクション管理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一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ネクション管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おけ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サー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リソース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アダ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トランザクション管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476360" y="3068640"/>
            <a:ext cx="1008000" cy="64764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位置づ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1268280"/>
            <a:ext cx="6480000" cy="504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1484280"/>
            <a:ext cx="5834160" cy="1584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429000"/>
            <a:ext cx="3168720" cy="259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スタンドアロンでも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76720" y="3429000"/>
            <a:ext cx="2087640" cy="259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S2JM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Century"/>
              </a:rPr>
              <a:t>Conn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3716280"/>
            <a:ext cx="165564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MS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バイ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3716280"/>
            <a:ext cx="1081080" cy="12970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7956360" y="3789360"/>
            <a:ext cx="720720" cy="1152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3716280"/>
            <a:ext cx="1008000" cy="1297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84720" y="3933720"/>
            <a:ext cx="79200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76360" y="2924280"/>
            <a:ext cx="1008000" cy="792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84360" y="3933720"/>
            <a:ext cx="71928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J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8360" y="3933720"/>
            <a:ext cx="792360" cy="86364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2349360"/>
            <a:ext cx="1008000" cy="576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349360"/>
            <a:ext cx="1584360" cy="57636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851280" y="2924280"/>
            <a:ext cx="2881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インターセプ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送信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268280"/>
            <a:ext cx="1081080" cy="504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12000" y="3429000"/>
            <a:ext cx="1081080" cy="180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85080" y="1268280"/>
            <a:ext cx="100800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7993080" y="5408280"/>
            <a:ext cx="718920" cy="10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3429000"/>
            <a:ext cx="1081080" cy="287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T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終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3429000"/>
            <a:ext cx="1439640" cy="28796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s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送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1268280"/>
            <a:ext cx="6408720" cy="648000"/>
          </a:xfrm>
          <a:prstGeom prst="rightArrow">
            <a:avLst>
              <a:gd name="adj1" fmla="val 50000"/>
              <a:gd name="adj2" fmla="val 2472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2800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800000">
            <a:off x="6443280" y="2205000"/>
            <a:ext cx="1368360" cy="1224000"/>
          </a:xfrm>
          <a:custGeom>
            <a:avLst/>
            <a:gdLst>
              <a:gd name="textAreaLeft" fmla="*/ 456120 w 1368360"/>
              <a:gd name="textAreaRight" fmla="*/ 1172160 w 1368360"/>
              <a:gd name="textAreaTop" fmla="*/ 704880 h 1224000"/>
              <a:gd name="textAreaBottom" fmla="*/ 1048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0328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092360" y="450864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93164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32000" y="5589720"/>
            <a:ext cx="64800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0920" y="3429000"/>
            <a:ext cx="1081080" cy="28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クショ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05440" y="342900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331280" y="5589720"/>
            <a:ext cx="64764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受信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想のみ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053440" y="2707560"/>
            <a:ext cx="719280" cy="144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M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1268280"/>
            <a:ext cx="1440000" cy="4321440"/>
          </a:xfrm>
          <a:prstGeom prst="rect">
            <a:avLst/>
          </a:prstGeom>
          <a:solidFill>
            <a:srgbClr val="cc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entury"/>
              </a:rPr>
              <a:t>S2J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3640" y="3068640"/>
            <a:ext cx="64764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2000" y="1268280"/>
            <a:ext cx="1439640" cy="14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270828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3429000"/>
            <a:ext cx="64800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4000" y="1628640"/>
            <a:ext cx="64800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429000"/>
            <a:ext cx="1439640" cy="216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entury"/>
              </a:rPr>
              <a:t>ロジッ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290560" y="4869000"/>
            <a:ext cx="649080" cy="71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entury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4508640"/>
            <a:ext cx="2808360" cy="1800000"/>
          </a:xfrm>
          <a:prstGeom prst="wedgeEllipseCallout">
            <a:avLst>
              <a:gd name="adj1" fmla="val 76796"/>
              <a:gd name="adj2" fmla="val -3015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的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明朝"/>
              </a:rPr>
              <a:t>位置づけ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HTT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明朝"/>
              </a:rPr>
              <a:t>リクエストの代わりにメッセー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同期メッセージング重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面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ぜ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C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インフ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憧れ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画面のよ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組み立てて送信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JSF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ように受信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M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ッセージを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バインドできたら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小林浩一</dc:creator>
  <dc:description/>
  <dc:language>en-US</dc:language>
  <cp:lastModifiedBy>羽生　章洋</cp:lastModifiedBy>
  <dcterms:modified xsi:type="dcterms:W3CDTF">2005-07-13T07:46:14Z</dcterms:modified>
  <cp:revision>583</cp:revision>
  <dc:subject>非同期メッセージングも易しく優しく</dc:subject>
  <dc:title>S2JMS &amp; S2JCA</dc:title>
</cp:coreProperties>
</file>