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2916360" cy="12031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26708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267080" y="6597720"/>
            <a:ext cx="487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8C631-5B20-4F66-B112-88CC9756C04E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1147680"/>
            <a:ext cx="4124160" cy="1704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34340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19720" y="6597720"/>
            <a:ext cx="4724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8A23D-2ABD-43AA-842D-8890DA6663AB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easar.org/maya" TargetMode="External"/><Relationship Id="rId2" Type="http://schemas.openxmlformats.org/officeDocument/2006/relationships/hyperlink" Target="http://www.seasar.org/maya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S2JSF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he Seasar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feature of S2JSF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template of the page is HTML, not JS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apes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yout solut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advantage of 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rmation of layout is eas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operation with designer is eas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TML Templat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The tag of HTML is converted to the tag of JSF at run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HTML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value="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JSF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h:outputText value=" 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specify the tag explicitly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inject="h:messages" m:globalOnly="true" m:class="error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 solu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re intuitive and easy-to-u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able border="0" cellspacing="5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colspan="2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header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width="140" valign="top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menu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valign="top" align="left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name="body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abl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ello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html xmlns:m="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easar.org/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aya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m:extends="/WEB-INF/layout/layout.html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span m:inject="s:insert" m:name="bod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Hello &lt;span m:value="#{message}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spa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SF becomes more ease to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template of the page is 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yout solu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eferenc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160" y="1197000"/>
            <a:ext cx="838044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higayasuwo.cocolog-nifty.com/blog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iga@isid.co.j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.org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www.seasar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 Project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sourceforge.jp/projects/seas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higa</cp:lastModifiedBy>
  <dcterms:modified xsi:type="dcterms:W3CDTF">2005-03-07T11:13:07Z</dcterms:modified>
  <cp:revision>125</cp:revision>
  <dc:subject/>
  <dc:title>スライド 1</dc:title>
</cp:coreProperties>
</file>