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2078-1120-43A6-BBA6-F6B712587FF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C950E-6E93-4860-B139-F23EB29B30E9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からさわぎ＠東京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２００４　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inal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Op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大阪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全編「くーす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くーす本出版決定！（来年春ご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この頃各コミッタから随時リリースが続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そして今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のからさわぎ＠東京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2004 F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コミッ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さ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かい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ほそかわ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あがたさん＆まさたか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きむら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まるお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Tapestr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おかざき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こばやし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xi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くたにさん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ven.repo.remo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現在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ア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tain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AOP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ライアンスに準拠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トランザクションの自動制御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とコネクションプールを使うことも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BCP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コネクションプーリング 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DBC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kart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bUtil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みたいなもの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ORM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フレームワーク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Unit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テストファーストのためのツール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周辺プロダク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GroovyBuild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設定ファイル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記述でき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Flash Remoting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Kijimuna(Seasa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Eclips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プラグイ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Hibern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Stru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Tape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他にも有志の方の草の根プロダクトがいろいろあります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DaoMak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Pag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WebWor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など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今後の予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Remo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これからの未来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どうなっていくの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ひがやす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ロードマ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Dao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ページングのネイティブサポー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: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moting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JSF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中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y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の統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Maya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今年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3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来年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月開始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JB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ntityBea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統合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3D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設立準備委員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目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の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発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社会的責任の増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成果物の付加価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力が弱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成果物開発推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ソフトウェア製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デザイン理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関連ドキュメンテー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組織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１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プロジェクトサーバー環境整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、各種インターネット無償サービスに分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ourceForge / 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はてな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＠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if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企業内よりアクセスできないなどの弊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ドメインへのアクセス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トコル・メソッドの制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整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ソフトウェア開発・展開が可能なサーバー構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プロジェクト製品を利用したリファレンス実装として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構築することが目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ミッター募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運営力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の設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定非営利活動法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営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組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閣総理大臣（内閣府）の認可によ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法人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的庇護を得られ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認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透明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省庁による監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（特に財務等）について監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永続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属人性を排除することによる永続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社会的使命のライフサイクル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のライフサイク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日の開催にお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スポンサー様・スタッフの皆さん、そして何よりもお集まり頂いた皆様に厚く御礼申し上げま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日の開催を支えてくださった企業の皆様（敬称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、（株）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場のご提供ならびに運営のご支援をいただいており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技術評論社、翔泳社、ソフトバンクパブリッシング、日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社（順不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皆さんお楽しみのプレゼントをたくさんご提供いただき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法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目的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= 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の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運営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ロジェクトの権利義務を代表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時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開始（予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法人審査期間が申請よ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ヶ月以内に成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中に内閣府に設立申請を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組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会員総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理事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ミッター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の費用と収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費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ソフトウェア開発のための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運営のためのサーバー環境・回線・運営と備品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開催費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会員事務通信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専従事務員人件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ジェクトの収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個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法人会員会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行政助成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カンファレンス参加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グッズ販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会計監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監督行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情報開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ジェクト会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成果物を利用したい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資格を特に設け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P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名簿な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個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負担いただける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費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参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法人会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プロジェクトの趣旨に賛同し会費を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口数以上負担いただける法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口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プロジェクト成果利用状況、法人規模に応じて口数をお願いする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上に賛同法人リストに記載表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会費負担期の会員名簿記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会員総会の票決数は口数に関わらず、法人毎に１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個人および法人会員特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ージョンのダウンロ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新機能要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最新情報を盛り込んだメールマガジ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ミッターとの懇親会参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ブックレットの送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グッズの割引販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会員特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償サポートサービス等の認定・バックアッ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＊現時点では上記は企画案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法人設立時の理事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法人設立時に、理事会名簿の登記義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理事会名簿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代表理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栗原傑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グルージェ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開発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比嘉康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理事 プロジェクト運営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羽生章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株）スター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監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？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644560"/>
            <a:ext cx="85788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004.11.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繰り返しですが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今ここにある未来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クノロジ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入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通して見るディープ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ワール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ビジネストラ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じめてのマジ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指向設計の原則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録！　いかにし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提案して採用に至った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してデザイントラック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まるごと「くーす」三昧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物足りない人は、夜の部へ！　そして朝まで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プレゼント大会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ポンサー様からのプレゼントです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We G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さぁ、からさわごう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合言葉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「もっと優しく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Arial"/>
              </a:rPr>
              <a:t>もっと易しく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挨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株式会社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FC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システム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代表取締役社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田口　嘉之　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約束の諸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受付の際の参加票を持参して、各会場にお入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飲食は会議室の中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８階・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以外のフロアには立ち入らないようにして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建物内は禁煙です。たばこは各フロアに一箇所ずつある喫煙場所でお願いし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ゴミは出来る限りお持ち帰りくださ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2463480"/>
            <a:ext cx="8273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The Seasar Project 2004</a:t>
            </a:r>
            <a:br>
              <a:rPr sz="44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~Seasa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過去・現在・そして未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hat Is “Seasar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ープンソース（ライセンス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SL1.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純国産（メイン開発者はひがやすをさん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レームワー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呼び方は「しーさー」で沖縄の狛犬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?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こと。ひがさんは沖縄出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目指すも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解体と再構築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美味しいところを手軽に利用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易しさ」 と「優しさ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’s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歴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前～ひがさんオリジナル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TA,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ネクションプーリングなどな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版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～スターロジック用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Tomcat,iBATI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組み合わせて、外国為替オンライントレーディングシステムで使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WEB+DB PRESS Vol.15,16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参照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 V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オールインワ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ーバ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owlet,Rulet,Sqlet,Jetty,HSQLDB,GPSS,Eclips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などが整備され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/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として華麗に進化！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従来の機能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で再構築し、よりしなやかに強靭になった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年　新しい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開発スタイル「ダイコン時代」の幕開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 EA1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東京開催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元々は「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リリースに合わせた勉強会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「からさわぎ」は最後のひとコマのタイトルのはずが、以後メインタイトル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当時、はてな界隈でアニソンカラオケブームだったのでついでにカラオケ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かくして変な伝統が生ま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への理解　⇒　どう設計すればいいの？　という質問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設計の指針を作っていきましょう　という表明</a:t>
            </a:r>
            <a:br>
              <a:rPr sz="1600"/>
            </a:b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⇒　ダイコン時代の設計手法「くーす」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Kijimuna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の開発宣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「ダイコン」という言葉の誕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激動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（２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沖縄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公開の場での事例紹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は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の時点でアンケートの結果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件以上の事例があったが非公開のまま（すみませ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頃から露出が増えてく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雑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笑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コミッタ増員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DaoV1.0.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リー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日　からさわぎ＠福岡開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ダイコン時代のアーキテクチャと設計技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月からの流れの一区切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次の課題は、設計のインプットである「業務フローの作成方法」　⇒　マジカ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24T04:38:25Z</dcterms:modified>
  <cp:revision>198</cp:revision>
  <dc:subject/>
  <dc:title>スライド 1</dc:title>
</cp:coreProperties>
</file>