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9947275" cy="68151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CB1-16DA-4D22-B51A-480C5F144FCA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60F-9F12-4128-AC40-7FB2AF6D4922}" type="slidenum">
              <a:rPr b="1" lang="ja-JP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ibernate.org/" TargetMode="External"/><Relationship Id="rId2" Type="http://schemas.openxmlformats.org/officeDocument/2006/relationships/hyperlink" Target="http://www.atmarkit.co.jp/fjava/rensai3/ormap01/ormap01.html" TargetMode="External"/><Relationship Id="rId3" Type="http://schemas.openxmlformats.org/officeDocument/2006/relationships/hyperlink" Target="http://www.wikiroom.com/koichik/?Hibernate%20%C6%FE%CC&#32109;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超入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95280" y="5589360"/>
            <a:ext cx="49611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小林浩一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koich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フェッチを先延ばし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から取得するデータを最小限に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不要な結合を避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転送するデータ量を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無駄なインスタンス化を避け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モリ使用量の低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の活用を促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多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コレクション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アクセスしたときにフェッチ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708280"/>
            <a:ext cx="2160720" cy="180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3608280"/>
            <a:ext cx="1800360" cy="9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レクショ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1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2050920" y="4508640"/>
            <a:ext cx="1441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492360" y="4508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492360" y="4508640"/>
            <a:ext cx="1440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430200" y="2529000"/>
            <a:ext cx="1441440" cy="1800000"/>
          </a:xfrm>
          <a:prstGeom prst="wedgeEllipseCallout">
            <a:avLst>
              <a:gd name="adj1" fmla="val -45925"/>
              <a:gd name="adj2" fmla="val 8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コレクション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32360" y="5049720"/>
            <a:ext cx="719280" cy="1081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28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720" y="5229360"/>
            <a:ext cx="108108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332000" y="5049720"/>
            <a:ext cx="431964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先オブジェクトの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り実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制約が多いので注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わ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多重度が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..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場合のみ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フェッチでき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キーを使う場合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32720" y="1808280"/>
            <a:ext cx="2160360" cy="28810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1280" y="1808280"/>
            <a:ext cx="2160720" cy="54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11280" y="2708280"/>
            <a:ext cx="2160720" cy="1981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オブジェ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(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234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92360" y="3789360"/>
            <a:ext cx="180036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430200" y="2349720"/>
            <a:ext cx="1441440" cy="1800000"/>
          </a:xfrm>
          <a:prstGeom prst="wedgeEllipseCallout">
            <a:avLst>
              <a:gd name="adj1" fmla="val -63217"/>
              <a:gd name="adj2" fmla="val 80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オブジェクトにアクセスすると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392720" y="3608280"/>
            <a:ext cx="2158920" cy="1081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問題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に重大な影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732720" y="2708280"/>
            <a:ext cx="2160360" cy="360036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71640" y="2708280"/>
            <a:ext cx="1800000" cy="360036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600360"/>
              <a:gd name="textAreaBottom" fmla="*/ 3512520 h 360036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360828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11640" y="486900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34304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11640" y="3249720"/>
            <a:ext cx="1081080" cy="143964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439640"/>
              <a:gd name="textAreaBottom" fmla="*/ 1387080 h 1439640"/>
            </a:gdLst>
            <a:ahLst/>
            <a:rect l="textAreaLeft" t="textAreaTop" r="textAreaRight" b="textAreaBottom"/>
            <a:pathLst>
              <a:path w="21600" h="28762">
                <a:moveTo>
                  <a:pt x="3600" y="0"/>
                </a:moveTo>
                <a:arcTo wR="3600" hR="3600" stAng="16200000" swAng="-5400000"/>
                <a:lnTo>
                  <a:pt x="0" y="25162"/>
                </a:lnTo>
                <a:arcTo wR="3600" hR="3600" stAng="10800000" swAng="-5400000"/>
                <a:lnTo>
                  <a:pt x="18000" y="287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411280" y="36079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396864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378936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0" y="540864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360" y="41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複数の関連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N/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バッチサイズ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+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32720" y="2708280"/>
            <a:ext cx="2160360" cy="37800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1640" y="2708280"/>
            <a:ext cx="1800000" cy="378000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3780000"/>
              <a:gd name="textAreaBottom" fmla="*/ 3692160 h 3780000"/>
            </a:gdLst>
            <a:ahLst/>
            <a:rect l="textAreaLeft" t="textAreaTop" r="textAreaRight" b="textAreaBottom"/>
            <a:pathLst>
              <a:path w="21600" h="45355">
                <a:moveTo>
                  <a:pt x="3600" y="0"/>
                </a:moveTo>
                <a:arcTo wR="3600" hR="3600" stAng="16200000" swAng="-5400000"/>
                <a:lnTo>
                  <a:pt x="0" y="41755"/>
                </a:lnTo>
                <a:arcTo wR="3600" hR="3600" stAng="10800000" swAng="-5400000"/>
                <a:lnTo>
                  <a:pt x="18000" y="453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32000" y="324972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360" y="34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11640" y="3249720"/>
            <a:ext cx="1081080" cy="179856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798560"/>
              <a:gd name="textAreaBottom" fmla="*/ 1746000 h 1798560"/>
            </a:gdLst>
            <a:ahLst/>
            <a:rect l="textAreaLeft" t="textAreaTop" r="textAreaRight" b="textAreaBottom"/>
            <a:pathLst>
              <a:path w="21600" h="35930">
                <a:moveTo>
                  <a:pt x="3600" y="0"/>
                </a:moveTo>
                <a:arcTo wR="3600" hR="3600" stAng="16200000" swAng="-5400000"/>
                <a:lnTo>
                  <a:pt x="0" y="32330"/>
                </a:lnTo>
                <a:arcTo wR="3600" hR="3600" stAng="10800000" swAng="-5400000"/>
                <a:lnTo>
                  <a:pt x="18000" y="359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11280" y="36082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411280" y="3608280"/>
            <a:ext cx="108108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11280" y="46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51280" y="2708280"/>
            <a:ext cx="3600360" cy="360360"/>
          </a:xfrm>
          <a:prstGeom prst="leftArrow">
            <a:avLst>
              <a:gd name="adj1" fmla="val 50000"/>
              <a:gd name="adj2" fmla="val 24977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37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432900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360" y="396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360" y="45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411280" y="5587560"/>
            <a:ext cx="1081080" cy="1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576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540864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2360" y="540864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2360" y="595008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51280" y="4148280"/>
            <a:ext cx="1800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バッチサイズが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br>
              <a:rPr sz="18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※実際にはバッチサイズ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はうまく動作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11640" y="5229360"/>
            <a:ext cx="1081080" cy="1258920"/>
          </a:xfrm>
          <a:custGeom>
            <a:avLst/>
            <a:gdLst>
              <a:gd name="textAreaLeft" fmla="*/ 52560 w 1081080"/>
              <a:gd name="textAreaRight" fmla="*/ 1028520 w 1081080"/>
              <a:gd name="textAreaTop" fmla="*/ 52560 h 1258920"/>
              <a:gd name="textAreaBottom" fmla="*/ 1206360 h 1258920"/>
            </a:gdLst>
            <a:ahLst/>
            <a:rect l="textAreaLeft" t="textAreaTop" r="textAreaRight" b="textAreaBottom"/>
            <a:pathLst>
              <a:path w="21600" h="25152">
                <a:moveTo>
                  <a:pt x="3600" y="0"/>
                </a:moveTo>
                <a:arcTo wR="3600" hR="3600" stAng="16200000" swAng="-5400000"/>
                <a:lnTo>
                  <a:pt x="0" y="21552"/>
                </a:lnTo>
                <a:arcTo wR="3600" hR="3600" stAng="10800000" swAng="-5400000"/>
                <a:lnTo>
                  <a:pt x="18000" y="251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5587920"/>
            <a:ext cx="1979640" cy="360360"/>
          </a:xfrm>
          <a:prstGeom prst="leftArrow">
            <a:avLst>
              <a:gd name="adj1" fmla="val 50000"/>
              <a:gd name="adj2" fmla="val 1373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元と関連先をまとめて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回数を低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外部結合を使った問い合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732720" y="3429000"/>
            <a:ext cx="216036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429000"/>
            <a:ext cx="3600360" cy="28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32000" y="378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36115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411280" y="378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11280" y="414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411280" y="5229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11280" y="558972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51280" y="468936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32000" y="5229360"/>
            <a:ext cx="1079280" cy="7207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492360" y="432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92360" y="504972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769000"/>
            <a:ext cx="719280" cy="360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問い合わせ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問い合わせの指定と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D(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主キー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によるロード時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(load/ge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のナビゲート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の指定に従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ァイル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azy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の永続クラス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する関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atch-siz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2360" y="4508640"/>
            <a:ext cx="7200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349360"/>
            <a:ext cx="72007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lass name="..." lazy="true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batch-size="3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概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ッピングファイル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多対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対多関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92360" y="1808280"/>
            <a:ext cx="72007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one-to-one name="..." 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constrained="true" 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92360" y="360828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many-to-on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92360" y="5408640"/>
            <a:ext cx="7200720" cy="72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s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="..."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outer-join="true"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深さ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関連をいくつまで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深すぎると無駄な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アクセスが増え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.max_fetch_dep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パティで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の数ではない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対多関連の関連テーブルは数えな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5092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72360" y="32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321280" y="2078640"/>
            <a:ext cx="179280" cy="3600360"/>
          </a:xfrm>
          <a:custGeom>
            <a:avLst/>
            <a:gdLst>
              <a:gd name="textAreaLeft" fmla="*/ 0 w 179280"/>
              <a:gd name="textAreaRight" fmla="*/ 64800 w 17928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39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デフォル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rot="5400000">
            <a:off x="3401640" y="1898280"/>
            <a:ext cx="179640" cy="5761080"/>
          </a:xfrm>
          <a:custGeom>
            <a:avLst/>
            <a:gdLst>
              <a:gd name="textAreaLeft" fmla="*/ 0 w 179640"/>
              <a:gd name="textAreaRight" fmla="*/ 64800 w 179640"/>
              <a:gd name="textAreaTop" fmla="*/ 150120 h 5761080"/>
              <a:gd name="textAreaBottom" fmla="*/ 5610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486900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max_fetch_depth=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場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7164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932360" y="2889360"/>
            <a:ext cx="144000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093080" y="2889360"/>
            <a:ext cx="1439640" cy="718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Criteria#setFetchMode()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指定がないとマッピングファイルに従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Criteria(Order.class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setFetchMode("item", FetchMode.EAGER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を指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明示的に結合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Q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はマッピングファイルの指定を無視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暗黙的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しな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結合されていない関連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にな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2360" y="1808280"/>
            <a:ext cx="7200720" cy="143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ssion.createQuery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"from Order o </a:t>
            </a:r>
            <a:r>
              <a:rPr b="0" lang="ja-JP" sz="2400" spc="-1" strike="noStrike">
                <a:solidFill>
                  <a:srgbClr val="ff0000"/>
                </a:solidFill>
                <a:latin typeface="Arial"/>
              </a:rPr>
              <a:t>left outer join fet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o.item")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   .list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を基本にす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では原則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不要な問い合せを避けるた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必要に応じ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問い合わせで明示的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神経質になりすぎな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フォーマンスを測定して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ある程度お任せしてこそ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使う甲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ッピングフレームワー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へのアクセスを簡単に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オープン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ライセンス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G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Gavin King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氏が中心に開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全体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32720" y="1268280"/>
            <a:ext cx="2160360" cy="28814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268280"/>
            <a:ext cx="2160360" cy="2881440"/>
          </a:xfrm>
          <a:custGeom>
            <a:avLst/>
            <a:gdLst>
              <a:gd name="textAreaLeft" fmla="*/ 105120 w 2160360"/>
              <a:gd name="textAreaRight" fmla="*/ 2055240 w 2160360"/>
              <a:gd name="textAreaTop" fmla="*/ 105120 h 2881440"/>
              <a:gd name="textAreaBottom" fmla="*/ 2776320 h 2881440"/>
            </a:gdLst>
            <a:ahLst/>
            <a:rect l="textAreaLeft" t="textAreaTop" r="textAreaRight" b="textAreaBottom"/>
            <a:pathLst>
              <a:path w="21600" h="28808">
                <a:moveTo>
                  <a:pt x="3600" y="0"/>
                </a:moveTo>
                <a:arcTo wR="3600" hR="3600" stAng="16200000" swAng="-5400000"/>
                <a:lnTo>
                  <a:pt x="0" y="25208"/>
                </a:lnTo>
                <a:arcTo wR="3600" hR="3600" stAng="10800000" swAng="-5400000"/>
                <a:lnTo>
                  <a:pt x="18000" y="288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永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クラ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2000" y="1268280"/>
            <a:ext cx="2880000" cy="2881440"/>
          </a:xfrm>
          <a:custGeom>
            <a:avLst/>
            <a:gdLst>
              <a:gd name="textAreaLeft" fmla="*/ 140400 w 2880000"/>
              <a:gd name="textAreaRight" fmla="*/ 2739600 w 2880000"/>
              <a:gd name="textAreaTop" fmla="*/ 140400 h 2881440"/>
              <a:gd name="textAreaBottom" fmla="*/ 2741040 h 2881440"/>
            </a:gdLst>
            <a:ahLst/>
            <a:rect l="textAreaLeft" t="textAreaTop" r="textAreaRight" b="textAreaBottom"/>
            <a:pathLst>
              <a:path w="21600" h="21611">
                <a:moveTo>
                  <a:pt x="3600" y="0"/>
                </a:moveTo>
                <a:arcTo wR="3600" hR="3600" stAng="16200000" swAng="-5400000"/>
                <a:lnTo>
                  <a:pt x="0" y="18011"/>
                </a:lnTo>
                <a:arcTo wR="3600" hR="3600" stAng="10800000" swAng="-5400000"/>
                <a:lnTo>
                  <a:pt x="18000" y="216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ffff99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4869000"/>
            <a:ext cx="2880000" cy="143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マッピン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ファイ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12000" y="2349360"/>
            <a:ext cx="720720" cy="720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11640" y="4149720"/>
            <a:ext cx="720720" cy="7207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2000" y="4149720"/>
            <a:ext cx="2520720" cy="1440000"/>
          </a:xfrm>
          <a:custGeom>
            <a:avLst/>
            <a:gdLst>
              <a:gd name="textAreaLeft" fmla="*/ 723600 w 2520720"/>
              <a:gd name="textAreaRight" fmla="*/ 2158920 w 2520720"/>
              <a:gd name="textAreaTop" fmla="*/ 829440 h 1440000"/>
              <a:gd name="textAreaBottom" fmla="*/ 123336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151640" y="3609360"/>
            <a:ext cx="1440000" cy="2520720"/>
          </a:xfrm>
          <a:custGeom>
            <a:avLst/>
            <a:gdLst>
              <a:gd name="textAreaLeft" fmla="*/ 413280 w 1440000"/>
              <a:gd name="textAreaRight" fmla="*/ 1233360 w 1440000"/>
              <a:gd name="textAreaTop" fmla="*/ 1451880 h 2520720"/>
              <a:gd name="textAreaBottom" fmla="*/ 215892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34000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Doc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5589720"/>
            <a:ext cx="216036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iddl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bm2d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272360" y="3068640"/>
            <a:ext cx="1081080" cy="5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3272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93080" y="30686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272360" y="32479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72360" y="34275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1640" y="2708280"/>
            <a:ext cx="72072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92000" y="3068280"/>
            <a:ext cx="54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1331640" y="3068280"/>
            <a:ext cx="53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3429000"/>
            <a:ext cx="719280" cy="358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1280" y="3429000"/>
            <a:ext cx="72072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は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柔軟なマッピン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多対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・多対多，単方向・双方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対多関連はコレクション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配列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ag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表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継承のマッピン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強力な問い合せ言語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HQ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部結合が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集計関数も使用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情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書籍・雑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Manning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 in Acti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技術評論社「オープンソース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プロダクツ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翔泳社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ガジン」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月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公式サイト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ファレンスの日本語訳あり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hibernate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@I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簡単なプログラムで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/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マッピン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tmarkit.co.jp/fjava/rensai3/ormap01/ormap01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入門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wikiroom.com/koichik/?Hibernate%20%C6%FE%CC%E7%B5%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いつフェッチが発生する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方法の指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戦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っ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bernate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が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RDB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から永続オブジェクト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ロードするこ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文が発行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永続オブジェクトがインスタンス化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1640" y="3429000"/>
            <a:ext cx="1441440" cy="287964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RD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51280" y="3429000"/>
            <a:ext cx="2701800" cy="2879640"/>
          </a:xfrm>
          <a:custGeom>
            <a:avLst/>
            <a:gdLst>
              <a:gd name="textAreaLeft" fmla="*/ 131760 w 2701800"/>
              <a:gd name="textAreaRight" fmla="*/ 2570040 w 2701800"/>
              <a:gd name="textAreaTop" fmla="*/ 131760 h 2879640"/>
              <a:gd name="textAreaBottom" fmla="*/ 2747880 h 2879640"/>
            </a:gdLst>
            <a:ahLst/>
            <a:rect l="textAreaLeft" t="textAreaTop" r="textAreaRight" b="textAreaBottom"/>
            <a:pathLst>
              <a:path w="21600" h="23022">
                <a:moveTo>
                  <a:pt x="3600" y="0"/>
                </a:moveTo>
                <a:arcTo wR="3600" hR="3600" stAng="16200000" swAng="-5400000"/>
                <a:lnTo>
                  <a:pt x="0" y="19422"/>
                </a:lnTo>
                <a:arcTo wR="3600" hR="3600" stAng="10800000" swAng="-5400000"/>
                <a:lnTo>
                  <a:pt x="18000" y="2302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Hibern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11640" y="5589720"/>
            <a:ext cx="198108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キャッシ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32360" y="3968640"/>
            <a:ext cx="1440000" cy="360360"/>
          </a:xfrm>
          <a:prstGeom prst="rightArrow">
            <a:avLst>
              <a:gd name="adj1" fmla="val 50000"/>
              <a:gd name="adj2" fmla="val 99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360828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72000" y="4508640"/>
            <a:ext cx="1800360" cy="360360"/>
          </a:xfrm>
          <a:prstGeom prst="leftArrow">
            <a:avLst>
              <a:gd name="adj1" fmla="val 50000"/>
              <a:gd name="adj2" fmla="val 1249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2000" y="4870440"/>
            <a:ext cx="1081080" cy="54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32720" y="4870440"/>
            <a:ext cx="0" cy="5396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2000" y="504972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5229360"/>
            <a:ext cx="1081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32360" y="5408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結果セッ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1640" y="4329000"/>
            <a:ext cx="1981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スタンス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5049720"/>
            <a:ext cx="900000" cy="5400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71640" y="450864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31640" y="4868640"/>
            <a:ext cx="900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1332000" y="4868640"/>
            <a:ext cx="900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32000" y="48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71640" y="4508640"/>
            <a:ext cx="1260360" cy="360360"/>
          </a:xfrm>
          <a:prstGeom prst="leftArrow">
            <a:avLst>
              <a:gd name="adj1" fmla="val 50000"/>
              <a:gd name="adj2" fmla="val 8743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28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71640" y="5229360"/>
            <a:ext cx="720720" cy="3585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種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は後で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Batch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Laz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フェッチのバリエーショ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のいくつかを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Eager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フェッ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関連先もまとめてフェッ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小林浩一</cp:lastModifiedBy>
  <dcterms:modified xsi:type="dcterms:W3CDTF">2004-11-16T17:10:25Z</dcterms:modified>
  <cp:revision>62</cp:revision>
  <dc:subject/>
  <dc:title>スライド 1</dc:title>
</cp:coreProperties>
</file>