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1613-13C0-4C85-94D5-432920C160AC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8EA2-4786-4165-BC4C-6C0E53DC3CED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はじめての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easar2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コンテナ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+AOP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u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んな風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行うのはコンポーネント単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全てのオブジェクトというわけ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内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ごく普通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呼び出さ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他コンポーネン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という形にまとめるに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業務、システムという観点の単一機能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われる場所が一カ所でも構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使う側の視点で考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93760" y="2981160"/>
            <a:ext cx="343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1560" y="5987880"/>
            <a:ext cx="2161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割を明確にするために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26920" y="3284640"/>
            <a:ext cx="2016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依存関係</a:t>
            </a:r>
            <a:r>
              <a:rPr b="0" lang="ja-JP" sz="3200" spc="-1" strike="noStrike" u="sng">
                <a:solidFill>
                  <a:srgbClr val="ff5050"/>
                </a:solidFill>
                <a:uFillTx/>
                <a:latin typeface="Arial"/>
              </a:rPr>
              <a:t>反転</a:t>
            </a:r>
            <a:r>
              <a:rPr b="0" lang="en-US" sz="3200" spc="-1" strike="noStrike" u="sng">
                <a:solidFill>
                  <a:srgbClr val="ff5050"/>
                </a:solidFill>
                <a:uFillTx/>
                <a:latin typeface="Arial"/>
              </a:rPr>
              <a:t>原則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則って考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上層も下層も抽象にのみ依存するべ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抽象が詳細に依存してはならない、という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依存関係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反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原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2920" y="350028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350208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22560" y="3573360"/>
            <a:ext cx="43164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3" idx="3"/>
            <a:endCxn id="184" idx="1"/>
          </p:cNvCxnSpPr>
          <p:nvPr/>
        </p:nvCxnSpPr>
        <p:spPr>
          <a:xfrm>
            <a:off x="1618920" y="3717720"/>
            <a:ext cx="43236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87" name=""/>
          <p:cNvSpPr/>
          <p:nvPr/>
        </p:nvSpPr>
        <p:spPr>
          <a:xfrm>
            <a:off x="4788000" y="3429000"/>
            <a:ext cx="3887640" cy="28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393228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580000" y="4076640"/>
            <a:ext cx="576000" cy="433440"/>
            <a:chOff x="5580000" y="4076640"/>
            <a:chExt cx="576000" cy="433440"/>
          </a:xfrm>
        </p:grpSpPr>
        <p:sp>
          <p:nvSpPr>
            <p:cNvPr id="190" name=""/>
            <p:cNvSpPr/>
            <p:nvPr/>
          </p:nvSpPr>
          <p:spPr>
            <a:xfrm>
              <a:off x="5580000" y="4076640"/>
              <a:ext cx="57600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51280" y="4149720"/>
              <a:ext cx="43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948360" y="4149720"/>
            <a:ext cx="720720" cy="649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2" idx="1"/>
            <a:endCxn id="190" idx="3"/>
          </p:cNvCxnSpPr>
          <p:nvPr/>
        </p:nvCxnSpPr>
        <p:spPr>
          <a:xfrm rot="10800000">
            <a:off x="6155640" y="4291920"/>
            <a:ext cx="792720" cy="183240"/>
          </a:xfrm>
          <a:prstGeom prst="curvedConnector5">
            <a:avLst>
              <a:gd name="adj1" fmla="val 50068"/>
              <a:gd name="adj2" fmla="val 50000"/>
              <a:gd name="adj3" fmla="val 50068"/>
            </a:avLst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94" name=""/>
          <p:cNvSpPr/>
          <p:nvPr/>
        </p:nvSpPr>
        <p:spPr>
          <a:xfrm>
            <a:off x="1835280" y="4363920"/>
            <a:ext cx="2016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4579920"/>
            <a:ext cx="57636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059280" y="4581360"/>
            <a:ext cx="576000" cy="431640"/>
            <a:chOff x="3059280" y="4581360"/>
            <a:chExt cx="576000" cy="431640"/>
          </a:xfrm>
        </p:grpSpPr>
        <p:sp>
          <p:nvSpPr>
            <p:cNvPr id="197" name=""/>
            <p:cNvSpPr/>
            <p:nvPr/>
          </p:nvSpPr>
          <p:spPr>
            <a:xfrm>
              <a:off x="3059280" y="4581360"/>
              <a:ext cx="576000" cy="43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30560" y="4654080"/>
              <a:ext cx="432000" cy="358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9" name=""/>
          <p:cNvCxnSpPr>
            <a:stCxn id="195" idx="3"/>
            <a:endCxn id="197" idx="1"/>
          </p:cNvCxnSpPr>
          <p:nvPr/>
        </p:nvCxnSpPr>
        <p:spPr>
          <a:xfrm>
            <a:off x="2627280" y="4797000"/>
            <a:ext cx="432720" cy="1080"/>
          </a:xfrm>
          <a:prstGeom prst="curvedConnector2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00" name=""/>
          <p:cNvSpPr/>
          <p:nvPr/>
        </p:nvSpPr>
        <p:spPr>
          <a:xfrm>
            <a:off x="2843280" y="5445000"/>
            <a:ext cx="1008000" cy="8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5661000"/>
            <a:ext cx="576000" cy="43344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3930480"/>
            <a:ext cx="28548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3640" y="5011560"/>
            <a:ext cx="285840" cy="1461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202" idx="3"/>
            <a:endCxn id="195" idx="0"/>
          </p:cNvCxnSpPr>
          <p:nvPr/>
        </p:nvCxnSpPr>
        <p:spPr>
          <a:xfrm>
            <a:off x="2338560" y="407664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5" name=""/>
          <p:cNvCxnSpPr>
            <a:stCxn id="203" idx="3"/>
            <a:endCxn id="201" idx="0"/>
          </p:cNvCxnSpPr>
          <p:nvPr/>
        </p:nvCxnSpPr>
        <p:spPr>
          <a:xfrm>
            <a:off x="3346560" y="5157720"/>
            <a:ext cx="2160" cy="504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06" name=""/>
          <p:cNvSpPr/>
          <p:nvPr/>
        </p:nvSpPr>
        <p:spPr>
          <a:xfrm flipV="1">
            <a:off x="1476360" y="4437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58920" y="4437000"/>
            <a:ext cx="0" cy="173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19280" y="544500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8080" y="457992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80800" y="350028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受け口にセットするイメー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3280" y="5373720"/>
            <a:ext cx="1152720" cy="86508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43640" y="5516640"/>
            <a:ext cx="576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15280" y="5589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00720" y="4869000"/>
            <a:ext cx="792360" cy="431640"/>
          </a:xfrm>
          <a:prstGeom prst="downArrow">
            <a:avLst>
              <a:gd name="adj1" fmla="val 47491"/>
              <a:gd name="adj2" fmla="val 49264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13560" y="55166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利用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97800" y="3103560"/>
            <a:ext cx="11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プリケーション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例）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構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周り → 業務ロジック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業務ロジック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画面種類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補助ロジッ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O -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ーブル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taSour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Poo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- 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標準があ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の種類数くら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09560" y="5950080"/>
            <a:ext cx="30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設定ファイルは分割と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可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開発期間短縮のための並行開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作業を分け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決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頻繁に変えるものでは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だけ知っていれば使える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モックを用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を使った単体テストをやり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単機能ごとなのでモックもシンプ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AO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モックを用意して業務ロジック自動テス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33480" y="2486160"/>
            <a:ext cx="722520" cy="52992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4508640"/>
            <a:ext cx="1871640" cy="143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ック利用単体テスト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番用、テスト用の設定ファイルを用意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ファイルごと切り替え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4328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4795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58920" y="4795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5640" y="497988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8" idx="3"/>
            <a:endCxn id="226" idx="1"/>
          </p:cNvCxnSpPr>
          <p:nvPr/>
        </p:nvCxnSpPr>
        <p:spPr>
          <a:xfrm>
            <a:off x="2268000" y="497628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1" name=""/>
          <p:cNvCxnSpPr>
            <a:stCxn id="226" idx="3"/>
            <a:endCxn id="232" idx="1"/>
          </p:cNvCxnSpPr>
          <p:nvPr/>
        </p:nvCxnSpPr>
        <p:spPr>
          <a:xfrm>
            <a:off x="3274560" y="4976280"/>
            <a:ext cx="505800" cy="577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33" name=""/>
          <p:cNvCxnSpPr>
            <a:stCxn id="226" idx="3"/>
            <a:endCxn id="227" idx="1"/>
          </p:cNvCxnSpPr>
          <p:nvPr/>
        </p:nvCxnSpPr>
        <p:spPr>
          <a:xfrm>
            <a:off x="3274560" y="497628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4" name=""/>
          <p:cNvSpPr/>
          <p:nvPr/>
        </p:nvSpPr>
        <p:spPr>
          <a:xfrm>
            <a:off x="5003640" y="530064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2" idx="3"/>
            <a:endCxn id="234" idx="2"/>
          </p:cNvCxnSpPr>
          <p:nvPr/>
        </p:nvCxnSpPr>
        <p:spPr>
          <a:xfrm>
            <a:off x="4211640" y="5552640"/>
            <a:ext cx="7927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36" name=""/>
          <p:cNvSpPr/>
          <p:nvPr/>
        </p:nvSpPr>
        <p:spPr>
          <a:xfrm>
            <a:off x="539640" y="29829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80000" y="537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56000" y="1844640"/>
            <a:ext cx="187164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843280" y="21319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58920" y="2131920"/>
            <a:ext cx="10094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9" idx="3"/>
            <a:endCxn id="238" idx="1"/>
          </p:cNvCxnSpPr>
          <p:nvPr/>
        </p:nvCxnSpPr>
        <p:spPr>
          <a:xfrm>
            <a:off x="2268000" y="2312640"/>
            <a:ext cx="57564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1" name=""/>
          <p:cNvCxnSpPr>
            <a:stCxn id="238" idx="3"/>
            <a:endCxn id="242" idx="1"/>
          </p:cNvCxnSpPr>
          <p:nvPr/>
        </p:nvCxnSpPr>
        <p:spPr>
          <a:xfrm>
            <a:off x="3274560" y="2313000"/>
            <a:ext cx="505800" cy="5752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43" name=""/>
          <p:cNvCxnSpPr>
            <a:stCxn id="238" idx="3"/>
            <a:endCxn id="244" idx="1"/>
          </p:cNvCxnSpPr>
          <p:nvPr/>
        </p:nvCxnSpPr>
        <p:spPr>
          <a:xfrm>
            <a:off x="3274560" y="2312640"/>
            <a:ext cx="505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44" name=""/>
          <p:cNvSpPr/>
          <p:nvPr/>
        </p:nvSpPr>
        <p:spPr>
          <a:xfrm>
            <a:off x="3780000" y="2133720"/>
            <a:ext cx="431640" cy="35856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80000" y="2708280"/>
            <a:ext cx="431640" cy="358920"/>
          </a:xfrm>
          <a:prstGeom prst="plus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35280" y="5156280"/>
            <a:ext cx="722160" cy="53028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1800" y="564516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番用設定ファイ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23162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643280" y="191628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Mock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3280" y="4570560"/>
            <a:ext cx="4175280" cy="1737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.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04000" y="2708280"/>
            <a:ext cx="342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テスト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簡単にでき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有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Uni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拡張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新しい考え方を身につけないといけ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ただ使うだけなら難しく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有効に使う設計を考えるとちょっと難し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ソースコードだけでは処理を追え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設定ファイルを使うことのデ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で軽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2.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用している方はごめんな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使い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の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引数を渡す感覚の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clipse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ラグインあ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ェックとコード補完、ツリー表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処理で使われる内部処理を直接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Groovy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256360" y="981000"/>
            <a:ext cx="3779640" cy="2303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8388360" y="33163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08120" y="1941480"/>
            <a:ext cx="287280" cy="289080"/>
          </a:xfrm>
          <a:prstGeom prst="ellipse">
            <a:avLst/>
          </a:prstGeom>
          <a:noFill/>
          <a:ln w="381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6156360" y="3357720"/>
            <a:ext cx="2303280" cy="527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146600" y="6093000"/>
            <a:ext cx="2440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満足できない人向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57040" y="4221000"/>
            <a:ext cx="785880" cy="2016360"/>
          </a:xfrm>
          <a:custGeom>
            <a:avLst/>
            <a:gdLst/>
            <a:ahLst/>
            <a:rect l="l" t="t" r="r" b="b"/>
            <a:pathLst>
              <a:path w="495" h="1270">
                <a:moveTo>
                  <a:pt x="269" y="1270"/>
                </a:moveTo>
                <a:cubicBezTo>
                  <a:pt x="230" y="1179"/>
                  <a:pt x="70" y="871"/>
                  <a:pt x="35" y="722"/>
                </a:cubicBezTo>
                <a:cubicBezTo>
                  <a:pt x="0" y="573"/>
                  <a:pt x="38" y="466"/>
                  <a:pt x="62" y="376"/>
                </a:cubicBezTo>
                <a:cubicBezTo>
                  <a:pt x="86" y="286"/>
                  <a:pt x="135" y="237"/>
                  <a:pt x="179" y="184"/>
                </a:cubicBezTo>
                <a:cubicBezTo>
                  <a:pt x="223" y="131"/>
                  <a:pt x="270" y="87"/>
                  <a:pt x="323" y="56"/>
                </a:cubicBezTo>
                <a:cubicBezTo>
                  <a:pt x="376" y="25"/>
                  <a:pt x="459" y="12"/>
                  <a:pt x="49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8200" y="5326200"/>
            <a:ext cx="520560" cy="911160"/>
          </a:xfrm>
          <a:custGeom>
            <a:avLst/>
            <a:gdLst/>
            <a:ahLst/>
            <a:rect l="l" t="t" r="r" b="b"/>
            <a:pathLst>
              <a:path w="328" h="574">
                <a:moveTo>
                  <a:pt x="92" y="574"/>
                </a:moveTo>
                <a:cubicBezTo>
                  <a:pt x="78" y="514"/>
                  <a:pt x="0" y="302"/>
                  <a:pt x="8" y="213"/>
                </a:cubicBezTo>
                <a:cubicBezTo>
                  <a:pt x="16" y="124"/>
                  <a:pt x="88" y="77"/>
                  <a:pt x="141" y="42"/>
                </a:cubicBezTo>
                <a:cubicBezTo>
                  <a:pt x="194" y="7"/>
                  <a:pt x="289" y="9"/>
                  <a:pt x="3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定義する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窓口クラス（必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の初期化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、設定値の設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任意のメソッ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59600" y="328608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380360" y="2997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635960" y="371808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132680" y="3646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62880" y="422100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>
            <a:stCxn id="265" idx="2"/>
            <a:endCxn id="267" idx="0"/>
          </p:cNvCxnSpPr>
          <p:nvPr/>
        </p:nvCxnSpPr>
        <p:spPr>
          <a:xfrm flipH="1">
            <a:off x="7348320" y="3357720"/>
            <a:ext cx="2484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0" name=""/>
          <p:cNvCxnSpPr>
            <a:stCxn id="265" idx="2"/>
            <a:endCxn id="266" idx="0"/>
          </p:cNvCxnSpPr>
          <p:nvPr/>
        </p:nvCxnSpPr>
        <p:spPr>
          <a:xfrm>
            <a:off x="7596000" y="3357360"/>
            <a:ext cx="25596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271" name=""/>
          <p:cNvCxnSpPr>
            <a:stCxn id="266" idx="2"/>
            <a:endCxn id="268" idx="0"/>
          </p:cNvCxnSpPr>
          <p:nvPr/>
        </p:nvCxnSpPr>
        <p:spPr>
          <a:xfrm flipH="1">
            <a:off x="7778520" y="3933720"/>
            <a:ext cx="73440" cy="2880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272" name=""/>
          <p:cNvSpPr/>
          <p:nvPr/>
        </p:nvSpPr>
        <p:spPr>
          <a:xfrm rot="2431800">
            <a:off x="6843240" y="2494080"/>
            <a:ext cx="574920" cy="574560"/>
          </a:xfrm>
          <a:prstGeom prst="rightArrow">
            <a:avLst>
              <a:gd name="adj1" fmla="val 49722"/>
              <a:gd name="adj2" fmla="val 47543"/>
            </a:avLst>
          </a:prstGeom>
          <a:solidFill>
            <a:srgbClr val="ff9999"/>
          </a:solidFill>
          <a:ln w="936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88760" y="1700280"/>
            <a:ext cx="2923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れこそコンポーネントとみなして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292360" y="2100240"/>
            <a:ext cx="35892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コンストラクタ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27640" y="5661000"/>
            <a:ext cx="865080" cy="21600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640" y="3573360"/>
            <a:ext cx="5869080" cy="86364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52360" y="3884760"/>
            <a:ext cx="277200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63640" y="3884760"/>
            <a:ext cx="144000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5640" y="4941720"/>
            <a:ext cx="3672000" cy="100836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92720" y="5589720"/>
            <a:ext cx="309564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" y="1258920"/>
            <a:ext cx="8664480" cy="405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26920" y="5013360"/>
            <a:ext cx="34894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:EmployeeLogic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26920" y="5302080"/>
            <a:ext cx="34894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- employeeDao: 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26920" y="5589720"/>
            <a:ext cx="34894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+ EmployeeLogicImpl(EmployeeDa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64000" y="5661000"/>
            <a:ext cx="2953080" cy="29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employeeDao:EmployeeDaoIm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64000" y="5950080"/>
            <a:ext cx="295308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64000" y="6165720"/>
            <a:ext cx="29530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"/>
          <p:cNvCxnSpPr>
            <a:stCxn id="284" idx="3"/>
            <a:endCxn id="291" idx="2"/>
          </p:cNvCxnSpPr>
          <p:nvPr/>
        </p:nvCxnSpPr>
        <p:spPr>
          <a:xfrm>
            <a:off x="4316400" y="5157360"/>
            <a:ext cx="241704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6732720" y="505152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32720" y="5267160"/>
            <a:ext cx="215640" cy="1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92" idx="3"/>
            <a:endCxn id="287" idx="0"/>
          </p:cNvCxnSpPr>
          <p:nvPr/>
        </p:nvCxnSpPr>
        <p:spPr>
          <a:xfrm>
            <a:off x="6840000" y="5411880"/>
            <a:ext cx="1080" cy="249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94" name=""/>
          <p:cNvSpPr/>
          <p:nvPr/>
        </p:nvSpPr>
        <p:spPr>
          <a:xfrm>
            <a:off x="6838560" y="497988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843280" y="3573360"/>
            <a:ext cx="374472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703200" y="4076640"/>
            <a:ext cx="1552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実装クラス名を書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"/>
          <p:cNvCxnSpPr>
            <a:stCxn id="296" idx="1"/>
            <a:endCxn id="295" idx="4"/>
          </p:cNvCxnSpPr>
          <p:nvPr/>
        </p:nvCxnSpPr>
        <p:spPr>
          <a:xfrm rot="10800000">
            <a:off x="4715640" y="3942720"/>
            <a:ext cx="1656720" cy="33732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298" name=""/>
          <p:cNvSpPr/>
          <p:nvPr/>
        </p:nvSpPr>
        <p:spPr>
          <a:xfrm>
            <a:off x="5219640" y="2421000"/>
            <a:ext cx="3457800" cy="3603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"/>
          <p:cNvCxnSpPr>
            <a:stCxn id="298" idx="4"/>
            <a:endCxn id="296" idx="0"/>
          </p:cNvCxnSpPr>
          <p:nvPr/>
        </p:nvCxnSpPr>
        <p:spPr>
          <a:xfrm flipH="1" rot="16200000">
            <a:off x="6571440" y="3167280"/>
            <a:ext cx="1286640" cy="532800"/>
          </a:xfrm>
          <a:prstGeom prst="curvedConnector5">
            <a:avLst>
              <a:gd name="adj1" fmla="val 49482"/>
              <a:gd name="adj2" fmla="val 49966"/>
              <a:gd name="adj3" fmla="val 49482"/>
            </a:avLst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00" name=""/>
          <p:cNvSpPr/>
          <p:nvPr/>
        </p:nvSpPr>
        <p:spPr>
          <a:xfrm>
            <a:off x="2771640" y="2421000"/>
            <a:ext cx="1584360" cy="360360"/>
          </a:xfrm>
          <a:prstGeom prst="ellipse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2268360" y="3644280"/>
            <a:ext cx="360720" cy="2156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"/>
          <p:cNvCxnSpPr>
            <a:stCxn id="301" idx="3"/>
            <a:endCxn id="300" idx="4"/>
          </p:cNvCxnSpPr>
          <p:nvPr/>
        </p:nvCxnSpPr>
        <p:spPr>
          <a:xfrm flipH="1" flipV="1" rot="5400000">
            <a:off x="2578680" y="2659320"/>
            <a:ext cx="855000" cy="1116720"/>
          </a:xfrm>
          <a:prstGeom prst="curvedConnector5">
            <a:avLst>
              <a:gd name="adj1" fmla="val 50547"/>
              <a:gd name="adj2" fmla="val 49983"/>
              <a:gd name="adj3" fmla="val 50547"/>
            </a:avLst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03" name=""/>
          <p:cNvCxnSpPr>
            <a:stCxn id="287" idx="1"/>
            <a:endCxn id="286" idx="3"/>
          </p:cNvCxnSpPr>
          <p:nvPr/>
        </p:nvCxnSpPr>
        <p:spPr>
          <a:xfrm rot="10800000">
            <a:off x="4315680" y="5734080"/>
            <a:ext cx="1048320" cy="7668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9360">
            <a:solidFill>
              <a:srgbClr val="333399"/>
            </a:solidFill>
            <a:miter/>
            <a:tailEnd len="lg" type="stealth" w="lg"/>
          </a:ln>
        </p:spPr>
      </p:cxn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自動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16000" y="2997360"/>
            <a:ext cx="28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55640" y="1844640"/>
            <a:ext cx="863640" cy="2890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1258920"/>
            <a:ext cx="8664480" cy="289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" y="51436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Dao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mponent class="examples.EmployeeLogicImpl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771640" y="4005360"/>
            <a:ext cx="3745080" cy="1008000"/>
          </a:xfrm>
          <a:prstGeom prst="downArrow">
            <a:avLst>
              <a:gd name="adj1" fmla="val 68380"/>
              <a:gd name="adj2" fmla="val 56694"/>
            </a:avLst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自動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省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358560" cy="3589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108000" y="5373720"/>
            <a:ext cx="358560" cy="3589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755040" y="4437000"/>
            <a:ext cx="16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細かく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N/OF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目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V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略して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 = 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するこ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の仕組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使うの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例（メソッ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3573360"/>
            <a:ext cx="5869080" cy="1727280"/>
          </a:xfrm>
          <a:prstGeom prst="rect">
            <a:avLst/>
          </a:prstGeom>
          <a:solidFill>
            <a:srgbClr val="e7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584360" y="4172040"/>
            <a:ext cx="2771640" cy="26496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5640" y="4172040"/>
            <a:ext cx="143964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7640" y="2421000"/>
            <a:ext cx="8028000" cy="86364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28600" y="1258920"/>
            <a:ext cx="8664480" cy="4920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employeeDao" class="examples.EmployeeDao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EmployeeDao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setup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32720" y="3789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32960" y="422100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書いた順に実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リッ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テスト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ンテナンス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く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692000" y="3141720"/>
            <a:ext cx="576108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73040" y="1916280"/>
            <a:ext cx="270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+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859280" y="2361960"/>
            <a:ext cx="407880" cy="561960"/>
          </a:xfrm>
          <a:prstGeom prst="line">
            <a:avLst/>
          </a:prstGeom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076720" y="1916280"/>
            <a:ext cx="863640" cy="504720"/>
          </a:xfrm>
          <a:prstGeom prst="ellipse">
            <a:avLst/>
          </a:prstGeom>
          <a:noFill/>
          <a:ln w="93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で解決できない問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中心機能に非中心機能が混ざ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再利用したいけど、余計なロジックが入っ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例）トランザクション開始、コミット、ロールバ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の邪魔！　コードの見通し悪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564000" y="4292640"/>
            <a:ext cx="2303280" cy="1150920"/>
          </a:xfrm>
          <a:prstGeom prst="downArrow">
            <a:avLst>
              <a:gd name="adj1" fmla="val 49963"/>
              <a:gd name="adj2" fmla="val 52278"/>
            </a:avLst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5600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4859280" y="4508640"/>
            <a:ext cx="216000" cy="215640"/>
          </a:xfrm>
          <a:custGeom>
            <a:avLst/>
            <a:gdLst/>
            <a:ahLst/>
            <a:rect l="l" t="t" r="r" b="b"/>
            <a:pathLst>
              <a:path w="136" h="136">
                <a:moveTo>
                  <a:pt x="136" y="0"/>
                </a:moveTo>
                <a:cubicBezTo>
                  <a:pt x="127" y="14"/>
                  <a:pt x="125" y="40"/>
                  <a:pt x="84" y="86"/>
                </a:cubicBezTo>
                <a:cubicBezTo>
                  <a:pt x="43" y="132"/>
                  <a:pt x="18" y="126"/>
                  <a:pt x="0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072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861080" y="472428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500720" y="5000760"/>
            <a:ext cx="431640" cy="85680"/>
          </a:xfrm>
          <a:custGeom>
            <a:avLst/>
            <a:gdLst/>
            <a:ahLst/>
            <a:rect l="l" t="t" r="r" b="b"/>
            <a:pathLst>
              <a:path w="272" h="54">
                <a:moveTo>
                  <a:pt x="0" y="53"/>
                </a:moveTo>
                <a:cubicBezTo>
                  <a:pt x="23" y="44"/>
                  <a:pt x="61" y="0"/>
                  <a:pt x="137" y="0"/>
                </a:cubicBezTo>
                <a:cubicBezTo>
                  <a:pt x="213" y="0"/>
                  <a:pt x="244" y="43"/>
                  <a:pt x="272" y="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39960" bIns="39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の分離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非中心機能は外に出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解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大抵は成功時コミット、失敗時ロールバックの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メソッド開始前、終了後に埋め込めば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あちこちで同じ処理を書くから面倒くさ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設定ファイルに「ここで開始」と書くだ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しか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関連メソッド全部で持ち回り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トランザクション管理の仕組みと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140360" y="373392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40360" y="227664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518148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269040" y="6095880"/>
            <a:ext cx="214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いうだけでは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52600" y="5516640"/>
            <a:ext cx="1166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こは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416360" y="5718240"/>
            <a:ext cx="24948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例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iredIntercept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860640"/>
            <a:ext cx="4103640" cy="265320"/>
          </a:xfrm>
          <a:prstGeom prst="rect">
            <a:avLst/>
          </a:prstGeom>
          <a:solidFill>
            <a:srgbClr val="efef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124000" y="3860640"/>
            <a:ext cx="1943280" cy="26532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47640" y="2421000"/>
            <a:ext cx="3708360" cy="28728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28600" y="1258920"/>
            <a:ext cx="8664480" cy="3763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xml version="1.0" encoding="UTF-8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!DOCTYPE components PUBLIC "-//SEASAR//DTD S2Container//E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http://www.seasar.org/dtd/components.dtd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j2ee.dicon"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examples.EmployeeLogicImp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employeeDao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spect&gt;j2ee.requiredTx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116000" y="3788640"/>
            <a:ext cx="3960720" cy="43164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176720" y="4869000"/>
            <a:ext cx="32209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たったこれだけ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J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にトランザクション管理機能追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"/>
          <p:cNvCxnSpPr>
            <a:stCxn id="351" idx="1"/>
            <a:endCxn id="350" idx="0"/>
          </p:cNvCxnSpPr>
          <p:nvPr/>
        </p:nvCxnSpPr>
        <p:spPr>
          <a:xfrm rot="10800000">
            <a:off x="3094920" y="4230720"/>
            <a:ext cx="540360" cy="99396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3" name=""/>
          <p:cNvSpPr/>
          <p:nvPr/>
        </p:nvSpPr>
        <p:spPr>
          <a:xfrm>
            <a:off x="4479480" y="2781360"/>
            <a:ext cx="3349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あらかじ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機能が定義され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3" idx="1"/>
            <a:endCxn id="355" idx="0"/>
          </p:cNvCxnSpPr>
          <p:nvPr/>
        </p:nvCxnSpPr>
        <p:spPr>
          <a:xfrm rot="10800000">
            <a:off x="2518560" y="2786760"/>
            <a:ext cx="1332720" cy="197640"/>
          </a:xfrm>
          <a:prstGeom prst="curvedConnector2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55" name=""/>
          <p:cNvSpPr/>
          <p:nvPr/>
        </p:nvSpPr>
        <p:spPr>
          <a:xfrm flipV="1">
            <a:off x="684360" y="2348280"/>
            <a:ext cx="3671640" cy="428760"/>
          </a:xfrm>
          <a:prstGeom prst="ellipse">
            <a:avLst/>
          </a:prstGeom>
          <a:noFill/>
          <a:ln w="1908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35856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呼び出し前～後に機能を追加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ラッパーとみな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メソッドにのみ織り込め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987640" y="3933720"/>
            <a:ext cx="5184720" cy="1871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516720" y="4433760"/>
            <a:ext cx="1512720" cy="11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132000" y="4290840"/>
            <a:ext cx="324036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88000" y="4651200"/>
            <a:ext cx="1368360" cy="721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A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88000" y="4794120"/>
            <a:ext cx="1368720" cy="7192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ogicCImp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258920" y="4578480"/>
            <a:ext cx="12952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"/>
          <p:cNvCxnSpPr>
            <a:stCxn id="364" idx="3"/>
            <a:endCxn id="361" idx="1"/>
          </p:cNvCxnSpPr>
          <p:nvPr/>
        </p:nvCxnSpPr>
        <p:spPr>
          <a:xfrm>
            <a:off x="2553840" y="4901760"/>
            <a:ext cx="5785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62" idx="3"/>
            <a:endCxn id="360" idx="1"/>
          </p:cNvCxnSpPr>
          <p:nvPr/>
        </p:nvCxnSpPr>
        <p:spPr>
          <a:xfrm>
            <a:off x="6156000" y="5011200"/>
            <a:ext cx="361080" cy="1692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367" name=""/>
          <p:cNvSpPr/>
          <p:nvPr/>
        </p:nvSpPr>
        <p:spPr>
          <a:xfrm>
            <a:off x="3430440" y="3787920"/>
            <a:ext cx="1008360" cy="0"/>
          </a:xfrm>
          <a:prstGeom prst="line">
            <a:avLst/>
          </a:prstGeom>
          <a:ln w="28440">
            <a:solidFill>
              <a:srgbClr val="00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459240" y="33544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処理の流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76720" y="4651200"/>
            <a:ext cx="1439640" cy="71928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0" name=""/>
          <p:cNvCxnSpPr>
            <a:stCxn id="363" idx="2"/>
          </p:cNvCxnSpPr>
          <p:nvPr/>
        </p:nvCxnSpPr>
        <p:spPr>
          <a:xfrm>
            <a:off x="7272000" y="5513400"/>
            <a:ext cx="251640" cy="257760"/>
          </a:xfrm>
          <a:prstGeom prst="straightConnector1">
            <a:avLst/>
          </a:prstGeom>
          <a:ln w="19080">
            <a:solidFill>
              <a:srgbClr val="333399"/>
            </a:solidFill>
            <a:prstDash val="dash"/>
            <a:miter/>
          </a:ln>
        </p:spPr>
      </p:cxnSp>
      <p:sp>
        <p:nvSpPr>
          <p:cNvPr id="371" name=""/>
          <p:cNvSpPr/>
          <p:nvPr/>
        </p:nvSpPr>
        <p:spPr>
          <a:xfrm>
            <a:off x="3144960" y="4727520"/>
            <a:ext cx="3060720" cy="60156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58240" y="3354480"/>
            <a:ext cx="220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ceptor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横取り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355640" y="3714840"/>
            <a:ext cx="129564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332000" y="5877000"/>
            <a:ext cx="3585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69056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050920" y="5877000"/>
            <a:ext cx="360360" cy="647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2520" y="6021360"/>
            <a:ext cx="4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複数定義の場合、行きは設定順、帰りは逆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82920" y="5877000"/>
            <a:ext cx="288720" cy="649080"/>
          </a:xfrm>
          <a:prstGeom prst="rect">
            <a:avLst/>
          </a:prstGeom>
          <a:solidFill>
            <a:srgbClr val="d9d9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042920" y="5950080"/>
            <a:ext cx="1728720" cy="503280"/>
          </a:xfrm>
          <a:custGeom>
            <a:avLst/>
            <a:gdLst/>
            <a:ahLst/>
            <a:rect l="l" t="t" r="r" b="b"/>
            <a:pathLst>
              <a:path w="1928" h="379">
                <a:moveTo>
                  <a:pt x="25" y="94"/>
                </a:moveTo>
                <a:cubicBezTo>
                  <a:pt x="97" y="82"/>
                  <a:pt x="282" y="37"/>
                  <a:pt x="458" y="23"/>
                </a:cubicBezTo>
                <a:cubicBezTo>
                  <a:pt x="634" y="9"/>
                  <a:pt x="858" y="0"/>
                  <a:pt x="1080" y="7"/>
                </a:cubicBezTo>
                <a:cubicBezTo>
                  <a:pt x="1302" y="14"/>
                  <a:pt x="1670" y="9"/>
                  <a:pt x="1789" y="63"/>
                </a:cubicBezTo>
                <a:cubicBezTo>
                  <a:pt x="1908" y="117"/>
                  <a:pt x="1928" y="279"/>
                  <a:pt x="1794" y="329"/>
                </a:cubicBezTo>
                <a:cubicBezTo>
                  <a:pt x="1660" y="379"/>
                  <a:pt x="1216" y="362"/>
                  <a:pt x="983" y="364"/>
                </a:cubicBezTo>
                <a:cubicBezTo>
                  <a:pt x="750" y="366"/>
                  <a:pt x="561" y="368"/>
                  <a:pt x="397" y="339"/>
                </a:cubicBezTo>
                <a:cubicBezTo>
                  <a:pt x="233" y="310"/>
                  <a:pt x="83" y="222"/>
                  <a:pt x="0" y="191"/>
                </a:cubicBezTo>
              </a:path>
            </a:pathLst>
          </a:custGeom>
          <a:noFill/>
          <a:ln cap="rnd" w="38160">
            <a:solidFill>
              <a:srgbClr val="009999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971640" y="5843520"/>
            <a:ext cx="6913440" cy="706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業務ロジックは業務要件に注力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ードの見通しが良いのでメンテナンス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横断的・透過的な機能を外から追加でき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同じ処理を何度も書かなくてす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を促進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余分なものが含まれない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非中心機能は横断的なので再利用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心機能と非中心機能を分離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ードの見通しが良く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非中心機能を後から追加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UR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seasar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The Seasar Project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暫定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cgi.f58.aaacafe.ne.jp/~nyororo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asar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ーリングリス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sourceforge.jp/projects/seasar/list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kakutani.com/trans/fowler/injection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GN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設定ファイル内で利用する式言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ＭＳ 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ttp://www.ognl.org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クラス間の関係をシンプル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雑な関係を簡単にした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教科書的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全然使われなかっ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何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局どこかでインスタンスを作らないといけ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直接作ると意味が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意識しなければなら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一つ一つに作ると大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が変わることなんて滅多にないと思わ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78080" y="6021360"/>
            <a:ext cx="485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入門書の例が悪い →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list = new ArrayLis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を気にせ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えるよう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インスタンス化すると意味が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new EmployeeDaoImpl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インスタンス化は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DI</a:t>
            </a: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コンテナが担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actor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意識すること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mployeeDao dao = DaoFactory.createInstanc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501"/>
              </a:spcBef>
              <a:spcAft>
                <a:spcPts val="28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ff5050"/>
                </a:solidFill>
                <a:latin typeface="Arial"/>
              </a:rPr>
              <a:t>　　コンストラクタ引数やセッターで渡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こ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40360" y="2637000"/>
            <a:ext cx="1155600" cy="43164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5084640"/>
            <a:ext cx="1155600" cy="432000"/>
          </a:xfrm>
          <a:prstGeom prst="downArrow">
            <a:avLst>
              <a:gd name="adj1" fmla="val 48352"/>
              <a:gd name="adj2" fmla="val 610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初期化で困るのはもう止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1258920"/>
            <a:ext cx="866448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直接インスタンス化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new EmployeeDaoImpl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Factory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を使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Dao = DaoFactory.createInstance(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673080" y="12682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3500280"/>
            <a:ext cx="8664480" cy="1158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ストラクタやセッターを用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setEmployeeDao(...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employeeDa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219640" y="4941720"/>
            <a:ext cx="2158920" cy="10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17360" y="522936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2" idx="1"/>
            <a:endCxn id="104" idx="2"/>
          </p:cNvCxnSpPr>
          <p:nvPr/>
        </p:nvCxnSpPr>
        <p:spPr>
          <a:xfrm rot="10800000">
            <a:off x="4318920" y="4075920"/>
            <a:ext cx="1045080" cy="1413720"/>
          </a:xfrm>
          <a:prstGeom prst="curvedConnector2">
            <a:avLst/>
          </a:prstGeom>
          <a:ln w="19080">
            <a:solidFill>
              <a:srgbClr val="333399"/>
            </a:solidFill>
            <a:miter/>
            <a:tailEnd len="lg" type="stealth" w="lg"/>
          </a:ln>
        </p:spPr>
      </p:cxnSp>
      <p:sp>
        <p:nvSpPr>
          <p:cNvPr id="105" name=""/>
          <p:cNvSpPr/>
          <p:nvPr/>
        </p:nvSpPr>
        <p:spPr>
          <a:xfrm>
            <a:off x="1836720" y="508464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成済みのインスタンスを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67280" y="3789360"/>
            <a:ext cx="504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78640" y="3213000"/>
            <a:ext cx="91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600" spc="-1" strike="noStrike">
                <a:solidFill>
                  <a:srgbClr val="ff5050"/>
                </a:solidFill>
                <a:latin typeface="Arial"/>
              </a:rPr>
              <a:t>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ependency Inje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ターンが技術基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ソフトウェアをコンポーネント単位に分割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装に依存しないよう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依存関係を管理する仕組みを用意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1440" y="3645000"/>
            <a:ext cx="1006560" cy="57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ター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573408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65600" y="6237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初期化時、設定を元にコンポーネントを他コンポーネントへ渡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700000" y="4221000"/>
            <a:ext cx="115092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35280" y="4294080"/>
            <a:ext cx="107928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24360" y="4438800"/>
            <a:ext cx="1079640" cy="122364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4000" y="3933720"/>
            <a:ext cx="57636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4076640"/>
            <a:ext cx="5760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941720"/>
            <a:ext cx="1079640" cy="1224000"/>
          </a:xfrm>
          <a:prstGeom prst="rect">
            <a:avLst/>
          </a:prstGeom>
          <a:solidFill>
            <a:srgbClr val="e7e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95640" y="4581360"/>
            <a:ext cx="576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400536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8000" y="465444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38560" y="522936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9" idx="2"/>
            <a:endCxn id="121" idx="0"/>
          </p:cNvCxnSpPr>
          <p:nvPr/>
        </p:nvCxnSpPr>
        <p:spPr>
          <a:xfrm flipH="1">
            <a:off x="2123640" y="4365720"/>
            <a:ext cx="28800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4" name=""/>
          <p:cNvCxnSpPr>
            <a:stCxn id="119" idx="2"/>
            <a:endCxn id="120" idx="0"/>
          </p:cNvCxnSpPr>
          <p:nvPr/>
        </p:nvCxnSpPr>
        <p:spPr>
          <a:xfrm>
            <a:off x="2411280" y="4365360"/>
            <a:ext cx="216720" cy="36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25" name=""/>
          <p:cNvCxnSpPr>
            <a:stCxn id="120" idx="2"/>
            <a:endCxn id="122" idx="0"/>
          </p:cNvCxnSpPr>
          <p:nvPr/>
        </p:nvCxnSpPr>
        <p:spPr>
          <a:xfrm flipH="1">
            <a:off x="2553480" y="4941360"/>
            <a:ext cx="73800" cy="2883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26" name=""/>
          <p:cNvSpPr/>
          <p:nvPr/>
        </p:nvSpPr>
        <p:spPr>
          <a:xfrm>
            <a:off x="4067280" y="465444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84720" y="5589720"/>
            <a:ext cx="431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0000" y="537372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24360" y="5878440"/>
            <a:ext cx="431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6" idx="2"/>
            <a:endCxn id="128" idx="0"/>
          </p:cNvCxnSpPr>
          <p:nvPr/>
        </p:nvCxnSpPr>
        <p:spPr>
          <a:xfrm flipH="1">
            <a:off x="3995280" y="5014440"/>
            <a:ext cx="288000" cy="359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1" name=""/>
          <p:cNvCxnSpPr>
            <a:stCxn id="126" idx="2"/>
            <a:endCxn id="127" idx="0"/>
          </p:cNvCxnSpPr>
          <p:nvPr/>
        </p:nvCxnSpPr>
        <p:spPr>
          <a:xfrm>
            <a:off x="4282560" y="5014440"/>
            <a:ext cx="218520" cy="5756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2" name=""/>
          <p:cNvCxnSpPr>
            <a:stCxn id="128" idx="2"/>
            <a:endCxn id="129" idx="0"/>
          </p:cNvCxnSpPr>
          <p:nvPr/>
        </p:nvCxnSpPr>
        <p:spPr>
          <a:xfrm>
            <a:off x="3995640" y="5589720"/>
            <a:ext cx="145440" cy="289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3" name=""/>
          <p:cNvSpPr/>
          <p:nvPr/>
        </p:nvSpPr>
        <p:spPr>
          <a:xfrm>
            <a:off x="6083280" y="4149720"/>
            <a:ext cx="4320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726080"/>
            <a:ext cx="43200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5014800"/>
            <a:ext cx="43200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3" idx="2"/>
            <a:endCxn id="134" idx="0"/>
          </p:cNvCxnSpPr>
          <p:nvPr/>
        </p:nvCxnSpPr>
        <p:spPr>
          <a:xfrm flipH="1">
            <a:off x="6082920" y="4510080"/>
            <a:ext cx="216720" cy="2167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37" name=""/>
          <p:cNvCxnSpPr>
            <a:stCxn id="134" idx="3"/>
            <a:endCxn id="135" idx="0"/>
          </p:cNvCxnSpPr>
          <p:nvPr/>
        </p:nvCxnSpPr>
        <p:spPr>
          <a:xfrm>
            <a:off x="6299280" y="4834080"/>
            <a:ext cx="218160" cy="1814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38" name=""/>
          <p:cNvSpPr/>
          <p:nvPr/>
        </p:nvSpPr>
        <p:spPr>
          <a:xfrm>
            <a:off x="2638440" y="3998880"/>
            <a:ext cx="1544760" cy="592200"/>
          </a:xfrm>
          <a:custGeom>
            <a:avLst/>
            <a:gdLst/>
            <a:ahLst/>
            <a:rect l="l" t="t" r="r" b="b"/>
            <a:pathLst>
              <a:path w="973" h="373">
                <a:moveTo>
                  <a:pt x="972" y="373"/>
                </a:moveTo>
                <a:cubicBezTo>
                  <a:pt x="958" y="321"/>
                  <a:pt x="973" y="122"/>
                  <a:pt x="888" y="61"/>
                </a:cubicBezTo>
                <a:cubicBezTo>
                  <a:pt x="803" y="0"/>
                  <a:pt x="610" y="2"/>
                  <a:pt x="462" y="7"/>
                </a:cubicBezTo>
                <a:cubicBezTo>
                  <a:pt x="314" y="12"/>
                  <a:pt x="96" y="74"/>
                  <a:pt x="0" y="91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92720" y="3990960"/>
            <a:ext cx="1666800" cy="601560"/>
          </a:xfrm>
          <a:custGeom>
            <a:avLst/>
            <a:gdLst/>
            <a:ahLst/>
            <a:rect l="l" t="t" r="r" b="b"/>
            <a:pathLst>
              <a:path w="1050" h="379">
                <a:moveTo>
                  <a:pt x="0" y="379"/>
                </a:moveTo>
                <a:cubicBezTo>
                  <a:pt x="14" y="332"/>
                  <a:pt x="6" y="159"/>
                  <a:pt x="84" y="97"/>
                </a:cubicBezTo>
                <a:cubicBezTo>
                  <a:pt x="162" y="35"/>
                  <a:pt x="307" y="0"/>
                  <a:pt x="468" y="7"/>
                </a:cubicBezTo>
                <a:cubicBezTo>
                  <a:pt x="629" y="14"/>
                  <a:pt x="929" y="112"/>
                  <a:pt x="1050" y="139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610000" y="3733920"/>
            <a:ext cx="3495600" cy="342720"/>
          </a:xfrm>
          <a:custGeom>
            <a:avLst/>
            <a:gdLst/>
            <a:ahLst/>
            <a:rect l="l" t="t" r="r" b="b"/>
            <a:pathLst>
              <a:path w="2202" h="216">
                <a:moveTo>
                  <a:pt x="2202" y="216"/>
                </a:moveTo>
                <a:cubicBezTo>
                  <a:pt x="2076" y="185"/>
                  <a:pt x="1710" y="60"/>
                  <a:pt x="1446" y="30"/>
                </a:cubicBezTo>
                <a:cubicBezTo>
                  <a:pt x="1182" y="0"/>
                  <a:pt x="859" y="10"/>
                  <a:pt x="618" y="36"/>
                </a:cubicBezTo>
                <a:cubicBezTo>
                  <a:pt x="377" y="62"/>
                  <a:pt x="129" y="155"/>
                  <a:pt x="0" y="186"/>
                </a:cubicBezTo>
              </a:path>
            </a:pathLst>
          </a:custGeom>
          <a:noFill/>
          <a:ln w="19080">
            <a:solidFill>
              <a:srgbClr val="3333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94000" y="9810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依存性注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19640" y="378936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88000" y="4005360"/>
            <a:ext cx="432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36680" y="3429000"/>
            <a:ext cx="185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生成順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任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76720" y="1916280"/>
            <a:ext cx="3024000" cy="187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動作イメー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ポーネントを取得して処理を実行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17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を元にコンテナ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初期化でコンポーネントを組み合わせ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の先頭となるコンポーネントを取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処理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. 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また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み繰り返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249228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2205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2492280"/>
            <a:ext cx="100980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76360" y="267660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3"/>
            <a:endCxn id="148" idx="1"/>
          </p:cNvCxnSpPr>
          <p:nvPr/>
        </p:nvCxnSpPr>
        <p:spPr>
          <a:xfrm>
            <a:off x="2989440" y="2673000"/>
            <a:ext cx="57528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3" name=""/>
          <p:cNvCxnSpPr>
            <a:stCxn id="148" idx="3"/>
            <a:endCxn id="154" idx="1"/>
          </p:cNvCxnSpPr>
          <p:nvPr/>
        </p:nvCxnSpPr>
        <p:spPr>
          <a:xfrm>
            <a:off x="3995640" y="2673360"/>
            <a:ext cx="866160" cy="6501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cxnSp>
        <p:nvCxnSpPr>
          <p:cNvPr id="155" name=""/>
          <p:cNvCxnSpPr>
            <a:stCxn id="148" idx="3"/>
            <a:endCxn id="149" idx="1"/>
          </p:cNvCxnSpPr>
          <p:nvPr/>
        </p:nvCxnSpPr>
        <p:spPr>
          <a:xfrm flipV="1">
            <a:off x="3995280" y="2385720"/>
            <a:ext cx="505800" cy="2880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6" name=""/>
          <p:cNvSpPr/>
          <p:nvPr/>
        </p:nvSpPr>
        <p:spPr>
          <a:xfrm>
            <a:off x="7021440" y="2349360"/>
            <a:ext cx="576360" cy="5032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8" idx="3"/>
            <a:endCxn id="156" idx="2"/>
          </p:cNvCxnSpPr>
          <p:nvPr/>
        </p:nvCxnSpPr>
        <p:spPr>
          <a:xfrm>
            <a:off x="5940000" y="2601720"/>
            <a:ext cx="108180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54" name=""/>
          <p:cNvSpPr/>
          <p:nvPr/>
        </p:nvSpPr>
        <p:spPr>
          <a:xfrm>
            <a:off x="4861080" y="314172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56000" y="2133000"/>
            <a:ext cx="722160" cy="360360"/>
          </a:xfrm>
          <a:custGeom>
            <a:avLst/>
            <a:gdLst/>
            <a:ahLst/>
            <a:rect l="l" t="t" r="r" b="b"/>
            <a:pathLst>
              <a:path w="455" h="334">
                <a:moveTo>
                  <a:pt x="8" y="0"/>
                </a:moveTo>
                <a:cubicBezTo>
                  <a:pt x="19" y="47"/>
                  <a:pt x="0" y="228"/>
                  <a:pt x="74" y="281"/>
                </a:cubicBezTo>
                <a:cubicBezTo>
                  <a:pt x="142" y="334"/>
                  <a:pt x="376" y="313"/>
                  <a:pt x="455" y="32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2421000"/>
            <a:ext cx="431640" cy="360360"/>
          </a:xfrm>
          <a:prstGeom prst="rect">
            <a:avLst/>
          </a:prstGeom>
          <a:solidFill>
            <a:srgbClr val="b3e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"/>
          <p:cNvCxnSpPr>
            <a:stCxn id="149" idx="3"/>
            <a:endCxn id="158" idx="1"/>
          </p:cNvCxnSpPr>
          <p:nvPr/>
        </p:nvCxnSpPr>
        <p:spPr>
          <a:xfrm>
            <a:off x="4932000" y="2386080"/>
            <a:ext cx="577080" cy="2167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lg" type="arrow" w="lg"/>
          </a:ln>
        </p:spPr>
      </p:cxnSp>
      <p:sp>
        <p:nvSpPr>
          <p:cNvPr id="161" name=""/>
          <p:cNvSpPr/>
          <p:nvPr/>
        </p:nvSpPr>
        <p:spPr>
          <a:xfrm>
            <a:off x="2354400" y="184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38760" y="1989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2760" y="328464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5120" y="2637000"/>
            <a:ext cx="40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3399"/>
                </a:solidFill>
                <a:latin typeface="Arial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49" idx="0"/>
            <a:endCxn id="148" idx="0"/>
          </p:cNvCxnSpPr>
          <p:nvPr/>
        </p:nvCxnSpPr>
        <p:spPr>
          <a:xfrm rot="5400000">
            <a:off x="4103640" y="1880280"/>
            <a:ext cx="288000" cy="937080"/>
          </a:xfrm>
          <a:prstGeom prst="curvedConnector5">
            <a:avLst>
              <a:gd name="adj1" fmla="val -79474"/>
              <a:gd name="adj2" fmla="val 50000"/>
              <a:gd name="adj3" fmla="val -79474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6" name=""/>
          <p:cNvCxnSpPr>
            <a:stCxn id="158" idx="0"/>
            <a:endCxn id="149" idx="0"/>
          </p:cNvCxnSpPr>
          <p:nvPr/>
        </p:nvCxnSpPr>
        <p:spPr>
          <a:xfrm flipV="1" rot="16200000">
            <a:off x="5112000" y="1808280"/>
            <a:ext cx="216720" cy="1008720"/>
          </a:xfrm>
          <a:prstGeom prst="curvedConnector5">
            <a:avLst>
              <a:gd name="adj1" fmla="val 205823"/>
              <a:gd name="adj2" fmla="val 49982"/>
              <a:gd name="adj3" fmla="val 205823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cxnSp>
        <p:nvCxnSpPr>
          <p:cNvPr id="167" name=""/>
          <p:cNvCxnSpPr>
            <a:stCxn id="154" idx="2"/>
            <a:endCxn id="148" idx="2"/>
          </p:cNvCxnSpPr>
          <p:nvPr/>
        </p:nvCxnSpPr>
        <p:spPr>
          <a:xfrm flipV="1" rot="16200000">
            <a:off x="4103280" y="2528280"/>
            <a:ext cx="650160" cy="1297440"/>
          </a:xfrm>
          <a:prstGeom prst="curvedConnector5">
            <a:avLst>
              <a:gd name="adj1" fmla="val -34958"/>
              <a:gd name="adj2" fmla="val 49986"/>
              <a:gd name="adj3" fmla="val -34958"/>
            </a:avLst>
          </a:prstGeom>
          <a:ln w="9360">
            <a:solidFill>
              <a:srgbClr val="333399"/>
            </a:solidFill>
            <a:miter/>
            <a:tailEnd len="lg" type="triangle" w="lg"/>
          </a:ln>
        </p:spPr>
      </p:cxnSp>
      <p:sp>
        <p:nvSpPr>
          <p:cNvPr id="168" name=""/>
          <p:cNvSpPr/>
          <p:nvPr/>
        </p:nvSpPr>
        <p:spPr>
          <a:xfrm>
            <a:off x="2475000" y="2852640"/>
            <a:ext cx="801720" cy="647640"/>
          </a:xfrm>
          <a:custGeom>
            <a:avLst/>
            <a:gdLst/>
            <a:ahLst/>
            <a:rect l="l" t="t" r="r" b="b"/>
            <a:pathLst>
              <a:path w="505" h="408">
                <a:moveTo>
                  <a:pt x="6" y="0"/>
                </a:moveTo>
                <a:cubicBezTo>
                  <a:pt x="19" y="56"/>
                  <a:pt x="0" y="269"/>
                  <a:pt x="83" y="337"/>
                </a:cubicBezTo>
                <a:cubicBezTo>
                  <a:pt x="166" y="405"/>
                  <a:pt x="417" y="393"/>
                  <a:pt x="505" y="408"/>
                </a:cubicBezTo>
              </a:path>
            </a:pathLst>
          </a:custGeom>
          <a:noFill/>
          <a:ln w="9360">
            <a:solidFill>
              <a:srgbClr val="ff5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57440" y="2844720"/>
            <a:ext cx="1092240" cy="598680"/>
          </a:xfrm>
          <a:custGeom>
            <a:avLst/>
            <a:gdLst/>
            <a:ahLst/>
            <a:rect l="l" t="t" r="r" b="b"/>
            <a:pathLst>
              <a:path w="688" h="377">
                <a:moveTo>
                  <a:pt x="688" y="0"/>
                </a:moveTo>
                <a:cubicBezTo>
                  <a:pt x="664" y="55"/>
                  <a:pt x="644" y="277"/>
                  <a:pt x="546" y="327"/>
                </a:cubicBezTo>
                <a:cubicBezTo>
                  <a:pt x="448" y="377"/>
                  <a:pt x="191" y="356"/>
                  <a:pt x="102" y="301"/>
                </a:cubicBezTo>
                <a:cubicBezTo>
                  <a:pt x="0" y="230"/>
                  <a:pt x="33" y="63"/>
                  <a:pt x="15" y="0"/>
                </a:cubicBezTo>
              </a:path>
            </a:pathLst>
          </a:custGeom>
          <a:noFill/>
          <a:ln w="19080">
            <a:solidFill>
              <a:srgbClr val="ff505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42920" y="30686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唯一コンテナを意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859280" y="3884760"/>
            <a:ext cx="1584360" cy="264960"/>
          </a:xfrm>
          <a:prstGeom prst="rect">
            <a:avLst/>
          </a:prstGeom>
          <a:solidFill>
            <a:srgbClr val="d9d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を直接取得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258920"/>
            <a:ext cx="8664480" cy="52102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mployeeViewe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S2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コンテナ初期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Factory.create("path/viewer.dico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一連の処理の先頭となる業務ロジック取得（組み合わせ済み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 logi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mployeeLogic) container.getComponent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mployeeLogic.clas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 employees =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logic.find("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条件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terator ite = employees.iterato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while (ite.hasNext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ite.next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実装を分離するメリットを得られ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再利用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テスト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ンテナンス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特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しやす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使う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uga</dc:creator>
  <dc:description/>
  <dc:language>en-US</dc:language>
  <cp:lastModifiedBy>suga</cp:lastModifiedBy>
  <dcterms:modified xsi:type="dcterms:W3CDTF">2004-11-20T21:40:32Z</dcterms:modified>
  <cp:revision>868</cp:revision>
  <dc:subject/>
  <dc:title>はじめてのSeasar2 DIコンテナ+AOP超入門</dc:title>
</cp:coreProperties>
</file>