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797C-6360-420D-B715-581DF2CCC7C6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C2E5-5D1B-4F57-AFDC-6368F5111688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実録！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いかにして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を提案して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採用に至った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羽生　章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株式会社スターロジッ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実務でちゃんと使え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績もちゃんと上がってい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きちんと説明すれば、思いのほか皆さんちゃんとご理解いただけま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売り込むのではなく、プロジェクトの成功において何が要点かを明確にして、それを共有し、その要点の実現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貢献できることを明示し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ゃんと手を動かしましょう。サンプルはどんどん作りましょ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ずは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自分たちの手に馴染ませてください。相手に責任を押し付けてはいけませ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"/>
              </a:rPr>
              <a:t>ありがとうございまし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具体的にはどんな風に提案した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こに導入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今年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件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基幹系リプレース案件向けの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盤フレームワーク作成依頼に対応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JDBC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直請：人材派遣会社さん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-Learning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GFlow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大手さんの社内購買システム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OpenAM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Da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下請：某著名企業さんのレガシーマイグレーション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（これから数年がかりでやります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お客様の具体名は内緒ということ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請けの形態は色々ですが、今年の当社案件のほぼ全て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採用を提案して、受け入れていただけまし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件だけ未採用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erl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た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当社は私と経理担当含めて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人の弱小零細企業なので、これだけでアップアップの案件量なのです。事例の数が少なくてごめんなさ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し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提案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納期が超タイト、かつ、内容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カバー領域だったため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直接なので当社の裁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当初先方が検討されていた構成だと、手間がかかるので、サンプルなどを作っ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規模が非常に大きいの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経験者がほぼ皆無であるため、当社が全力でサポートできる道具立てとして提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具体的にはどんな提案をした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と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直球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サンプル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機能一覧などの資料を作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本的に、エンジニアの方向けの提案なので、さほどややこしくない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決め手はやはり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アクセス部分の省力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案件は、長かったです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ヶ月かかっ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ぶりの基幹系全面刷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ホストからの全面オープンシステム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基礎スキルや知識の不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だけでなく開発手法などトータルで提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役員向けプレゼンなども当然ありまし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　結果として、社内標準としての採用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・・では、具体的にどう提案したのか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⇒本日ご参加の方にだけ実際の資料をお見せしま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における提案のアウトライ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まず、脱ホストの重要性を共有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幹系システムの認識一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オープンシステム化の必要性（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BOL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いいんじゃないの？　への対応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オープンシステムの技術トレンドおよび歴史的背景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こういう技術が出てきた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何故、ホストでは当たり前のことをこんなに大騒ぎするの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トレンドにおけ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位置付けを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は何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.N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相違点・共通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プリケーションの構成や開発手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従来型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プリケーション開発の問題点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特に同業他社が失敗している事例を持っているため、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についてはかなり警戒しているので、何故失敗したのかなども含めて整理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具体的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開発したサンプルを見せ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の仕様は、既存システムの画面をそのまま持ってくる（リプレース案件だから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問題解決としての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コンテナの説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実際に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で同じサンプルを作ったものを提示す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両者のソースコードの対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使った場合の具体的な開発の手順を提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サンプル開発の際の仕様書などを全部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ユニットテストの重要性の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開発プロセスのプロセスマップを提示（くーすカスタム：当社では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DICONIX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と呼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質疑応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464240" cy="55436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ちょっとだけさわりを・・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7162560" cy="54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案件の今後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現在は、以下の取組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方式の標準化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IS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応含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技術トレーニングのカリキュラム作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予想以上のペースで進んで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ベースがしっかりしてい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大規模システムをちゃんと作った経験者の集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O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パッチ当てるの当たり前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^^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アセンブラで業務アプリを書いたりしてた世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業務知識は当然バリバ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生半可な受け答えだと許してもらえな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こっちも真剣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長期のプロジェクトとなること、リリース後はまた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年以上稼動することから、突っ込みが非常に厳し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数年後には大規模開発の事例として発表できると思いま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羽生　章洋</cp:lastModifiedBy>
  <dcterms:modified xsi:type="dcterms:W3CDTF">2004-11-17T12:45:33Z</dcterms:modified>
  <cp:revision>192</cp:revision>
  <dc:subject/>
  <dc:title>スライド 1</dc:title>
</cp:coreProperties>
</file>