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FC13-B1AC-4B54-BF4D-806BAD6B542C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7214-3929-4577-A62B-4B11DD7A950F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木村　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981080"/>
            <a:ext cx="838188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display-name&gt;S2Struts Application&lt;/display-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name&gt;s2container&lt;/servlet-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class&gt;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StrutsServlet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-clas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load-on-startup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2536920"/>
            <a:ext cx="8305920" cy="3180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ntroller processorClass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RequestProcessor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以上で、実装は終わ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実行時に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が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対してサービスコンポーネントを自動で設定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セッターインジェク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375000"/>
            <a:ext cx="7772400" cy="3485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ddActio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et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ストラクタ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155680"/>
            <a:ext cx="7772400" cy="364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Acti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2155680"/>
            <a:ext cx="7772400" cy="364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hog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それ以外の方法（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インジェクショ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905120"/>
            <a:ext cx="8305920" cy="487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ddServic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org.seasar.struts.examples.AddServiceImpl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examples.AddActi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Method name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hog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ar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スペクトを適用したい場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アスペクトを適用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追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2308320"/>
            <a:ext cx="8305920" cy="4400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class="org.seasar.struts.examples.MultiplyActio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aspect pointcut="execute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component class=</a:t>
            </a:r>
            <a:br>
              <a:rPr sz="2000"/>
            </a:b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"org.seasar.framework.aop.interceptors.TraceIntercepto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インスタンス変数を持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属性の変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ノーマル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インスタンス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プーリングし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内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で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905120"/>
            <a:ext cx="8305920" cy="209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instance="prototyp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"org.seasar.struts.examples.AddAction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キーワード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コンポーネン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Request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ンテナの初期化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適用箇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143000"/>
            <a:ext cx="5715000" cy="5105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2920" y="1143000"/>
            <a:ext cx="1828800" cy="51055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105520"/>
              <a:gd name="textAreaBottom" fmla="*/ 5016240 h 5105520"/>
            </a:gdLst>
            <a:ahLst/>
            <a:rect l="textAreaLeft" t="textAreaTop" r="textAreaRight" b="textAreaBottom"/>
            <a:pathLst>
              <a:path w="21600" h="60294">
                <a:moveTo>
                  <a:pt x="3600" y="0"/>
                </a:moveTo>
                <a:arcTo wR="3600" hR="3600" stAng="16200000" swAng="-5400000"/>
                <a:lnTo>
                  <a:pt x="0" y="56694"/>
                </a:lnTo>
                <a:arcTo wR="3600" hR="3600" stAng="10800000" swAng="-5400000"/>
                <a:lnTo>
                  <a:pt x="18000" y="60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ビ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ネ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ロ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ッ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13372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2952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Arial"/>
              </a:rPr>
              <a:t>リクエ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274320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373392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71600" y="1752480"/>
            <a:ext cx="50292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ActionServ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5981400" y="285696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1320" y="1295280"/>
            <a:ext cx="1752480" cy="1371600"/>
          </a:xfrm>
          <a:prstGeom prst="wedgeRoundRectCallout">
            <a:avLst>
              <a:gd name="adj1" fmla="val -30708"/>
              <a:gd name="adj2" fmla="val 99074"/>
              <a:gd name="adj3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適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手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出来る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内部構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クラス名ではなく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特定し、処理を委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同じクラス名を定義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同期する必要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と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が一致している必要あ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の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914400"/>
            <a:ext cx="8305920" cy="405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ction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path="/subtract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type="org.seasar.struts.ProxyAction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ction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5051520"/>
            <a:ext cx="830592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name="/subtract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lass="org.seasar.struts.examples.SubtractAction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ソー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990720"/>
            <a:ext cx="7772400" cy="7716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ctionForward 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 throws Exception {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Action delegateAction = createAction(mapping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return delegateAction.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Action createAction(ActionMapping mapping) {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…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ComponentNameCreator componentNameCreator =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(ComponentNameCreator) container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.getComponent(ComponentNameCreator.class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String componentName = 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omponentNameCreator.createComponentName(container,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                           mapping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Action action = ActionUtil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createActionWithComponentName(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                  componentName, getServlet())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return action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内部構造について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適用箇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1143000"/>
            <a:ext cx="5715000" cy="5105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62920" y="1143000"/>
            <a:ext cx="1828800" cy="51055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105520"/>
              <a:gd name="textAreaBottom" fmla="*/ 5016240 h 5105520"/>
            </a:gdLst>
            <a:ahLst/>
            <a:rect l="textAreaLeft" t="textAreaTop" r="textAreaRight" b="textAreaBottom"/>
            <a:pathLst>
              <a:path w="21600" h="60294">
                <a:moveTo>
                  <a:pt x="3600" y="0"/>
                </a:moveTo>
                <a:arcTo wR="3600" hR="3600" stAng="16200000" swAng="-5400000"/>
                <a:lnTo>
                  <a:pt x="0" y="56694"/>
                </a:lnTo>
                <a:arcTo wR="3600" hR="3600" stAng="10800000" swAng="-5400000"/>
                <a:lnTo>
                  <a:pt x="18000" y="602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ビ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ネ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ス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ロ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ジ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ッ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13372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2952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ff"/>
                </a:solidFill>
                <a:latin typeface="Arial"/>
              </a:rPr>
              <a:t>リクエ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274320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3733920"/>
            <a:ext cx="5029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1752480"/>
            <a:ext cx="50292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ActionServl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981400" y="2856960"/>
            <a:ext cx="838440" cy="2743200"/>
          </a:xfrm>
          <a:prstGeom prst="downArrow">
            <a:avLst>
              <a:gd name="adj1" fmla="val 50000"/>
              <a:gd name="adj2" fmla="val 81795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91320" y="1295280"/>
            <a:ext cx="1752480" cy="1371600"/>
          </a:xfrm>
          <a:prstGeom prst="wedgeRoundRectCallout">
            <a:avLst>
              <a:gd name="adj1" fmla="val -30708"/>
              <a:gd name="adj2" fmla="val 99074"/>
              <a:gd name="adj3" fmla="val 16667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の適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と同様に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と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定義した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ompon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属性が一致している必要あ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を記述する必要は無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ただし、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本来の使用方法には違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ファイル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914400"/>
            <a:ext cx="8305920" cy="4057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truts-config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ction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path="/divide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808080"/>
                </a:solidFill>
                <a:latin typeface="ＭＳ ゴシック"/>
                <a:ea typeface="ＭＳ ゴシック"/>
              </a:rPr>
              <a:t>type="org.seasar.struts.ProxyAction"</a:t>
            </a:r>
            <a:r>
              <a:rPr b="1" lang="ja-JP" sz="2000" spc="-1" strike="noStrike">
                <a:solidFill>
                  <a:srgbClr val="80808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←不要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ction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action-mapping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truts-confi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5051520"/>
            <a:ext cx="8305920" cy="1618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name="/divide"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class="org.seasar.struts.examples.DivideAction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at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マッピングについ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デフォルトは①モジュール名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ス名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パス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、②の優先順位で、コンポーネントを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http://homepage3.nifty.com/seasar/s2struts.html#Mapping</a:t>
            </a:r>
            <a:br>
              <a:rPr sz="2000"/>
            </a:b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seasar.struts.ComponentNameCreator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mp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したクラスを、コンテナに登録することで、マッピング方法を変更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コンテナに登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5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.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記述するサーブレット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apache.struts.action.ActionServle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はなく、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rg.seasar.struts.S2ActionServ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917800"/>
            <a:ext cx="7772400" cy="344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servlet-name&gt;action&lt;/servlet-nam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servlet-clas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S2ActionServlet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-clas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/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コンテナに登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equestProcesso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対して、アスペクトなどを適用可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689200"/>
            <a:ext cx="7772400" cy="314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component class="org.seasar.struts.S2RequestProcessor"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aspect pointcut="process"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&lt;component class=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"org.seasar.struts.examples.MeasureTimeInterceptor"/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aspec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/componen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適用への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記述し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に記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ruts-confi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を記述し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"S2Struts"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概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ァミリー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レゼンテーション層の一つ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Str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Tape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J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うと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trut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簡単に連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にサービスコンポーネントが自動的に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はコントローラに徹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クラス等に対してアスペクトを適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変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名前、パスを変更したい場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4920" y="1828800"/>
            <a:ext cx="8381880" cy="4534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web-app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servlet-class&gt;org.seasar.struts.S2StrutsServlet&lt;/servlet-clas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it-param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     &lt;param-name&gt;configPath&lt;/param-nam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&lt;param-value&gt;org/seasar/struts/config.dicon&lt;/param-value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/init-param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&lt;load-on-startup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servlet&gt;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...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&lt;web-ap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まと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実装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サイト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homepage3.nifty.com/seasar/s2strut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ourceforg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あ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参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Stru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内部構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適用している箇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のように、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を利用している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インターフェースの作成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Service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2460600"/>
            <a:ext cx="7772400" cy="3180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org.seasar.struts.examp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 @author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むき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erface AddServic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add(int arg1, int arg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インターフェー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ServiceImpl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460600"/>
            <a:ext cx="777240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org.seasar.struts.examp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 @author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きむき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ServiceImpl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implements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int add(int arg1, int arg2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arg1 + arg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Action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2460600"/>
            <a:ext cx="7772400" cy="4413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 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ddActio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set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AddService  addServic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addService = addService;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cti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の実装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Action.ja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1981080"/>
            <a:ext cx="8153640" cy="5181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ddAction extends Ac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ActionForward execute(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引数省略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lculationForm calForm = (CalculationForm) for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int result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addService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add(calForm.getArg1(), calForm.getArg2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lForm.setResult(resul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urn (mapping.findForward("success"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ビスコンポーネントをコンポーネント定義ファイ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以後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Add.dic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841480"/>
            <a:ext cx="8305920" cy="2094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.seasar.struts.examples.AddServiceImpl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どうすればいいの？（手順そ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dd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ァイルを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pp.dicon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登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2536920"/>
            <a:ext cx="8305920" cy="1631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include path="</a:t>
            </a:r>
            <a:r>
              <a:rPr b="1" lang="ja-JP" sz="20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org/seasar/struts/examples/Add.dicon</a:t>
            </a: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Satoshi Kimura</dc:creator>
  <dc:description/>
  <dc:language>en-US</dc:language>
  <cp:lastModifiedBy>木村　聡</cp:lastModifiedBy>
  <dcterms:modified xsi:type="dcterms:W3CDTF">2004-11-16T01:50:57Z</dcterms:modified>
  <cp:revision>119</cp:revision>
  <dc:subject/>
  <dc:title>S2Struts超入門</dc:title>
</cp:coreProperties>
</file>