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8595-DF56-46C8-9629-2759915EE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B3FA-BABF-464C-8AE4-E44D081FC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A9B0-A9EB-4763-B8E8-4D96AEF9B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9022-2B1E-4BCE-834E-8144A309B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AC21-25D9-40F5-A15A-1E15DC80D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0F4F-CC8F-4E93-A9FB-20394F91C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9FEA-31F9-4DB0-9933-395270427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6057-60BC-46BB-B6E1-6C1F0D371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2EDB-D673-4FEA-807C-0EC1323C1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1F5B-1A49-4497-B004-850F0A80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F898-EEB2-4467-87C2-42182C84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E381-EBCD-4DFB-B974-395FF79E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A63D5-55E5-41F1-B527-16D21EFDF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4067280" cy="4438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38080" y="4572000"/>
            <a:ext cx="3657600" cy="457200"/>
          </a:xfrm>
          <a:prstGeom prst="flowChartAlternateProcess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029200"/>
            <a:ext cx="2286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33720" y="5334120"/>
            <a:ext cx="350496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ァイル属性の確認、設定ができ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6400800" cy="13618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2590920"/>
            <a:ext cx="609840" cy="533160"/>
          </a:xfrm>
          <a:prstGeom prst="flowChartAlternateProcess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0800" y="3124080"/>
            <a:ext cx="2286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3429000"/>
            <a:ext cx="350532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ァイル属性の確認、設定ができ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390680" y="1909800"/>
            <a:ext cx="6362640" cy="3038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733920" y="2209680"/>
            <a:ext cx="502920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ファイル属性の確認。アーカイブ属性のみ設定され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2819520"/>
            <a:ext cx="50292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読み取り専用属性と隠しファイル属性を付加し、再度ファイル属性を確認したとこ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3733920"/>
            <a:ext cx="50292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隠しファイル属性を外し、再度ファイル属性を確認したとこ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たかはしもとのぶ</cp:lastModifiedBy>
  <dcterms:modified xsi:type="dcterms:W3CDTF">2006-05-05T05:21:2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