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B8D-A393-4A81-9B62-D5B69B7C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B9F-CDCA-4426-BFD7-A7E4E4E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A43-DFDE-4D15-B401-288F6E85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257-450E-4C16-9F02-1E5F0CE3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5AA-07AC-4EFF-8AD9-A856C79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B02-0DE8-46B0-B2BA-2ED876C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645-6F01-4B2E-B3FE-9B1F75F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A57-886D-4DBB-A5E9-C9B7A69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3BA-2260-40D4-AC43-A072D73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66B-C512-48F7-961D-6C83621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A04-F625-4417-A52F-45195DC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076-9BB6-4EB2-9398-35CC872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612-0D1C-4DC2-AEA4-6617094C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7480" y="4241880"/>
            <a:ext cx="13068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7080" y="4119480"/>
            <a:ext cx="17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今日 会議 に　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94800" y="4389480"/>
            <a:ext cx="1569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7080" y="51498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4316400"/>
            <a:ext cx="1514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3640" y="45766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yriad Roman"/>
              </a:rPr>
              <a:t>認識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1557360"/>
            <a:ext cx="353916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タスク文法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voca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、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grammar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21160" y="3070080"/>
            <a:ext cx="84168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74960" y="5262480"/>
            <a:ext cx="2743200" cy="685800"/>
            <a:chOff x="2874960" y="5262480"/>
            <a:chExt cx="2743200" cy="685800"/>
          </a:xfrm>
        </p:grpSpPr>
        <p:sp>
          <p:nvSpPr>
            <p:cNvPr id="57" name=""/>
            <p:cNvSpPr/>
            <p:nvPr/>
          </p:nvSpPr>
          <p:spPr>
            <a:xfrm>
              <a:off x="2874960" y="5262480"/>
              <a:ext cx="2743200" cy="685800"/>
            </a:xfrm>
            <a:custGeom>
              <a:avLst/>
              <a:gdLst/>
              <a:ahLst/>
              <a:rect l="l" t="t" r="r" b="b"/>
              <a:pathLst>
                <a:path w="1304" h="263">
                  <a:moveTo>
                    <a:pt x="175" y="88"/>
                  </a:move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moveTo>
                    <a:pt x="0" y="263"/>
                  </a:moveTo>
                  <a:lnTo>
                    <a:pt x="0" y="0"/>
                  </a:lnTo>
                  <a:lnTo>
                    <a:pt x="1304" y="0"/>
                  </a:lnTo>
                  <a:lnTo>
                    <a:pt x="1304" y="263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5840" y="533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Myriad Roman"/>
                </a:rPr>
                <a:t>音響モデ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87400" y="4719600"/>
            <a:ext cx="135576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2960" y="4195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676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0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609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46560" y="488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74320" y="234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索アルゴリズ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4960" y="3728880"/>
            <a:ext cx="546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500280"/>
            <a:ext cx="1839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時間同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ビー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3500280"/>
            <a:ext cx="185580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逆向き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-first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5560" y="3805200"/>
            <a:ext cx="729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候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2565360"/>
            <a:ext cx="18846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カテゴリ対制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1012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110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1101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206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実行時抽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997360"/>
            <a:ext cx="0" cy="50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2421000"/>
            <a:ext cx="0" cy="1079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1989000"/>
            <a:ext cx="201600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953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37372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501300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13360"/>
            <a:ext cx="25905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628640"/>
            <a:ext cx="2521080" cy="790560"/>
          </a:xfrm>
          <a:prstGeom prst="parallelogram">
            <a:avLst>
              <a:gd name="adj" fmla="val 797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16:37Z</dcterms:created>
  <dc:creator>LEE Akinobu</dc:creator>
  <dc:description/>
  <dc:language>en-US</dc:language>
  <cp:lastModifiedBy>LEE Akinobu</cp:lastModifiedBy>
  <dcterms:modified xsi:type="dcterms:W3CDTF">2001-08-25T13:14:42Z</dcterms:modified>
  <cp:revision>4</cp:revision>
  <dc:subject/>
  <dc:title>スライド 1</dc:title>
</cp:coreProperties>
</file>