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817-47D3-435D-9E76-13F3C753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7D4-50DC-4711-8418-A3F4CE7F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B65-EC1B-494D-8692-82E7AC3D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9E2-A935-4876-81B3-9A2688CC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72C-69C9-408C-AA76-2C2568F5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082-4DAE-4A6C-A9AE-173B4F4B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57E-4D77-4B04-B5F4-0768E465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FAF-F609-49AD-96A1-8956E8EF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D30-A2E5-4249-86C0-30D7AD53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9E9-05A4-431D-8F33-6CC4DBCD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0AC-27FC-4E5E-B6E7-9F87149B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E7E-0920-4121-A471-CDBA3A00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A95E-BDCB-4530-8E20-C2D12C7D4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3880" y="71280"/>
            <a:ext cx="7896240" cy="671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044720"/>
            <a:ext cx="6480000" cy="49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360"/>
            <a:ext cx="1439640" cy="49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539720"/>
            <a:ext cx="270036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7000" y="1539720"/>
            <a:ext cx="364464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3654360"/>
            <a:ext cx="6480000" cy="2970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97720" y="1852560"/>
            <a:ext cx="719280" cy="58572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97720" y="2484360"/>
            <a:ext cx="719280" cy="495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480" y="511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640" y="1044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4800" y="15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6120" y="378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59240" y="1593720"/>
            <a:ext cx="31176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240" y="177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9240" y="24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1:23:30Z</dcterms:created>
  <dc:creator>Toru Furukawa</dc:creator>
  <dc:description/>
  <dc:language>en-US</dc:language>
  <cp:lastModifiedBy>Toru Furukawa</cp:lastModifiedBy>
  <dcterms:modified xsi:type="dcterms:W3CDTF">2007-05-26T11:49:05Z</dcterms:modified>
  <cp:revision>2</cp:revision>
  <dc:subject/>
  <dc:title>スライド 1</dc:title>
</cp:coreProperties>
</file>