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4F03-B698-4D6A-A1DB-56B723A3D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688F-1AD2-46F6-901B-D7D6493F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030B-74B3-4B97-BBEF-8512C8D0F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78CA-69C6-40E3-A134-C7AF6CC5C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4DF6-3B8B-44F3-B603-F42B031F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7410-FCFB-4F8D-AF5F-7D8AA72A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4A9C-BC8F-4A83-B8AC-4F6E4CD6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EF25-E9FF-4D81-81D3-D7251A27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CFA7-3AEA-408A-8D36-76E16A0A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1A5A-C535-4745-80D2-5CAB043C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47EB-0AFA-4563-80C3-C455E272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7DA9-E57A-4795-B8BC-3B516962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AC0E-B95A-4485-9A7A-0DF287EDD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86560" y="368136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M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486560" y="285264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コー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6360" y="1773360"/>
            <a:ext cx="169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1628640"/>
            <a:ext cx="3241440" cy="3024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0920" y="3139920"/>
            <a:ext cx="935280" cy="576360"/>
          </a:xfrm>
          <a:prstGeom prst="rightArrow">
            <a:avLst>
              <a:gd name="adj1" fmla="val 50000"/>
              <a:gd name="adj2" fmla="val 4056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25800" y="328464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読み込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32000" y="242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08720" y="314172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81800" y="328464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書き出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64360" y="4905360"/>
            <a:ext cx="25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すぐに使えるソースコード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実行時ライブラリ不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0000" y="2529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記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16360" y="4941720"/>
            <a:ext cx="1800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容易なインストール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および実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80360" y="1160640"/>
            <a:ext cx="1150920" cy="1079280"/>
          </a:xfrm>
          <a:prstGeom prst="wedgeRectCallout">
            <a:avLst>
              <a:gd name="adj1" fmla="val -18138"/>
              <a:gd name="adj2" fmla="val 87648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C#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VB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0720" y="497664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表計算ソフトを使って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記入するだ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498600"/>
            <a:ext cx="5472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 Framework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動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12640"/>
            <a:ext cx="179280" cy="358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1951200"/>
            <a:ext cx="129528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entury Gothic"/>
              </a:rPr>
              <a:t>Excel / Open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64000" y="386064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64000" y="256392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08360" y="400356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ava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実行環境 </a:t>
            </a: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1.4.2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以降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08360" y="270684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JExcelAp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64000" y="1916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08360" y="20588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＊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1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19640" y="3354480"/>
            <a:ext cx="107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Apache 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59280" y="3354480"/>
            <a:ext cx="10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Eclip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3068640"/>
            <a:ext cx="1152360" cy="7207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LS</a:t>
            </a: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1E28-AFC2-41A1-8D75-3E183CB1BE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7:32:30Z</dcterms:created>
  <dc:creator/>
  <dc:description/>
  <dc:language>en-US</dc:language>
  <cp:lastModifiedBy>ｎｂｂ</cp:lastModifiedBy>
  <dcterms:modified xsi:type="dcterms:W3CDTF">2007-03-16T02:15:57Z</dcterms:modified>
  <cp:revision>219</cp:revision>
  <dc:subject/>
  <dc:title>blanco Framework　システム構成</dc:title>
</cp:coreProperties>
</file>