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40804-E4CD-4323-984C-E7498DA44E8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FED9-0BC0-44F7-9569-2F88A800A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7E11-C5CB-4914-A8F0-20CE5C82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77CA-42CF-4B3D-B7E3-D87DA787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A18A-EE5C-4A3B-9EF4-86E9E264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86C1-FAAF-4878-98C5-28A3C378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CE5B-42F6-49FC-A7B2-416A10C3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06F7-CFB2-471E-BA6A-24951138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9F5D-06B7-4B42-BDD1-90A7D075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8512-76D1-458D-8C21-B520F38D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21EF-430E-4656-BCD5-E88064A6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C69F-1C0C-44C8-B77E-D3D713DC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B00D-4929-47F3-9EDC-8A99C3CF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42E9-EB70-40B4-96E0-AEE201E7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3400-6248-4F50-9779-4D63EA89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A0EC-6D54-49EE-8BBE-C6D82A0F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C392-EBFB-49B4-8963-0FD84CE6E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79C7-B67C-49AA-B60B-93EEAE57F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61B5-1A3B-427F-A369-E2C4CA78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5700-0683-4660-8B02-63C5EDB9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0F50-7B70-40B6-9318-2023DEFD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6C70-418E-4D7F-ACC4-DD367D79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29BE-00B4-42A6-9033-117AAE20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DFE1-74C0-49F1-B750-CA61FE47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1ED0-40E9-45F9-9C34-AAD4551E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99313-3691-4046-A215-D0EF711CAFC5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3A7FA26-E9BD-42F6-A03F-9DD1A6306367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4056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ご紹介 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            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OSC2006 Tokyo/Fal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版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2006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.2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いがぴょん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伊賀 敏樹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lanco Framework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コミッ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0A0C-5FC7-4E16-9A7E-7A976D830DE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データベース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カーソルのスクロール方向が指定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.net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332400" cy="5578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NET</a:t>
            </a: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有マス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41400" y="1096920"/>
            <a:ext cx="7734240" cy="55008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51280" y="5157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前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発表者自己紹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848720" cy="555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3F59-5A0D-4284-90DD-14031B4A4E0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後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00240" y="1676520"/>
          <a:ext cx="67435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35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609480" y="54100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SI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カラー表示機能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NSI SQL8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aa00ff"/>
                </a:solidFill>
                <a:latin typeface="Arial"/>
              </a:rPr>
              <a:t>ANSI SQL9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5500ff"/>
                </a:solidFill>
                <a:latin typeface="Arial"/>
              </a:rPr>
              <a:t>ANSI SQL9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UNCATE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などのメジャーな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しかし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SI SQL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には含まれない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キーワー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aa00"/>
                </a:solidFill>
                <a:latin typeface="Arial"/>
              </a:rPr>
              <a:t>コメン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文字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オンライン・バッチ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66720" y="1187280"/>
            <a:ext cx="7794720" cy="54723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82920" y="30700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51280" y="36050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66720" y="1079640"/>
            <a:ext cx="7974000" cy="52196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b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WSDL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20720" y="1079640"/>
            <a:ext cx="7559640" cy="5040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M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キーマ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XS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74640" y="1079640"/>
            <a:ext cx="7605720" cy="5219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7740720" cy="54003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とは何か？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2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オープンソースの下流開発フレームワーク</a:t>
            </a:r>
            <a:br>
              <a:rPr sz="3200"/>
            </a:b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ライセンス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NU LGP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xcel(*.xls)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ファイル形式の様式を中心とした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Java / C#.NET / JavaScript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自動生成に対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数十人月から数千人月規模のプロジェクトで適用実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8C60-8CAB-421B-90A4-62A635EF948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だれで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サービス設計・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/ XML Schema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設定ファイル／ソースコード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11280" y="1036800"/>
            <a:ext cx="7921440" cy="53766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BatchProces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コマンドライン引数チェックロジックの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安心できるバッチプログラム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age()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XML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・文字列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7272360" cy="36417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StringConverter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314172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Scrip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基本パター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表計算ソフトで定義書の記入を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プラグインのボタンを押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が自動生成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FC58-DD6C-445D-82E0-E74249D7DF1B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メッセージ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リューオブジェクト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数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固定長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24000" y="1838160"/>
            <a:ext cx="8532720" cy="41119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FixedLength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24360" y="242100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08360" y="314172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95640" y="458136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リソースバンドル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704360" cy="32004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ResourceBundle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CSV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2724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35280" y="3301920"/>
            <a:ext cx="67690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.properti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550404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システム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11280" y="1947960"/>
            <a:ext cx="8280360" cy="32814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ervic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Java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アプリ簡単常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tTas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らくらく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nt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タスク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第二世代ソースコード自動生成は、</a:t>
            </a:r>
            <a:br>
              <a:rPr sz="4000"/>
            </a:b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複数プログラミング言語対応！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次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B.NET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対応という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イノベーションは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　　オープンソースから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生産性・保守性・品質を劇的向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をよろしく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7040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終わり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2057400" y="4248000"/>
            <a:ext cx="6400800" cy="17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6EBB-DA5A-436A-A18E-7EF917641C84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Csv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82920" y="4078440"/>
            <a:ext cx="136836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41083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 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全体的な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に書いたとおりのプログラムが作成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を変更したら、プログラムが自動的に変更される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ルーチンワーク的なコーディングを自動化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do</cp:lastModifiedBy>
  <dcterms:modified xsi:type="dcterms:W3CDTF">2006-10-28T00:39:31Z</dcterms:modified>
  <cp:revision>298</cp:revision>
  <dc:subject/>
  <dc:title>blanco Framework ご紹介</dc:title>
</cp:coreProperties>
</file>