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2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899640" y="73944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3"/>
          </p:nvPr>
        </p:nvSpPr>
        <p:spPr>
          <a:xfrm>
            <a:off x="0" y="9371160"/>
            <a:ext cx="2914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4"/>
          </p:nvPr>
        </p:nvSpPr>
        <p:spPr>
          <a:xfrm>
            <a:off x="3816360" y="9371160"/>
            <a:ext cx="2914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592B7-1762-42BB-8341-A538465F659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51041-641B-4E3B-872E-4439C0DD1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9699-813D-4611-9878-629FB9EE5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9FEF2-7081-4098-90C9-EF45C07E2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6BE9C-542B-472A-B7D9-2BB24A71B4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3D25-6A2F-42BC-8CFD-2E6666D0D9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59240-59FE-4DF0-BD4F-5E10B62F4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8E517-54CD-43D1-8EDD-6E1EB1DC3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03AF9-722C-47CF-91AA-C1C6BA1C8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21C35-B334-4C0E-A074-B36CB3AAD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E185-67A5-4A07-88E1-854539824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8F9D-1C41-4E0B-8BAE-66020A279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3781-9682-445B-B333-5B6A8EB44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457200" cy="65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7315200" cy="304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6002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20574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P </a:t>
            </a:r>
            <a:fld id="{BB0D5A07-E07F-40A2-8E25-2F2AA143D1FC}" type="slidenum"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609588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3920" y="6553080"/>
            <a:ext cx="5410080" cy="304920"/>
          </a:xfrm>
          <a:prstGeom prst="rect">
            <a:avLst/>
          </a:prstGeom>
          <a:gradFill rotWithShape="0">
            <a:gsLst>
              <a:gs pos="0">
                <a:srgbClr val="5172b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6553080"/>
            <a:ext cx="464832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4000" y="659700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小塚ゴシック Std M"/>
                <a:ea typeface="小塚ゴシック Std M"/>
              </a:rPr>
              <a:t>blanco Frame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43200" y="914400"/>
            <a:ext cx="640080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0"/>
            <a:ext cx="0" cy="9144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2205000"/>
            <a:ext cx="5791320" cy="1604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  <a:effectLst>
            <a:outerShdw dist="340830" dir="1592279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3733920"/>
            <a:ext cx="0" cy="4572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4038480"/>
            <a:ext cx="533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92400"/>
            <a:ext cx="47246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3352680"/>
            <a:ext cx="0" cy="76212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963800"/>
            <a:ext cx="0" cy="4572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914400" algn="ctr">
              <a:spcBef>
                <a:spcPts val="4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3716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18288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2351160"/>
            <a:ext cx="548640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</a:rPr>
              <a:t>オープンソース下流開発フレームワーク </a:t>
            </a:r>
            <a:br>
              <a:rPr sz="2000"/>
            </a:br>
            <a:r>
              <a:rPr b="0" lang="en-GB" sz="2600" spc="-1" strike="noStrike">
                <a:solidFill>
                  <a:srgbClr val="000000"/>
                </a:solidFill>
                <a:latin typeface="HG丸ｺﾞｼｯｸM-PRO"/>
              </a:rPr>
              <a:t>「</a:t>
            </a:r>
            <a:r>
              <a:rPr b="0" lang="en-GB" sz="2600" spc="-1" strike="noStrike">
                <a:solidFill>
                  <a:srgbClr val="000000"/>
                </a:solidFill>
                <a:latin typeface="HG丸ｺﾞｼｯｸM-PRO"/>
              </a:rPr>
              <a:t>blanco Framework</a:t>
            </a:r>
            <a:r>
              <a:rPr b="0" lang="en-GB" sz="2600" spc="-1" strike="noStrike">
                <a:solidFill>
                  <a:srgbClr val="000000"/>
                </a:solidFill>
                <a:latin typeface="HG丸ｺﾞｼｯｸM-PRO"/>
              </a:rPr>
              <a:t>」</a:t>
            </a:r>
            <a:br>
              <a:rPr sz="2600"/>
            </a:b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の最新動向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ＭＳ Ｐゴシック"/>
              </a:rPr>
              <a:t>OSC2007 Tokyo/Spring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84280" y="4400640"/>
            <a:ext cx="6400800" cy="134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200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7.03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.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17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いがぴょん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(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伊賀 敏樹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コミッタ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基本パターン 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ファイル入出力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ファイル定義書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CSV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Csv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プラグイン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3" name=""/>
          <p:cNvSpPr/>
          <p:nvPr/>
        </p:nvSpPr>
        <p:spPr>
          <a:xfrm>
            <a:off x="2482920" y="4078440"/>
            <a:ext cx="136980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52720" y="4108320"/>
            <a:ext cx="46069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ファイル入出力 ソースコード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ファイル入出力ソースコード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全体的な特徴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ドキュメント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定義書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中心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ドキュメントに書いたとおりのプログラムが作成でき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ドキュメントを変更したら、プログラムが自動的に変更され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ルーチンワーク的なコーディングを自動化でき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実行時ライブラリ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編集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基本パターン 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文字列変換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StringConverter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8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30312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発表者自己紹介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489800" cy="507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82DCA-AA5D-4BED-9B00-2688637AD1B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#.NE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avaScrip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9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VB.NE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多言語対応による特徴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Java, C#.NET, JavaScript, VB.NET, PHP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といった異なるプログラミング言語を 横断的に対応でき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基本パターン 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データベース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blanco Framework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の起源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Db 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プラグイン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用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用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#.NE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とは？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25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オープンソースのソースコード自動生成型フレームワーク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ライセンス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GNU LGPL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Excel(*.xls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ファイル形式の様式を中心とした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ソースコード自動生成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Eclipse/Apache Ant (Java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上で動作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数十人月から数千人月規模のプロジェクトで適用実績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62C5E-00F5-4EF2-93A3-CFF2FC4144A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835280" y="961920"/>
            <a:ext cx="5689440" cy="54914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用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85" name=""/>
          <p:cNvSpPr/>
          <p:nvPr/>
        </p:nvSpPr>
        <p:spPr>
          <a:xfrm>
            <a:off x="2771640" y="3483000"/>
            <a:ext cx="4608720" cy="20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PDO</a:t>
            </a: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ベース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の特徴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高速なデータベースアクセス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ストアドプロシージャ対応あり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除く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PHP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実行時ライブラリ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編集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必要なソースコードを全て自動生成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省メモリ 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/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大量データ件数の処理が可能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カーソルのスクロール方向が指定可能 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(Java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のみ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デッドロック・クエリタイムアウトのハンドリング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その他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への取り組み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*.xls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ファイル読み込み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日本語化パッチに取り組んでいます。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メーリングリストも運用しています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7898-81CD-4FCC-A3A0-D70EF6CD58E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整形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67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※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自動生成とは ほとんど関係ありません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整形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前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整形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後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200240" y="1676520"/>
          <a:ext cx="67453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53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609480" y="38782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280" y="5797440"/>
            <a:ext cx="81532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ライブラリ版もありま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057400" y="2520360"/>
            <a:ext cx="548640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OSC2006 Tokyo/Fall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降の変化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皆様から頂いた ご意見をもとに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新たに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, VB.NET 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自動生成に対応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006.11.21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CharacterGroup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Message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StringConverter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StringGroup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※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OSC2006 Tokyo/Fall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懇親会などで お寄せ頂いた ご意見をきっかけに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DbPhp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 (VB.NET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は未対応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の特長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076960" cy="465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低コスト </a:t>
            </a:r>
            <a:r>
              <a:rPr b="0" lang="en-GB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/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容易性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GNU LGP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単純な構造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導入が簡単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シンプルな操作性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39480" indent="-3394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複数言語対応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Java / C#.NET / JavaScript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/ </a:t>
            </a:r>
            <a:r>
              <a:rPr b="1" lang="en-GB" sz="20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PHP / VB.NET</a:t>
            </a: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に対応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39480" indent="-3394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導入の柔軟性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表計算ソフトで記入するだけ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実行時ライブラリ不要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部分的導入も可能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他のフレームワークとも併用可能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70F51-AE97-4DB9-B83F-00F4EBFEC66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5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版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Db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提供開始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006.12.29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PHP 5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以降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PDO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ベースのデータベース入出力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インジェクションの脅威を回避・予防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残念ながら私たちは実プロジェクト導入実績を知りません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→試用してみようというチャレンジャー募集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への取り組み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006.11.01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メーリングリスト立ち上げ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日本語化パッチの提供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DbDotNet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ODP.NET (Oracle)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対応に取り組み中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 Framework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に取り組んだなかで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定義書 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(*.xls)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と それに対応するソースコードとがマッピングできれば、自動生成は実現可能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自動生成するプログラミング言語の差異は さほど重要ではない。むしろ雛形ソースコード作成の難易度が高い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プロジェクトによって ある程度のカスタマイズは必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7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丸ｺﾞｼｯｸM-PRO"/>
              </a:rPr>
              <a:t>自動生成されたソースコードは変更しない！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ジェネレーションギャップ デザインパターン の採用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拡張が必要な場合は「クラスの継承」をおこなう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7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自動生成コストは意外に高い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Excel(*.xls) 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XML 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変換が </a:t>
            </a: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CPU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コスト高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ソースコード自動生成コストを考慮したモジュール分割設計が必要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終わり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適用工程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基本的に設計・製造工程を対象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403280" y="2421000"/>
            <a:ext cx="1295280" cy="765000"/>
            <a:chOff x="1403280" y="2421000"/>
            <a:chExt cx="1295280" cy="765000"/>
          </a:xfrm>
        </p:grpSpPr>
        <p:sp>
          <p:nvSpPr>
            <p:cNvPr id="115" name=""/>
            <p:cNvSpPr/>
            <p:nvPr/>
          </p:nvSpPr>
          <p:spPr>
            <a:xfrm>
              <a:off x="1403280" y="2421000"/>
              <a:ext cx="1295280" cy="7650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54480" y="2659680"/>
              <a:ext cx="90144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要件定義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422440" y="2276640"/>
            <a:ext cx="2003040" cy="1095120"/>
            <a:chOff x="2422440" y="2276640"/>
            <a:chExt cx="2003040" cy="1095120"/>
          </a:xfrm>
        </p:grpSpPr>
        <p:sp>
          <p:nvSpPr>
            <p:cNvPr id="118" name=""/>
            <p:cNvSpPr/>
            <p:nvPr/>
          </p:nvSpPr>
          <p:spPr>
            <a:xfrm>
              <a:off x="2422440" y="2276640"/>
              <a:ext cx="2003040" cy="1095120"/>
            </a:xfrm>
            <a:custGeom>
              <a:avLst/>
              <a:gdLst>
                <a:gd name="textAreaLeft" fmla="*/ 0 w 2003040"/>
                <a:gd name="textAreaRight" fmla="*/ 2003040 w 200304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21600" y="2432880"/>
              <a:ext cx="1520280" cy="80172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37560" y="2698920"/>
              <a:ext cx="5788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設計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780000" y="2276640"/>
            <a:ext cx="1902960" cy="1095120"/>
            <a:chOff x="3780000" y="2276640"/>
            <a:chExt cx="1902960" cy="1095120"/>
          </a:xfrm>
        </p:grpSpPr>
        <p:sp>
          <p:nvSpPr>
            <p:cNvPr id="122" name=""/>
            <p:cNvSpPr/>
            <p:nvPr/>
          </p:nvSpPr>
          <p:spPr>
            <a:xfrm>
              <a:off x="3780000" y="2276640"/>
              <a:ext cx="1902960" cy="1095120"/>
            </a:xfrm>
            <a:custGeom>
              <a:avLst/>
              <a:gdLst>
                <a:gd name="textAreaLeft" fmla="*/ 0 w 1902960"/>
                <a:gd name="textAreaRight" fmla="*/ 1903320 w 190296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01840" y="2432880"/>
              <a:ext cx="1419840" cy="801720"/>
            </a:xfrm>
            <a:custGeom>
              <a:avLst/>
              <a:gdLst>
                <a:gd name="textAreaLeft" fmla="*/ 0 w 1419840"/>
                <a:gd name="textAreaRight" fmla="*/ 1420200 w 141984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9760" y="2698920"/>
              <a:ext cx="5479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製造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521320" y="2421000"/>
            <a:ext cx="1425240" cy="765000"/>
            <a:chOff x="5521320" y="2421000"/>
            <a:chExt cx="1425240" cy="765000"/>
          </a:xfrm>
        </p:grpSpPr>
        <p:sp>
          <p:nvSpPr>
            <p:cNvPr id="126" name=""/>
            <p:cNvSpPr/>
            <p:nvPr/>
          </p:nvSpPr>
          <p:spPr>
            <a:xfrm>
              <a:off x="5521320" y="2421000"/>
              <a:ext cx="1425240" cy="765000"/>
            </a:xfrm>
            <a:custGeom>
              <a:avLst/>
              <a:gdLst>
                <a:gd name="textAreaLeft" fmla="*/ 0 w 1425240"/>
                <a:gd name="textAreaRight" fmla="*/ 1425240 w 142524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88240" y="2659680"/>
              <a:ext cx="7509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テスト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960720" y="3373560"/>
            <a:ext cx="1690920" cy="976320"/>
          </a:xfrm>
          <a:custGeom>
            <a:avLst/>
            <a:gdLst>
              <a:gd name="textAreaLeft" fmla="*/ 0 w 1690920"/>
              <a:gd name="textAreaRight" fmla="*/ 1691280 w 16909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3373560"/>
            <a:ext cx="1943280" cy="992160"/>
          </a:xfrm>
          <a:custGeom>
            <a:avLst/>
            <a:gdLst>
              <a:gd name="textAreaLeft" fmla="*/ 0 w 1943280"/>
              <a:gd name="textAreaRight" fmla="*/ 1943640 w 19432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14560" y="3732120"/>
            <a:ext cx="11527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ff3399"/>
                </a:solidFill>
                <a:latin typeface="Times New Roman"/>
                <a:ea typeface="HG丸ｺﾞｼｯｸM-PRO"/>
              </a:rPr>
              <a:t>定義書記入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2400" y="3710160"/>
            <a:ext cx="1300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ff3399"/>
                </a:solidFill>
                <a:latin typeface="Times New Roman"/>
                <a:ea typeface="HG丸ｺﾞｼｯｸM-PRO"/>
              </a:rPr>
              <a:t>ソースコード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ff3399"/>
                </a:solidFill>
                <a:latin typeface="Times New Roman"/>
                <a:ea typeface="HG丸ｺﾞｼｯｸM-PRO"/>
              </a:rPr>
              <a:t>自動生成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導入のメリット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8077320" cy="480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生産性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単純作業を自動化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工数を削減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可読性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均質なソースコードを自動生成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保守性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定義書の変更が即座にソースコードに反映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仕様と実装が常に一致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品質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自動化・均質化・変更の確実な実施などの結果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品質が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0B882-AD7E-406B-925D-8F6C75A9683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導入のデメリット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ソースコード規模増加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ソースコード自動生成の時間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11CFE-1351-49F5-BF08-96422B40CA1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主要プロダク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80000" y="3357720"/>
            <a:ext cx="2339640" cy="122364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0" y="765000"/>
            <a:ext cx="3360600" cy="3132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43400" y="787320"/>
            <a:ext cx="2820960" cy="28209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6360" y="4005360"/>
            <a:ext cx="2844720" cy="262728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80000" y="3968640"/>
            <a:ext cx="2598840" cy="259884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72360" y="2673360"/>
            <a:ext cx="609840" cy="71928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4" idx="3"/>
            <a:endCxn id="142" idx="2"/>
          </p:cNvCxnSpPr>
          <p:nvPr/>
        </p:nvCxnSpPr>
        <p:spPr>
          <a:xfrm>
            <a:off x="7162920" y="3019320"/>
            <a:ext cx="1010160" cy="151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145" name=""/>
          <p:cNvSpPr/>
          <p:nvPr/>
        </p:nvSpPr>
        <p:spPr>
          <a:xfrm>
            <a:off x="6370560" y="4184640"/>
            <a:ext cx="1009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文字列関連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4186080"/>
            <a:ext cx="971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電文送受信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32000" y="90972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ファイル入出力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99040" y="966960"/>
            <a:ext cx="14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データベース関連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5446800"/>
            <a:ext cx="719280" cy="71892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li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9" idx="3"/>
            <a:endCxn id="151" idx="1"/>
          </p:cNvCxnSpPr>
          <p:nvPr/>
        </p:nvCxnSpPr>
        <p:spPr>
          <a:xfrm flipV="1">
            <a:off x="1258560" y="5803200"/>
            <a:ext cx="757800" cy="39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152" name=""/>
          <p:cNvSpPr/>
          <p:nvPr/>
        </p:nvSpPr>
        <p:spPr>
          <a:xfrm>
            <a:off x="3924360" y="3825720"/>
            <a:ext cx="2087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lanco Frame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43280" y="4616280"/>
            <a:ext cx="75708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処理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68720" y="565956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24360" y="537228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SD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16000" y="5551560"/>
            <a:ext cx="649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eb Servi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rox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16000" y="5048280"/>
            <a:ext cx="649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クラス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95640" y="1379520"/>
            <a:ext cx="757080" cy="42228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可変長）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2171880"/>
            <a:ext cx="720720" cy="421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固定長）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95640" y="3000240"/>
            <a:ext cx="792000" cy="385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71640" y="1452600"/>
            <a:ext cx="792360" cy="420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コード</a:t>
            </a: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71640" y="2244600"/>
            <a:ext cx="792360" cy="420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71640" y="300024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341360"/>
            <a:ext cx="647640" cy="6494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可変長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2133720"/>
            <a:ext cx="647640" cy="64908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固定長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3070080"/>
            <a:ext cx="770040" cy="7700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パティ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96120" y="2084400"/>
            <a:ext cx="68580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SQL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59400" y="2803680"/>
            <a:ext cx="8035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3" idx="3"/>
            <a:endCxn id="160" idx="1"/>
          </p:cNvCxnSpPr>
          <p:nvPr/>
        </p:nvCxnSpPr>
        <p:spPr>
          <a:xfrm flipV="1">
            <a:off x="1115640" y="1662840"/>
            <a:ext cx="756360" cy="39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8" name=""/>
          <p:cNvCxnSpPr>
            <a:stCxn id="165" idx="3"/>
            <a:endCxn id="162" idx="1"/>
          </p:cNvCxnSpPr>
          <p:nvPr/>
        </p:nvCxnSpPr>
        <p:spPr>
          <a:xfrm flipV="1">
            <a:off x="1238040" y="3228120"/>
            <a:ext cx="633960" cy="22788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69" name=""/>
          <p:cNvCxnSpPr>
            <a:stCxn id="164" idx="3"/>
            <a:endCxn id="161" idx="1"/>
          </p:cNvCxnSpPr>
          <p:nvPr/>
        </p:nvCxnSpPr>
        <p:spPr>
          <a:xfrm flipV="1">
            <a:off x="1115640" y="2455200"/>
            <a:ext cx="756360" cy="39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0" name=""/>
          <p:cNvCxnSpPr>
            <a:stCxn id="157" idx="1"/>
            <a:endCxn id="160" idx="3"/>
          </p:cNvCxnSpPr>
          <p:nvPr/>
        </p:nvCxnSpPr>
        <p:spPr>
          <a:xfrm flipH="1">
            <a:off x="2663280" y="1590840"/>
            <a:ext cx="432360" cy="73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1" name=""/>
          <p:cNvCxnSpPr>
            <a:stCxn id="158" idx="1"/>
            <a:endCxn id="161" idx="3"/>
          </p:cNvCxnSpPr>
          <p:nvPr/>
        </p:nvCxnSpPr>
        <p:spPr>
          <a:xfrm flipH="1">
            <a:off x="2663640" y="2382480"/>
            <a:ext cx="468720" cy="73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2" name=""/>
          <p:cNvCxnSpPr>
            <a:stCxn id="159" idx="1"/>
            <a:endCxn id="162" idx="3"/>
          </p:cNvCxnSpPr>
          <p:nvPr/>
        </p:nvCxnSpPr>
        <p:spPr>
          <a:xfrm flipH="1">
            <a:off x="2709360" y="3193560"/>
            <a:ext cx="386640" cy="356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3" name=""/>
          <p:cNvCxnSpPr>
            <a:stCxn id="153" idx="2"/>
            <a:endCxn id="156" idx="3"/>
          </p:cNvCxnSpPr>
          <p:nvPr/>
        </p:nvCxnSpPr>
        <p:spPr>
          <a:xfrm flipH="1">
            <a:off x="2665080" y="5047920"/>
            <a:ext cx="558000" cy="181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4" name=""/>
          <p:cNvCxnSpPr>
            <a:stCxn id="153" idx="2"/>
            <a:endCxn id="151" idx="3"/>
          </p:cNvCxnSpPr>
          <p:nvPr/>
        </p:nvCxnSpPr>
        <p:spPr>
          <a:xfrm flipH="1">
            <a:off x="2665080" y="5047920"/>
            <a:ext cx="558000" cy="756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5" name=""/>
          <p:cNvCxnSpPr>
            <a:stCxn id="153" idx="2"/>
            <a:endCxn id="155" idx="0"/>
          </p:cNvCxnSpPr>
          <p:nvPr/>
        </p:nvCxnSpPr>
        <p:spPr>
          <a:xfrm>
            <a:off x="3222360" y="5048280"/>
            <a:ext cx="127800" cy="3247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6" name=""/>
          <p:cNvCxnSpPr>
            <a:stCxn id="166" idx="2"/>
            <a:endCxn id="144" idx="0"/>
          </p:cNvCxnSpPr>
          <p:nvPr/>
        </p:nvCxnSpPr>
        <p:spPr>
          <a:xfrm>
            <a:off x="6738840" y="2515680"/>
            <a:ext cx="23040" cy="288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7" name=""/>
          <p:cNvCxnSpPr>
            <a:endCxn id="165" idx="2"/>
          </p:cNvCxnSpPr>
          <p:nvPr/>
        </p:nvCxnSpPr>
        <p:spPr>
          <a:xfrm flipV="1" rot="10800000">
            <a:off x="853200" y="3212640"/>
            <a:ext cx="2233080" cy="627840"/>
          </a:xfrm>
          <a:prstGeom prst="curvedConnector5">
            <a:avLst>
              <a:gd name="adj1" fmla="val 15285"/>
              <a:gd name="adj2" fmla="val 68100"/>
              <a:gd name="adj3" fmla="val 15285"/>
            </a:avLst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178" name=""/>
          <p:cNvSpPr/>
          <p:nvPr/>
        </p:nvSpPr>
        <p:spPr>
          <a:xfrm>
            <a:off x="1798560" y="123336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entury Gothic"/>
                <a:ea typeface="MS UI Gothic"/>
              </a:rPr>
              <a:t>blancoCsv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98560" y="123660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560" y="2028960"/>
            <a:ext cx="90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entury Gothic"/>
              </a:rPr>
              <a:t>blancoFixedLengt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98560" y="2028960"/>
            <a:ext cx="2197080" cy="68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98560" y="282096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6560" y="2855880"/>
            <a:ext cx="104472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entury Gothic"/>
              </a:rPr>
              <a:t>blancoResourceBundl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4543560"/>
            <a:ext cx="6843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O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71640" y="4471920"/>
            <a:ext cx="2052720" cy="172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80120" y="179532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D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35760" y="1758960"/>
            <a:ext cx="1415880" cy="1620720"/>
          </a:xfrm>
          <a:custGeom>
            <a:avLst/>
            <a:gdLst>
              <a:gd name="textAreaLeft" fmla="*/ 69120 w 1415880"/>
              <a:gd name="textAreaRight" fmla="*/ 1346760 w 1415880"/>
              <a:gd name="textAreaTop" fmla="*/ 69120 h 1620720"/>
              <a:gd name="textAreaBottom" fmla="*/ 1551600 h 1620720"/>
            </a:gdLst>
            <a:ahLst/>
            <a:rect l="textAreaLeft" t="textAreaTop" r="textAreaRight" b="textAreaBottom"/>
            <a:pathLst>
              <a:path w="21600" h="24724">
                <a:moveTo>
                  <a:pt x="3600" y="0"/>
                </a:moveTo>
                <a:arcTo wR="3600" hR="3600" stAng="16200000" swAng="-5400000"/>
                <a:lnTo>
                  <a:pt x="0" y="21124"/>
                </a:lnTo>
                <a:arcTo wR="3600" hR="3600" stAng="10800000" swAng="-5400000"/>
                <a:lnTo>
                  <a:pt x="18000" y="24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43760" y="1363680"/>
            <a:ext cx="1152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qlEditorPlug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99040" y="1327320"/>
            <a:ext cx="1476360" cy="32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5640" y="4581360"/>
            <a:ext cx="11145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Mess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99280" y="4545000"/>
            <a:ext cx="1150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99280" y="494172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CharacterGro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83280" y="4903920"/>
            <a:ext cx="1582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7280" y="566100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tringGro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62560" y="5624640"/>
            <a:ext cx="129564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72360" y="530064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tringConver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19640" y="5264280"/>
            <a:ext cx="154800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70560" y="6021360"/>
            <a:ext cx="111780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Constan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34200" y="5985000"/>
            <a:ext cx="118908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動作原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86560" y="3681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M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86560" y="285264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ード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360" y="1773360"/>
            <a:ext cx="169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59280" y="1628640"/>
            <a:ext cx="3241440" cy="302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50920" y="31399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25800" y="328464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読み込み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8720" y="31417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81800" y="3284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書き出し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64360" y="4905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すぐに使えるソースコード</a:t>
            </a:r>
            <a:br>
              <a:rPr sz="1600"/>
            </a:b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実行時ライブラリ不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2529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記入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16360" y="4941720"/>
            <a:ext cx="2195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容易なインストール</a:t>
            </a:r>
            <a:br>
              <a:rPr sz="1600"/>
            </a:b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および実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80360" y="1160640"/>
            <a:ext cx="1150920" cy="1079280"/>
          </a:xfrm>
          <a:prstGeom prst="wedgeRectCallout">
            <a:avLst>
              <a:gd name="adj1" fmla="val -18138"/>
              <a:gd name="adj2" fmla="val 87648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C#.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Scrip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VB.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PH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0720" y="497664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表計算ソフトを使って</a:t>
            </a:r>
            <a:br>
              <a:rPr sz="1600"/>
            </a:b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記入するだけ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195120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Excel / OpenOff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64000" y="386064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64000" y="256392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40035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08360" y="27068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ExcelAp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6400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08360" y="20588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blanco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＊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7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1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19640" y="335448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Apache An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33544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Eclips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3068640"/>
            <a:ext cx="1152360" cy="7207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LS</a:t>
            </a: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）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7-03-16T06:42:30Z</dcterms:modified>
  <cp:revision>487</cp:revision>
  <dc:subject/>
  <dc:title>blanco Framework ご紹介</dc:title>
</cp:coreProperties>
</file>