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814F54-3CC0-4B12-9D84-59D632B174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06120" y="2322360"/>
            <a:ext cx="76042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06120" y="4183200"/>
            <a:ext cx="76042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1F09C5-5124-446A-8DE5-172CD864C7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06120" y="232236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2760" y="232236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06120" y="418320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2760" y="418320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9661ED-1EBA-4A14-BDC6-F98D3359BA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06120" y="2322360"/>
            <a:ext cx="244836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77240" y="2322360"/>
            <a:ext cx="244836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8360" y="2322360"/>
            <a:ext cx="244836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06120" y="4183200"/>
            <a:ext cx="244836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77240" y="4183200"/>
            <a:ext cx="244836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8360" y="4183200"/>
            <a:ext cx="244836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BC554A-760C-425B-8093-CBEC4E628EE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06120" y="2322360"/>
            <a:ext cx="7604280" cy="35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8B0590-8079-426D-9B3D-D8099889922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06120" y="2322360"/>
            <a:ext cx="7604280" cy="35625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418ED8-77AA-4E00-A816-25020A36C3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06120" y="2322360"/>
            <a:ext cx="3710880" cy="35625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2760" y="2322360"/>
            <a:ext cx="3710880" cy="35625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78AC34-1FCC-4861-ABEF-534B7F6E5B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D065F0-D49E-4B87-A681-54981DB02C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1160" y="173160"/>
            <a:ext cx="7599600" cy="73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5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6030DF-2CDB-48CE-81A9-BA865E9356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06120" y="232236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2760" y="2322360"/>
            <a:ext cx="3710880" cy="35625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06120" y="418320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ED6B14-88CF-490F-AB6E-DF81CFD7F2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06120" y="2322360"/>
            <a:ext cx="3710880" cy="35625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2760" y="232236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2760" y="418320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51FF30-79E3-43B0-812D-42A7180BD2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06120" y="232236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2760" y="232236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06120" y="4183200"/>
            <a:ext cx="76042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7FCBC4-2330-4B2E-92D0-4FC32EF1DC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17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41920" y="6248520"/>
            <a:ext cx="18986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8CDEB71-4A42-4E9C-9D88-30646A6B9C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906120" y="2322360"/>
            <a:ext cx="7604280" cy="35625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ele-GroteskUl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1" marL="287280" indent="-172800">
              <a:lnSpc>
                <a:spcPts val="2500"/>
              </a:lnSpc>
              <a:buClr>
                <a:srgbClr val="ffffff"/>
              </a:buClr>
              <a:buSzPct val="68000"/>
              <a:buFont typeface="Wingdings" charset="2"/>
              <a:buChar char="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ele-GroteskUl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2" marL="1143000" indent="-228600">
              <a:lnSpc>
                <a:spcPts val="2500"/>
              </a:lnSpc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ele-GroteskUl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3" marL="1600200" indent="-228600">
              <a:lnSpc>
                <a:spcPts val="2500"/>
              </a:lnSpc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ele-GroteskUl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4" marL="2057400" indent="-228600">
              <a:lnSpc>
                <a:spcPts val="2500"/>
              </a:lnSpc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ele-GroteskUl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5" marL="2057400" indent="-228600">
              <a:lnSpc>
                <a:spcPts val="2500"/>
              </a:lnSpc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ele-GroteskUl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6" marL="2057400" indent="-228600">
              <a:lnSpc>
                <a:spcPts val="2500"/>
              </a:lnSpc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ele-GroteskUl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ele-Antiqu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4" name=""/>
          <p:cNvSpPr/>
          <p:nvPr/>
        </p:nvSpPr>
        <p:spPr>
          <a:xfrm>
            <a:off x="-271800" y="6232680"/>
            <a:ext cx="3420360" cy="6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500" spc="-1" strike="noStrike">
                <a:solidFill>
                  <a:srgbClr val="ffffff"/>
                </a:solidFill>
                <a:latin typeface="TeleLogo"/>
              </a:rPr>
              <a:t>====!</a:t>
            </a:r>
            <a:r>
              <a:rPr b="0" lang="de-DE" sz="3500" spc="-1" strike="noStrike">
                <a:solidFill>
                  <a:srgbClr val="f00580"/>
                </a:solidFill>
                <a:latin typeface="TeleLogo"/>
              </a:rPr>
              <a:t>"</a:t>
            </a:r>
            <a:r>
              <a:rPr b="0" lang="de-DE" sz="3500" spc="-1" strike="noStrike">
                <a:solidFill>
                  <a:srgbClr val="ffffff"/>
                </a:solidFill>
                <a:latin typeface="TeleLogo"/>
              </a:rPr>
              <a:t>§=!Nova§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17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 algn="ctr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ele-Antiqua"/>
              </a:rPr>
              <a:t> </a:t>
            </a:r>
            <a:r>
              <a:rPr b="0" lang="de-DE" sz="4400" spc="-1" strike="noStrike">
                <a:solidFill>
                  <a:srgbClr val="ffffff"/>
                </a:solidFill>
                <a:latin typeface="Tele-Antiqua"/>
              </a:rPr>
              <a:t>EU-Project SHAMAN</a:t>
            </a:r>
            <a:br>
              <a:rPr sz="4400"/>
            </a:br>
            <a:r>
              <a:rPr b="0" lang="de-DE" sz="3200" spc="-1" strike="noStrike">
                <a:solidFill>
                  <a:srgbClr val="ffffff"/>
                </a:solidFill>
                <a:latin typeface="Tele-Antiqua"/>
              </a:rPr>
              <a:t>Security for Heterogeneous Access in Mobile Applications and Networks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ele-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17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ele-Antiqua"/>
              </a:rPr>
              <a:t>History</a:t>
            </a: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8109000" cy="3562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 fontScale="79000"/>
          </a:bodyPr>
          <a:p>
            <a:pPr>
              <a:lnSpc>
                <a:spcPts val="2500"/>
              </a:lnSpc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SHAMAN is the successor of the EU-Projects ASPeCT (Advanced Security for Personal Communications Technologies, ACTS 095) and USECA (UMTS Security Architecture, ACTS 336)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indent="0">
              <a:lnSpc>
                <a:spcPts val="2500"/>
              </a:lnSpc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>
              <a:lnSpc>
                <a:spcPts val="2500"/>
              </a:lnSpc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Both projects delivered valuable input for the UMTS-standardisation 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indent="0">
              <a:lnSpc>
                <a:spcPts val="2500"/>
              </a:lnSpc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>
              <a:lnSpc>
                <a:spcPts val="2500"/>
              </a:lnSpc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Involved parties in the USECA-Project: 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2" marL="902880" indent="-18036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perator: Vodafo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02880" indent="-18036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nufactures: Siemens, Panasonic, Giesecke &amp; Devri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02880" indent="-18036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Katholieke Universiteit Leuve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ts val="2500"/>
              </a:lnSpc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indent="0">
              <a:lnSpc>
                <a:spcPts val="2500"/>
              </a:lnSpc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17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ele-Antiqua"/>
              </a:rPr>
              <a:t>SHAMAN Workpackages</a:t>
            </a: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14040" y="1143000"/>
            <a:ext cx="8077320" cy="51055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>
              <a:lnSpc>
                <a:spcPts val="2500"/>
              </a:lnSpc>
              <a:spcAft>
                <a:spcPts val="601"/>
              </a:spcAft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WP1 – Security for global roaming in IP-based mobile      </a:t>
            </a: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	</a:t>
            </a: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 networks with heterogeneous access networks 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efinition of secure protocols for heterogeneous IP-based access networks, e.g. Wireless LANs, Bluetooth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ts val="2500"/>
              </a:lnSpc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>
              <a:lnSpc>
                <a:spcPts val="2500"/>
              </a:lnSpc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WP2 – Unified Security architecture for future mobile terminals and applications 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evelopment of an Security-architecture for mobile terminals as well as for the service and application environ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17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ele-Antiqua"/>
              </a:rPr>
              <a:t>SHAMAN Workpackages</a:t>
            </a: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14400" y="685800"/>
            <a:ext cx="8229600" cy="59212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>
              <a:lnSpc>
                <a:spcPts val="2500"/>
              </a:lnSpc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WP3 - Public Key Infrastructure for next generation mobile telecommunications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efinition of Interoperability Requirements for PKIs in future heterogeneous network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urvey of usage possibilities of PKI in mobile networks, e.g. for Core Network Secur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ts val="2500"/>
              </a:lnSpc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WP4 – Security modules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dentification of components in mobile terminals, which need physical and cryptographic protection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ts val="2500"/>
              </a:lnSpc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WP5 – Prototypes and demonstrators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>
              <a:lnSpc>
                <a:spcPts val="2500"/>
              </a:lnSpc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WP6 – External relations and liaison with standards bodies </a:t>
            </a:r>
            <a:br>
              <a:rPr sz="2600"/>
            </a:b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29T12:03:46Z</dcterms:created>
  <dc:creator>Bernd Adams</dc:creator>
  <dc:description/>
  <dc:language>en-US</dc:language>
  <cp:lastModifiedBy>Bernd Adams</cp:lastModifiedBy>
  <cp:lastPrinted>2000-05-29T14:30:08Z</cp:lastPrinted>
  <dcterms:modified xsi:type="dcterms:W3CDTF">2001-03-07T13:53:07Z</dcterms:modified>
  <cp:revision>6</cp:revision>
  <dc:subject/>
  <dc:title>Das EU-Projekt SHAMAN Security for heterogeneous access in mobile applications and networks </dc:title>
</cp:coreProperties>
</file>