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E90B-7C1E-41FD-881F-71FD85330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9760-2083-4123-8285-79F8877E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1A49-C397-4469-B063-7B100F86B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3008-33FC-44D6-A176-02FCD307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7956-3E91-43E7-A12C-F0CDBE8B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186B-1B88-4BC6-BF8A-F5A58FB4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2ED5-0175-4DFD-AD5B-AAF92C0D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9E1E-3E22-43E4-A773-7A1DBE96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3164-B0DE-4095-80CB-7618C94B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136F-9D5B-4C39-B044-5C621225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438D-F039-47BC-9381-6652F78D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0CE1-9E09-47F3-B9DB-728512F9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BC35411-A259-4344-93A1-12338282BA3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260280" y="6511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FDB1-E09E-4A1D-AE75-F2EEEC58EF8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219800" y="6480"/>
          <a:ext cx="1851120" cy="60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9800" y="6480"/>
                    <a:ext cx="18511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7467480" y="6613560"/>
            <a:ext cx="1595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SEM08-14 rev.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Mar</a:t>
            </a: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pecialist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ask Forces (STFs)</a:t>
            </a: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lberto BERRINI</a:t>
            </a:r>
            <a:br>
              <a:rPr sz="3600"/>
            </a:b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CPM department</a:t>
            </a:r>
            <a:br>
              <a:rPr sz="2800"/>
            </a:br>
            <a:r>
              <a:rPr b="1" i="1" lang="en-GB" sz="2000" spc="-1" strike="noStrike">
                <a:solidFill>
                  <a:srgbClr val="fafd00"/>
                </a:solidFill>
                <a:latin typeface="Arial"/>
              </a:rPr>
              <a:t>Specialist Task Forces - Project Manager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600200" y="3886200"/>
            <a:ext cx="518148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GA endors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35268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ard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281952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s negot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228600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Member’s consul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15200" y="30481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71880" y="1389240"/>
            <a:ext cx="1903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Preparation of the STF Work Programme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2133720"/>
            <a:ext cx="15238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C/EF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5200" y="12193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T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00200" y="175248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proposals (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1143000"/>
            <a:ext cx="1828800" cy="266688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00200" y="121932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8520" y="3429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4-25 O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2680" y="2895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Oc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6720" y="22860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Sep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00200" y="5105520"/>
            <a:ext cx="2971800" cy="11430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Work Program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2002 in 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05520"/>
            <a:ext cx="1828800" cy="114300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ing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or new STF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in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2960" y="39625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-21 No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6858000" y="1600200"/>
            <a:ext cx="457200" cy="2286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858000" y="2438280"/>
            <a:ext cx="45720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858000" y="3124080"/>
            <a:ext cx="457200" cy="15264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13716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Se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52578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Jan</a:t>
            </a:r>
            <a:br>
              <a:rPr sz="1800"/>
            </a:b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981080" y="44956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perts’ avai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981080" y="3505320"/>
            <a:ext cx="6019920" cy="914400"/>
            <a:chOff x="1981080" y="3505320"/>
            <a:chExt cx="6019920" cy="914400"/>
          </a:xfrm>
        </p:grpSpPr>
        <p:sp>
          <p:nvSpPr>
            <p:cNvPr id="453" name=""/>
            <p:cNvSpPr/>
            <p:nvPr/>
          </p:nvSpPr>
          <p:spPr>
            <a:xfrm>
              <a:off x="1981080" y="3962520"/>
              <a:ext cx="205740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Experts Sele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38480" y="3962520"/>
              <a:ext cx="198144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STF work pl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3962520"/>
              <a:ext cx="198108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Contra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81080" y="3505320"/>
              <a:ext cx="601992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Preparatory Mee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981080" y="297180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Re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24382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from ETSI 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81080" y="190512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ll for Experts (Collective Let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cruitment and set-up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57800" y="838080"/>
            <a:ext cx="27432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9720" y="3048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8320" y="2438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6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81080" y="838080"/>
            <a:ext cx="29718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oR appro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5181480"/>
            <a:ext cx="6019920" cy="10670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at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3040" y="4495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0 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295280"/>
            <a:ext cx="914400" cy="609840"/>
          </a:xfrm>
          <a:prstGeom prst="wedgeRoundRectCallout">
            <a:avLst>
              <a:gd name="adj1" fmla="val 61805"/>
              <a:gd name="adj2" fmla="val 88282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fr-FR" sz="20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62120" y="388620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556272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0800" y="5943600"/>
            <a:ext cx="1419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(7–10 weeks </a:t>
            </a:r>
            <a:br>
              <a:rPr sz="1600"/>
            </a:b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rom T</a:t>
            </a:r>
            <a:r>
              <a:rPr b="1" lang="fr-FR" sz="16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457200" y="914400"/>
            <a:ext cx="8034480" cy="70380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home page on the ETSI WEB:   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tp://www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etsi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org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1447920"/>
            <a:ext cx="73152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ample of information available on the si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create an STF</a:t>
            </a:r>
            <a:r>
              <a:rPr b="0" lang="en-GB" sz="2000" spc="-1" strike="noStrike">
                <a:solidFill>
                  <a:srgbClr val="8cf4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ToRs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templ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join an ST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Open Call for Experts (vacanc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ontractual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List of active ST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WEB addresses for more information on ST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480060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a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STF Manager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Alberto Berri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Recruitment Assistant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hristine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Voulg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6014880" y="615960"/>
            <a:ext cx="2927520" cy="3492360"/>
            <a:chOff x="6014880" y="615960"/>
            <a:chExt cx="2927520" cy="3492360"/>
          </a:xfrm>
        </p:grpSpPr>
        <p:sp>
          <p:nvSpPr>
            <p:cNvPr id="476" name=""/>
            <p:cNvSpPr/>
            <p:nvPr/>
          </p:nvSpPr>
          <p:spPr>
            <a:xfrm>
              <a:off x="6014880" y="615960"/>
              <a:ext cx="2927520" cy="34923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60000">
              <a:off x="6834240" y="1095480"/>
              <a:ext cx="1090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380000">
              <a:off x="7143120" y="2925720"/>
              <a:ext cx="1399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alid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0280000">
              <a:off x="6066720" y="2315880"/>
              <a:ext cx="198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hodolog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91520" y="1630440"/>
              <a:ext cx="86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TC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14320" y="2316240"/>
              <a:ext cx="6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D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63040" y="1630440"/>
              <a:ext cx="93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N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94640" y="338292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71280" y="5091120"/>
            <a:ext cx="26719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TSI STFs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orking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884920" y="3892680"/>
            <a:ext cx="2860560" cy="2577960"/>
            <a:chOff x="5884920" y="3892680"/>
            <a:chExt cx="2860560" cy="2577960"/>
          </a:xfrm>
        </p:grpSpPr>
        <p:sp>
          <p:nvSpPr>
            <p:cNvPr id="486" name=""/>
            <p:cNvSpPr/>
            <p:nvPr/>
          </p:nvSpPr>
          <p:spPr>
            <a:xfrm>
              <a:off x="5884920" y="3892680"/>
              <a:ext cx="2860560" cy="25779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0100000">
              <a:off x="7467840" y="4602240"/>
              <a:ext cx="748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VoI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0700000">
              <a:off x="6889320" y="5744880"/>
              <a:ext cx="151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0940000">
              <a:off x="6298200" y="4371480"/>
              <a:ext cx="1386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rmin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480000">
              <a:off x="6035400" y="5135400"/>
              <a:ext cx="1654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VideoPho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09920" y="5135400"/>
              <a:ext cx="509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33360" y="235080"/>
            <a:ext cx="3122640" cy="4559040"/>
            <a:chOff x="333360" y="235080"/>
            <a:chExt cx="3122640" cy="4559040"/>
          </a:xfrm>
        </p:grpSpPr>
        <p:sp>
          <p:nvSpPr>
            <p:cNvPr id="493" name=""/>
            <p:cNvSpPr/>
            <p:nvPr/>
          </p:nvSpPr>
          <p:spPr>
            <a:xfrm>
              <a:off x="333360" y="235080"/>
              <a:ext cx="3122640" cy="455904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9800000">
              <a:off x="795600" y="86796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2100000">
              <a:off x="517680" y="223956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M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380000">
              <a:off x="2043360" y="1553760"/>
              <a:ext cx="87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480000">
              <a:off x="1442880" y="2010960"/>
              <a:ext cx="1033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T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0480" y="1554120"/>
              <a:ext cx="128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HiperL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2700000">
              <a:off x="2215800" y="2772360"/>
              <a:ext cx="1088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840000">
              <a:off x="1566720" y="639720"/>
              <a:ext cx="1315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uro-Rail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80000">
              <a:off x="900720" y="3306600"/>
              <a:ext cx="1727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eronaut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1480000">
              <a:off x="1179360" y="3936960"/>
              <a:ext cx="1332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telli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9800000">
              <a:off x="1356840" y="2696760"/>
              <a:ext cx="86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GP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2357280" y="3206880"/>
            <a:ext cx="3645000" cy="3340080"/>
            <a:chOff x="2357280" y="3206880"/>
            <a:chExt cx="3645000" cy="3340080"/>
          </a:xfrm>
        </p:grpSpPr>
        <p:grpSp>
          <p:nvGrpSpPr>
            <p:cNvPr id="505" name=""/>
            <p:cNvGrpSpPr/>
            <p:nvPr/>
          </p:nvGrpSpPr>
          <p:grpSpPr>
            <a:xfrm>
              <a:off x="2357280" y="3206880"/>
              <a:ext cx="3645000" cy="3340080"/>
              <a:chOff x="2357280" y="3206880"/>
              <a:chExt cx="3645000" cy="334008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2357280" y="3206880"/>
                <a:ext cx="3645000" cy="3340080"/>
                <a:chOff x="2357280" y="3206880"/>
                <a:chExt cx="3645000" cy="33400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357280" y="3206880"/>
                  <a:ext cx="3645000" cy="334008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20220000">
                  <a:off x="2805480" y="4449240"/>
                  <a:ext cx="793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SD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 rot="20160000">
                <a:off x="2999160" y="4982760"/>
                <a:ext cx="133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etwork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20220000">
                <a:off x="4445280" y="5362200"/>
                <a:ext cx="905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Q-SI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720000">
                <a:off x="4436640" y="4297320"/>
                <a:ext cx="106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eased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in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21540000">
                <a:off x="3702960" y="384012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P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780000">
                <a:off x="3864960" y="5821200"/>
                <a:ext cx="892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AB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20280000">
              <a:off x="3656520" y="4343400"/>
              <a:ext cx="851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B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276720" y="393840"/>
            <a:ext cx="2927160" cy="3035160"/>
            <a:chOff x="3276720" y="393840"/>
            <a:chExt cx="2927160" cy="3035160"/>
          </a:xfrm>
        </p:grpSpPr>
        <p:sp>
          <p:nvSpPr>
            <p:cNvPr id="516" name=""/>
            <p:cNvSpPr/>
            <p:nvPr/>
          </p:nvSpPr>
          <p:spPr>
            <a:xfrm>
              <a:off x="3276720" y="393840"/>
              <a:ext cx="2927160" cy="30351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820000">
              <a:off x="3907800" y="569880"/>
              <a:ext cx="118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1000000">
              <a:off x="3983760" y="2170080"/>
              <a:ext cx="203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uman Facto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600000">
              <a:off x="4288320" y="1103400"/>
              <a:ext cx="183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sign for A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18900000">
              <a:off x="4595760" y="1636200"/>
              <a:ext cx="763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Q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700000">
              <a:off x="3322440" y="1230840"/>
              <a:ext cx="1570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Speech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ogni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600000">
              <a:off x="3526560" y="2779560"/>
              <a:ext cx="2009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Unique User 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4520" y="171360"/>
            <a:ext cx="445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normal working method to produce ETSI standards is by voluntary contribution of the Members in the Committees,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owever, ETSI can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contract exper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o set-up STF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s ar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und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from the ETSI budget, EC/EFTA Vouchers, voluntary contributions from Membe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 experts normally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work togeth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 sessions in the ETSI premises of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Sophia Antipol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reference TB has the technical responsibility for the STF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approv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heir deliverab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ETSI Secretaria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rovides management support, technical supervision and office facil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838080"/>
            <a:ext cx="8534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STF is a group of experts working together to draft urgent deliverables or to perform special tasks on behalf of an ETSI Technical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he STF role in the ETSI standards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914400"/>
            <a:ext cx="289548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267080" y="4572000"/>
            <a:ext cx="2743200" cy="1905120"/>
            <a:chOff x="4267080" y="4572000"/>
            <a:chExt cx="2743200" cy="1905120"/>
          </a:xfrm>
        </p:grpSpPr>
        <p:sp>
          <p:nvSpPr>
            <p:cNvPr id="52" name=""/>
            <p:cNvSpPr/>
            <p:nvPr/>
          </p:nvSpPr>
          <p:spPr>
            <a:xfrm>
              <a:off x="4267080" y="5334120"/>
              <a:ext cx="274320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STF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(contracted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expert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943600" y="4572000"/>
              <a:ext cx="53352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791320" y="3429000"/>
            <a:ext cx="1447560" cy="1295280"/>
            <a:chOff x="5791320" y="3429000"/>
            <a:chExt cx="1447560" cy="1295280"/>
          </a:xfrm>
        </p:grpSpPr>
        <p:sp>
          <p:nvSpPr>
            <p:cNvPr id="55" name=""/>
            <p:cNvSpPr/>
            <p:nvPr/>
          </p:nvSpPr>
          <p:spPr>
            <a:xfrm>
              <a:off x="5791320" y="4038480"/>
              <a:ext cx="129528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Fund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781680" y="3429000"/>
              <a:ext cx="457200" cy="5335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781680" y="2286000"/>
            <a:ext cx="1295640" cy="1219320"/>
            <a:chOff x="6781680" y="2286000"/>
            <a:chExt cx="1295640" cy="1219320"/>
          </a:xfrm>
        </p:grpSpPr>
        <p:sp>
          <p:nvSpPr>
            <p:cNvPr id="58" name=""/>
            <p:cNvSpPr/>
            <p:nvPr/>
          </p:nvSpPr>
          <p:spPr>
            <a:xfrm>
              <a:off x="6781680" y="2819520"/>
              <a:ext cx="129564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afd00"/>
                  </a:solidFill>
                  <a:latin typeface="Arial"/>
                </a:rPr>
                <a:t>Bo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approv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695720" y="2286000"/>
              <a:ext cx="38124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467480" y="1905120"/>
            <a:ext cx="1219320" cy="3808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STF 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38080" y="4419720"/>
            <a:ext cx="1524240" cy="2133360"/>
            <a:chOff x="838080" y="4419720"/>
            <a:chExt cx="1524240" cy="2133360"/>
          </a:xfrm>
        </p:grpSpPr>
        <p:sp>
          <p:nvSpPr>
            <p:cNvPr id="62" name=""/>
            <p:cNvSpPr/>
            <p:nvPr/>
          </p:nvSpPr>
          <p:spPr>
            <a:xfrm>
              <a:off x="838080" y="5029200"/>
              <a:ext cx="152424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ublished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76520" y="4419720"/>
              <a:ext cx="0" cy="60948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33520" y="3809880"/>
            <a:ext cx="2209680" cy="60984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819520" y="4114800"/>
            <a:ext cx="83808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429000" y="3200400"/>
            <a:ext cx="1752480" cy="1981080"/>
            <a:chOff x="3429000" y="3200400"/>
            <a:chExt cx="1752480" cy="1981080"/>
          </a:xfrm>
        </p:grpSpPr>
        <p:sp>
          <p:nvSpPr>
            <p:cNvPr id="67" name=""/>
            <p:cNvSpPr/>
            <p:nvPr/>
          </p:nvSpPr>
          <p:spPr>
            <a:xfrm flipH="1" flipV="1">
              <a:off x="4800600" y="4724280"/>
              <a:ext cx="380880" cy="45720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9000" y="3200400"/>
              <a:ext cx="152388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238880" y="3733920"/>
            <a:ext cx="1676520" cy="533160"/>
            <a:chOff x="7238880" y="3733920"/>
            <a:chExt cx="1676520" cy="533160"/>
          </a:xfrm>
        </p:grpSpPr>
        <p:sp>
          <p:nvSpPr>
            <p:cNvPr id="70" name=""/>
            <p:cNvSpPr/>
            <p:nvPr/>
          </p:nvSpPr>
          <p:spPr>
            <a:xfrm>
              <a:off x="7696080" y="373392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238880" y="4038480"/>
              <a:ext cx="45720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238520" y="4343040"/>
            <a:ext cx="1667520" cy="457560"/>
            <a:chOff x="7238520" y="4343040"/>
            <a:chExt cx="1667520" cy="457560"/>
          </a:xfrm>
        </p:grpSpPr>
        <p:sp>
          <p:nvSpPr>
            <p:cNvPr id="73" name=""/>
            <p:cNvSpPr/>
            <p:nvPr/>
          </p:nvSpPr>
          <p:spPr>
            <a:xfrm>
              <a:off x="7620120" y="4343400"/>
              <a:ext cx="12859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C/EF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7238520" y="4343040"/>
              <a:ext cx="381240" cy="152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162920" y="4419360"/>
            <a:ext cx="1523880" cy="990720"/>
            <a:chOff x="7162920" y="4419360"/>
            <a:chExt cx="1523880" cy="990720"/>
          </a:xfrm>
        </p:grpSpPr>
        <p:sp>
          <p:nvSpPr>
            <p:cNvPr id="76" name=""/>
            <p:cNvSpPr/>
            <p:nvPr/>
          </p:nvSpPr>
          <p:spPr>
            <a:xfrm>
              <a:off x="7467480" y="495288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emb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7162920" y="4419360"/>
              <a:ext cx="38088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33520" y="814320"/>
            <a:ext cx="2742840" cy="2386080"/>
            <a:chOff x="533520" y="814320"/>
            <a:chExt cx="2742840" cy="2386080"/>
          </a:xfrm>
        </p:grpSpPr>
        <p:sp>
          <p:nvSpPr>
            <p:cNvPr id="79" name=""/>
            <p:cNvSpPr/>
            <p:nvPr/>
          </p:nvSpPr>
          <p:spPr>
            <a:xfrm>
              <a:off x="533520" y="2057400"/>
              <a:ext cx="220968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Committee</a:t>
              </a:r>
              <a:br>
                <a:rPr sz="2000"/>
              </a:b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 voluntary</a:t>
              </a: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 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676160" y="1219320"/>
              <a:ext cx="16002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76520" y="1219320"/>
              <a:ext cx="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02000" y="814320"/>
              <a:ext cx="156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Normal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248160" y="838080"/>
            <a:ext cx="1905120" cy="990720"/>
            <a:chOff x="6248160" y="838080"/>
            <a:chExt cx="1905120" cy="990720"/>
          </a:xfrm>
        </p:grpSpPr>
        <p:sp>
          <p:nvSpPr>
            <p:cNvPr id="84" name=""/>
            <p:cNvSpPr/>
            <p:nvPr/>
          </p:nvSpPr>
          <p:spPr>
            <a:xfrm flipH="1">
              <a:off x="6248160" y="1219320"/>
              <a:ext cx="1904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1219320"/>
              <a:ext cx="0" cy="6094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2600" y="83808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Urgent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752480" y="3200400"/>
            <a:ext cx="1645200" cy="457200"/>
            <a:chOff x="1752480" y="3200400"/>
            <a:chExt cx="1645200" cy="457200"/>
          </a:xfrm>
        </p:grpSpPr>
        <p:sp>
          <p:nvSpPr>
            <p:cNvPr id="88" name=""/>
            <p:cNvSpPr/>
            <p:nvPr/>
          </p:nvSpPr>
          <p:spPr>
            <a:xfrm>
              <a:off x="1752480" y="3200400"/>
              <a:ext cx="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33120" y="3276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Draft 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36720" y="1397160"/>
            <a:ext cx="1309680" cy="101592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120" y="3733920"/>
            <a:ext cx="1239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echnical</a:t>
            </a:r>
            <a:br>
              <a:rPr sz="1800"/>
            </a:b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uid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2000" y="4724280"/>
            <a:ext cx="4876200" cy="1676520"/>
            <a:chOff x="3582000" y="4724280"/>
            <a:chExt cx="4876200" cy="1676520"/>
          </a:xfrm>
        </p:grpSpPr>
        <p:grpSp>
          <p:nvGrpSpPr>
            <p:cNvPr id="93" name=""/>
            <p:cNvGrpSpPr/>
            <p:nvPr/>
          </p:nvGrpSpPr>
          <p:grpSpPr>
            <a:xfrm>
              <a:off x="4952880" y="4724280"/>
              <a:ext cx="3505320" cy="1676520"/>
              <a:chOff x="4952880" y="4724280"/>
              <a:chExt cx="3505320" cy="1676520"/>
            </a:xfrm>
          </p:grpSpPr>
          <p:sp>
            <p:nvSpPr>
              <p:cNvPr id="94" name=""/>
              <p:cNvSpPr/>
              <p:nvPr/>
            </p:nvSpPr>
            <p:spPr>
              <a:xfrm>
                <a:off x="4952880" y="4724280"/>
                <a:ext cx="3505320" cy="1676520"/>
              </a:xfrm>
              <a:prstGeom prst="rect">
                <a:avLst/>
              </a:prstGeom>
              <a:solidFill>
                <a:srgbClr val="ff99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95" name=""/>
              <p:cNvGraphicFramePr/>
              <p:nvPr/>
            </p:nvGraphicFramePr>
            <p:xfrm>
              <a:off x="5013360" y="4762440"/>
              <a:ext cx="3413160" cy="1612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13360" y="4762440"/>
                        <a:ext cx="3413160" cy="161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7" name=""/>
            <p:cNvSpPr/>
            <p:nvPr/>
          </p:nvSpPr>
          <p:spPr>
            <a:xfrm>
              <a:off x="3582000" y="5562720"/>
              <a:ext cx="130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xper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95440" y="214200"/>
            <a:ext cx="473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rganization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36720" y="2514600"/>
            <a:ext cx="1309680" cy="1555920"/>
            <a:chOff x="936720" y="2514600"/>
            <a:chExt cx="1309680" cy="1555920"/>
          </a:xfrm>
        </p:grpSpPr>
        <p:sp>
          <p:nvSpPr>
            <p:cNvPr id="100" name=""/>
            <p:cNvSpPr/>
            <p:nvPr/>
          </p:nvSpPr>
          <p:spPr>
            <a:xfrm>
              <a:off x="936720" y="3054240"/>
              <a:ext cx="1309680" cy="101628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W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1600" y="251460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20880" y="4191120"/>
            <a:ext cx="1309680" cy="1631880"/>
            <a:chOff x="920880" y="4191120"/>
            <a:chExt cx="1309680" cy="1631880"/>
          </a:xfrm>
        </p:grpSpPr>
        <p:sp>
          <p:nvSpPr>
            <p:cNvPr id="103" name=""/>
            <p:cNvSpPr/>
            <p:nvPr/>
          </p:nvSpPr>
          <p:spPr>
            <a:xfrm>
              <a:off x="920880" y="4807080"/>
              <a:ext cx="1309680" cy="10159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teering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419112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2514600" y="3505320"/>
            <a:ext cx="32767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514240" y="19807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437920" y="3886200"/>
            <a:ext cx="3429000" cy="1371600"/>
          </a:xfrm>
          <a:prstGeom prst="line">
            <a:avLst/>
          </a:prstGeom>
          <a:ln w="7632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095880" y="2895480"/>
            <a:ext cx="2479320" cy="1752840"/>
            <a:chOff x="6095880" y="2895480"/>
            <a:chExt cx="2479320" cy="1752840"/>
          </a:xfrm>
        </p:grpSpPr>
        <p:sp>
          <p:nvSpPr>
            <p:cNvPr id="109" name=""/>
            <p:cNvSpPr/>
            <p:nvPr/>
          </p:nvSpPr>
          <p:spPr>
            <a:xfrm>
              <a:off x="7391880" y="2895480"/>
              <a:ext cx="1183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am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Le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095880" y="2895480"/>
              <a:ext cx="1143000" cy="1752840"/>
              <a:chOff x="6095880" y="2895480"/>
              <a:chExt cx="1143000" cy="17528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095880" y="2895480"/>
                <a:ext cx="1143000" cy="1244880"/>
                <a:chOff x="6095880" y="2895480"/>
                <a:chExt cx="1143000" cy="12448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095880" y="2895480"/>
                  <a:ext cx="1143000" cy="1244880"/>
                </a:xfrm>
                <a:prstGeom prst="rect">
                  <a:avLst/>
                </a:prstGeom>
                <a:solidFill>
                  <a:srgbClr val="ff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13" name=""/>
                <p:cNvGraphicFramePr/>
                <p:nvPr/>
              </p:nvGraphicFramePr>
              <p:xfrm>
                <a:off x="6171840" y="2971800"/>
                <a:ext cx="963720" cy="11336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14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6171840" y="2971800"/>
                          <a:ext cx="963720" cy="1133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15" name=""/>
              <p:cNvSpPr/>
              <p:nvPr/>
            </p:nvSpPr>
            <p:spPr>
              <a:xfrm>
                <a:off x="6705720" y="4191120"/>
                <a:ext cx="0" cy="45720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headEnd len="med" type="stealth" w="sm"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5791320" y="838080"/>
            <a:ext cx="2952720" cy="1981440"/>
            <a:chOff x="5791320" y="838080"/>
            <a:chExt cx="2952720" cy="1981440"/>
          </a:xfrm>
        </p:grpSpPr>
        <p:sp>
          <p:nvSpPr>
            <p:cNvPr id="117" name=""/>
            <p:cNvSpPr/>
            <p:nvPr/>
          </p:nvSpPr>
          <p:spPr>
            <a:xfrm>
              <a:off x="5791320" y="838080"/>
              <a:ext cx="1770120" cy="11113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ecretaria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1981080"/>
              <a:ext cx="1581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fafd00"/>
                  </a:solidFill>
                  <a:latin typeface="Arial"/>
                </a:rPr>
                <a:t>Manag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5720" y="2057400"/>
              <a:ext cx="0" cy="76212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28600" y="2590920"/>
            <a:ext cx="2438280" cy="1718280"/>
            <a:chOff x="228600" y="2590920"/>
            <a:chExt cx="2438280" cy="1718280"/>
          </a:xfrm>
        </p:grpSpPr>
        <p:sp>
          <p:nvSpPr>
            <p:cNvPr id="121" name=""/>
            <p:cNvSpPr/>
            <p:nvPr/>
          </p:nvSpPr>
          <p:spPr>
            <a:xfrm>
              <a:off x="380880" y="3390480"/>
              <a:ext cx="2133720" cy="918720"/>
            </a:xfrm>
            <a:custGeom>
              <a:avLst/>
              <a:gdLst>
                <a:gd name="textAreaLeft" fmla="*/ 266760 w 2133720"/>
                <a:gd name="textAreaRight" fmla="*/ 1867320 w 213372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00" y="25909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Administration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M</a:t>
              </a: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anag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781360" y="2666880"/>
            <a:ext cx="3048120" cy="342900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57680" y="2819520"/>
            <a:ext cx="2895480" cy="53316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ed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57680" y="3352680"/>
            <a:ext cx="2895480" cy="26672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57680" y="33526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Fs (Experts Team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57680" y="38862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ub-Contra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57680" y="4419720"/>
            <a:ext cx="2895480" cy="533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udies, Experi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57680" y="49528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57680" y="54864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r>
              <a:rPr b="1" i="1" lang="fr-FR" sz="1800" spc="-1" strike="noStrike">
                <a:solidFill>
                  <a:srgbClr val="fafd00"/>
                </a:solidFill>
                <a:latin typeface="Arial"/>
              </a:rPr>
              <a:t>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" y="4495680"/>
            <a:ext cx="2284560" cy="1490040"/>
            <a:chOff x="228600" y="4495680"/>
            <a:chExt cx="2284560" cy="1490040"/>
          </a:xfrm>
        </p:grpSpPr>
        <p:sp>
          <p:nvSpPr>
            <p:cNvPr id="132" name=""/>
            <p:cNvSpPr/>
            <p:nvPr/>
          </p:nvSpPr>
          <p:spPr>
            <a:xfrm>
              <a:off x="228600" y="5067000"/>
              <a:ext cx="2284560" cy="918720"/>
            </a:xfrm>
            <a:custGeom>
              <a:avLst/>
              <a:gdLst>
                <a:gd name="textAreaLeft" fmla="*/ 285480 w 2284560"/>
                <a:gd name="textAreaRight" fmla="*/ 1999080 w 228456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PE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449568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Technical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Sup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943240" y="2743200"/>
            <a:ext cx="2817720" cy="1794240"/>
            <a:chOff x="5943240" y="2743200"/>
            <a:chExt cx="2817720" cy="1794240"/>
          </a:xfrm>
        </p:grpSpPr>
        <p:sp>
          <p:nvSpPr>
            <p:cNvPr id="135" name=""/>
            <p:cNvSpPr/>
            <p:nvPr/>
          </p:nvSpPr>
          <p:spPr>
            <a:xfrm rot="5400000">
              <a:off x="6623280" y="2399400"/>
              <a:ext cx="1457640" cy="2817720"/>
            </a:xfrm>
            <a:prstGeom prst="downArrow">
              <a:avLst>
                <a:gd name="adj1" fmla="val 50000"/>
                <a:gd name="adj2" fmla="val 48327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PTCC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testing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FWP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system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00800" y="27432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ETSI TB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743200" y="1066680"/>
            <a:ext cx="3124080" cy="76212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Arial"/>
              </a:rPr>
              <a:t>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1466800">
            <a:off x="3963600" y="190476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2860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Beyond STFs: th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 ‘toolki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828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ject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1828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chnic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943240" y="4572000"/>
            <a:ext cx="3048480" cy="1366560"/>
            <a:chOff x="5943240" y="4572000"/>
            <a:chExt cx="3048480" cy="1366560"/>
          </a:xfrm>
        </p:grpSpPr>
        <p:sp>
          <p:nvSpPr>
            <p:cNvPr id="143" name=""/>
            <p:cNvSpPr/>
            <p:nvPr/>
          </p:nvSpPr>
          <p:spPr>
            <a:xfrm rot="5400000">
              <a:off x="6896880" y="4075920"/>
              <a:ext cx="909000" cy="2816280"/>
            </a:xfrm>
            <a:prstGeom prst="downArrow">
              <a:avLst>
                <a:gd name="adj1" fmla="val 50000"/>
                <a:gd name="adj2" fmla="val 77455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e.g. MCC ‘Tasks’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72200" y="4572000"/>
              <a:ext cx="28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artnership Proje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12193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kE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FWP STF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1 7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PTCC STFs *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9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Tasks *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8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subcontract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5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Total ‘Funded Projects’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4 0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820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sources in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2000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560" y="6019920"/>
            <a:ext cx="390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afd00"/>
                </a:solidFill>
                <a:latin typeface="Arial"/>
              </a:rPr>
              <a:t>* not including PTCC staff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214200"/>
            <a:ext cx="6553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c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tribution to ETSI deliver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2960" y="754200"/>
            <a:ext cx="838512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0" y="132"/>
                </a:moveTo>
                <a:lnTo>
                  <a:pt x="223" y="0"/>
                </a:lnTo>
                <a:lnTo>
                  <a:pt x="4708" y="0"/>
                </a:lnTo>
                <a:lnTo>
                  <a:pt x="4486" y="132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79640" y="50626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79640" y="457992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79640" y="4097160"/>
            <a:ext cx="7473960" cy="20988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79640" y="361332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79640" y="313056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79640" y="2647800"/>
            <a:ext cx="7473960" cy="2113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79640" y="216540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79640" y="16826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9640" y="12002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4708" y="0"/>
                </a:moveTo>
                <a:lnTo>
                  <a:pt x="4486" y="132"/>
                </a:lnTo>
                <a:lnTo>
                  <a:pt x="0" y="132"/>
                </a:lnTo>
                <a:lnTo>
                  <a:pt x="223" y="0"/>
                </a:lnTo>
                <a:lnTo>
                  <a:pt x="470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noFill/>
          <a:ln w="144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49520" y="5519880"/>
            <a:ext cx="341280" cy="234720"/>
          </a:xfrm>
          <a:custGeom>
            <a:avLst/>
            <a:gdLst/>
            <a:ahLst/>
            <a:rect l="l" t="t" r="r" b="b"/>
            <a:pathLst>
              <a:path w="215" h="148">
                <a:moveTo>
                  <a:pt x="0" y="148"/>
                </a:moveTo>
                <a:lnTo>
                  <a:pt x="0" y="125"/>
                </a:lnTo>
                <a:lnTo>
                  <a:pt x="215" y="0"/>
                </a:lnTo>
                <a:lnTo>
                  <a:pt x="215" y="16"/>
                </a:lnTo>
                <a:lnTo>
                  <a:pt x="0" y="14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718240"/>
            <a:ext cx="542880" cy="363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0099b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8392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35240" y="5272200"/>
            <a:ext cx="352440" cy="482400"/>
          </a:xfrm>
          <a:custGeom>
            <a:avLst/>
            <a:gdLst/>
            <a:ahLst/>
            <a:rect l="l" t="t" r="r" b="b"/>
            <a:pathLst>
              <a:path w="222" h="304">
                <a:moveTo>
                  <a:pt x="0" y="304"/>
                </a:moveTo>
                <a:lnTo>
                  <a:pt x="0" y="125"/>
                </a:lnTo>
                <a:lnTo>
                  <a:pt x="222" y="0"/>
                </a:lnTo>
                <a:lnTo>
                  <a:pt x="222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04960" y="5470560"/>
            <a:ext cx="530280" cy="28404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35240" y="5248440"/>
            <a:ext cx="352440" cy="222120"/>
          </a:xfrm>
          <a:custGeom>
            <a:avLst/>
            <a:gdLst/>
            <a:ahLst/>
            <a:rect l="l" t="t" r="r" b="b"/>
            <a:pathLst>
              <a:path w="222" h="140">
                <a:moveTo>
                  <a:pt x="0" y="140"/>
                </a:moveTo>
                <a:lnTo>
                  <a:pt x="0" y="125"/>
                </a:lnTo>
                <a:lnTo>
                  <a:pt x="222" y="0"/>
                </a:lnTo>
                <a:lnTo>
                  <a:pt x="222" y="15"/>
                </a:lnTo>
                <a:lnTo>
                  <a:pt x="0" y="14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04960" y="5446800"/>
            <a:ext cx="5302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04960" y="5248440"/>
            <a:ext cx="882720" cy="19836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79200" y="55198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82600" y="52610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32120" y="5346720"/>
            <a:ext cx="353880" cy="407880"/>
          </a:xfrm>
          <a:custGeom>
            <a:avLst/>
            <a:gdLst/>
            <a:ahLst/>
            <a:rect l="l" t="t" r="r" b="b"/>
            <a:pathLst>
              <a:path w="223" h="257">
                <a:moveTo>
                  <a:pt x="0" y="257"/>
                </a:moveTo>
                <a:lnTo>
                  <a:pt x="0" y="125"/>
                </a:lnTo>
                <a:lnTo>
                  <a:pt x="223" y="0"/>
                </a:lnTo>
                <a:lnTo>
                  <a:pt x="223" y="125"/>
                </a:lnTo>
                <a:lnTo>
                  <a:pt x="0" y="257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9240" y="5545080"/>
            <a:ext cx="542880" cy="2095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32120" y="5334120"/>
            <a:ext cx="353880" cy="210960"/>
          </a:xfrm>
          <a:custGeom>
            <a:avLst/>
            <a:gdLst/>
            <a:ahLst/>
            <a:rect l="l" t="t" r="r" b="b"/>
            <a:pathLst>
              <a:path w="223" h="133">
                <a:moveTo>
                  <a:pt x="0" y="133"/>
                </a:moveTo>
                <a:lnTo>
                  <a:pt x="0" y="125"/>
                </a:lnTo>
                <a:lnTo>
                  <a:pt x="223" y="0"/>
                </a:lnTo>
                <a:lnTo>
                  <a:pt x="223" y="8"/>
                </a:lnTo>
                <a:lnTo>
                  <a:pt x="0" y="133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9240" y="5532480"/>
            <a:ext cx="542880" cy="126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32120" y="5297400"/>
            <a:ext cx="353880" cy="235080"/>
          </a:xfrm>
          <a:custGeom>
            <a:avLst/>
            <a:gdLst/>
            <a:ahLst/>
            <a:rect l="l" t="t" r="r" b="b"/>
            <a:pathLst>
              <a:path w="223" h="148">
                <a:moveTo>
                  <a:pt x="0" y="148"/>
                </a:moveTo>
                <a:lnTo>
                  <a:pt x="0" y="133"/>
                </a:lnTo>
                <a:lnTo>
                  <a:pt x="223" y="0"/>
                </a:lnTo>
                <a:lnTo>
                  <a:pt x="223" y="23"/>
                </a:lnTo>
                <a:lnTo>
                  <a:pt x="0" y="14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9240" y="5508720"/>
            <a:ext cx="5428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9240" y="5297400"/>
            <a:ext cx="896760" cy="211320"/>
          </a:xfrm>
          <a:custGeom>
            <a:avLst/>
            <a:gdLst/>
            <a:ahLst/>
            <a:rect l="l" t="t" r="r" b="b"/>
            <a:pathLst>
              <a:path w="565" h="133">
                <a:moveTo>
                  <a:pt x="342" y="133"/>
                </a:moveTo>
                <a:lnTo>
                  <a:pt x="565" y="0"/>
                </a:lnTo>
                <a:lnTo>
                  <a:pt x="222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17480" y="5557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53840" y="5446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3988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0440" y="5160960"/>
            <a:ext cx="339840" cy="593640"/>
          </a:xfrm>
          <a:custGeom>
            <a:avLst/>
            <a:gdLst/>
            <a:ahLst/>
            <a:rect l="l" t="t" r="r" b="b"/>
            <a:pathLst>
              <a:path w="214" h="374">
                <a:moveTo>
                  <a:pt x="0" y="374"/>
                </a:moveTo>
                <a:lnTo>
                  <a:pt x="0" y="133"/>
                </a:lnTo>
                <a:lnTo>
                  <a:pt x="214" y="0"/>
                </a:lnTo>
                <a:lnTo>
                  <a:pt x="214" y="242"/>
                </a:lnTo>
                <a:lnTo>
                  <a:pt x="0" y="37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6120" y="5372280"/>
            <a:ext cx="544320" cy="3823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30440" y="5148360"/>
            <a:ext cx="339840" cy="223920"/>
          </a:xfrm>
          <a:custGeom>
            <a:avLst/>
            <a:gdLst/>
            <a:ahLst/>
            <a:rect l="l" t="t" r="r" b="b"/>
            <a:pathLst>
              <a:path w="214" h="141">
                <a:moveTo>
                  <a:pt x="0" y="141"/>
                </a:moveTo>
                <a:lnTo>
                  <a:pt x="0" y="133"/>
                </a:lnTo>
                <a:lnTo>
                  <a:pt x="214" y="0"/>
                </a:lnTo>
                <a:lnTo>
                  <a:pt x="214" y="8"/>
                </a:lnTo>
                <a:lnTo>
                  <a:pt x="0" y="14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86120" y="5359320"/>
            <a:ext cx="544320" cy="129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30440" y="5024520"/>
            <a:ext cx="339840" cy="334800"/>
          </a:xfrm>
          <a:custGeom>
            <a:avLst/>
            <a:gdLst/>
            <a:ahLst/>
            <a:rect l="l" t="t" r="r" b="b"/>
            <a:pathLst>
              <a:path w="214" h="211">
                <a:moveTo>
                  <a:pt x="0" y="211"/>
                </a:moveTo>
                <a:lnTo>
                  <a:pt x="0" y="125"/>
                </a:lnTo>
                <a:lnTo>
                  <a:pt x="214" y="0"/>
                </a:lnTo>
                <a:lnTo>
                  <a:pt x="214" y="78"/>
                </a:lnTo>
                <a:lnTo>
                  <a:pt x="0" y="211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86120" y="5222880"/>
            <a:ext cx="544320" cy="1364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86120" y="502452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3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6200" y="5470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52520" y="5272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65200" y="5062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29120" y="5199120"/>
            <a:ext cx="339840" cy="555480"/>
          </a:xfrm>
          <a:custGeom>
            <a:avLst/>
            <a:gdLst/>
            <a:ahLst/>
            <a:rect l="l" t="t" r="r" b="b"/>
            <a:pathLst>
              <a:path w="214" h="350">
                <a:moveTo>
                  <a:pt x="0" y="350"/>
                </a:moveTo>
                <a:lnTo>
                  <a:pt x="0" y="132"/>
                </a:lnTo>
                <a:lnTo>
                  <a:pt x="214" y="0"/>
                </a:lnTo>
                <a:lnTo>
                  <a:pt x="214" y="218"/>
                </a:lnTo>
                <a:lnTo>
                  <a:pt x="0" y="350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84440" y="5408640"/>
            <a:ext cx="544680" cy="345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9120" y="4925880"/>
            <a:ext cx="339840" cy="482760"/>
          </a:xfrm>
          <a:custGeom>
            <a:avLst/>
            <a:gdLst/>
            <a:ahLst/>
            <a:rect l="l" t="t" r="r" b="b"/>
            <a:pathLst>
              <a:path w="214" h="304">
                <a:moveTo>
                  <a:pt x="0" y="304"/>
                </a:moveTo>
                <a:lnTo>
                  <a:pt x="0" y="133"/>
                </a:lnTo>
                <a:lnTo>
                  <a:pt x="214" y="0"/>
                </a:lnTo>
                <a:lnTo>
                  <a:pt x="214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84440" y="5137200"/>
            <a:ext cx="544680" cy="271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29120" y="4776840"/>
            <a:ext cx="339840" cy="360360"/>
          </a:xfrm>
          <a:custGeom>
            <a:avLst/>
            <a:gdLst/>
            <a:ahLst/>
            <a:rect l="l" t="t" r="r" b="b"/>
            <a:pathLst>
              <a:path w="214" h="227">
                <a:moveTo>
                  <a:pt x="0" y="227"/>
                </a:moveTo>
                <a:lnTo>
                  <a:pt x="0" y="133"/>
                </a:lnTo>
                <a:lnTo>
                  <a:pt x="214" y="0"/>
                </a:lnTo>
                <a:lnTo>
                  <a:pt x="214" y="94"/>
                </a:lnTo>
                <a:lnTo>
                  <a:pt x="0" y="2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84440" y="4987800"/>
            <a:ext cx="544680" cy="149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84440" y="4776840"/>
            <a:ext cx="884520" cy="21096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43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43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73080" y="54831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73080" y="5173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20680" y="4789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13400" y="5086440"/>
            <a:ext cx="352440" cy="668160"/>
          </a:xfrm>
          <a:custGeom>
            <a:avLst/>
            <a:gdLst/>
            <a:ahLst/>
            <a:rect l="l" t="t" r="r" b="b"/>
            <a:pathLst>
              <a:path w="222" h="421">
                <a:moveTo>
                  <a:pt x="0" y="421"/>
                </a:moveTo>
                <a:lnTo>
                  <a:pt x="0" y="133"/>
                </a:lnTo>
                <a:lnTo>
                  <a:pt x="222" y="0"/>
                </a:lnTo>
                <a:lnTo>
                  <a:pt x="222" y="289"/>
                </a:lnTo>
                <a:lnTo>
                  <a:pt x="0" y="421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83120" y="5297400"/>
            <a:ext cx="530280" cy="4572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13400" y="5000760"/>
            <a:ext cx="352440" cy="296640"/>
          </a:xfrm>
          <a:custGeom>
            <a:avLst/>
            <a:gdLst/>
            <a:ahLst/>
            <a:rect l="l" t="t" r="r" b="b"/>
            <a:pathLst>
              <a:path w="222" h="187">
                <a:moveTo>
                  <a:pt x="0" y="187"/>
                </a:moveTo>
                <a:lnTo>
                  <a:pt x="0" y="132"/>
                </a:lnTo>
                <a:lnTo>
                  <a:pt x="222" y="0"/>
                </a:lnTo>
                <a:lnTo>
                  <a:pt x="222" y="54"/>
                </a:lnTo>
                <a:lnTo>
                  <a:pt x="0" y="18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83120" y="5210280"/>
            <a:ext cx="530280" cy="871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13400" y="4691160"/>
            <a:ext cx="352440" cy="519120"/>
          </a:xfrm>
          <a:custGeom>
            <a:avLst/>
            <a:gdLst/>
            <a:ahLst/>
            <a:rect l="l" t="t" r="r" b="b"/>
            <a:pathLst>
              <a:path w="222" h="327">
                <a:moveTo>
                  <a:pt x="0" y="327"/>
                </a:moveTo>
                <a:lnTo>
                  <a:pt x="0" y="132"/>
                </a:lnTo>
                <a:lnTo>
                  <a:pt x="222" y="0"/>
                </a:lnTo>
                <a:lnTo>
                  <a:pt x="222" y="195"/>
                </a:lnTo>
                <a:lnTo>
                  <a:pt x="0" y="3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83120" y="4900680"/>
            <a:ext cx="530280" cy="3096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83120" y="4691160"/>
            <a:ext cx="882720" cy="20952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34" y="132"/>
                </a:moveTo>
                <a:lnTo>
                  <a:pt x="556" y="0"/>
                </a:lnTo>
                <a:lnTo>
                  <a:pt x="214" y="0"/>
                </a:lnTo>
                <a:lnTo>
                  <a:pt x="0" y="132"/>
                </a:lnTo>
                <a:lnTo>
                  <a:pt x="334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57360" y="54338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96960" y="5160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57360" y="4962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10280" y="4900680"/>
            <a:ext cx="339480" cy="853920"/>
          </a:xfrm>
          <a:custGeom>
            <a:avLst/>
            <a:gdLst/>
            <a:ahLst/>
            <a:rect l="l" t="t" r="r" b="b"/>
            <a:pathLst>
              <a:path w="214" h="538">
                <a:moveTo>
                  <a:pt x="0" y="538"/>
                </a:moveTo>
                <a:lnTo>
                  <a:pt x="0" y="133"/>
                </a:lnTo>
                <a:lnTo>
                  <a:pt x="214" y="0"/>
                </a:lnTo>
                <a:lnTo>
                  <a:pt x="214" y="406"/>
                </a:lnTo>
                <a:lnTo>
                  <a:pt x="0" y="53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67400" y="5111640"/>
            <a:ext cx="542880" cy="642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10280" y="4529160"/>
            <a:ext cx="339480" cy="582480"/>
          </a:xfrm>
          <a:custGeom>
            <a:avLst/>
            <a:gdLst/>
            <a:ahLst/>
            <a:rect l="l" t="t" r="r" b="b"/>
            <a:pathLst>
              <a:path w="214" h="367">
                <a:moveTo>
                  <a:pt x="0" y="367"/>
                </a:moveTo>
                <a:lnTo>
                  <a:pt x="0" y="133"/>
                </a:lnTo>
                <a:lnTo>
                  <a:pt x="214" y="0"/>
                </a:lnTo>
                <a:lnTo>
                  <a:pt x="214" y="234"/>
                </a:lnTo>
                <a:lnTo>
                  <a:pt x="0" y="36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67400" y="4740120"/>
            <a:ext cx="542880" cy="3715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10280" y="4159080"/>
            <a:ext cx="339480" cy="581040"/>
          </a:xfrm>
          <a:custGeom>
            <a:avLst/>
            <a:gdLst/>
            <a:ahLst/>
            <a:rect l="l" t="t" r="r" b="b"/>
            <a:pathLst>
              <a:path w="214" h="366">
                <a:moveTo>
                  <a:pt x="0" y="366"/>
                </a:moveTo>
                <a:lnTo>
                  <a:pt x="0" y="132"/>
                </a:lnTo>
                <a:lnTo>
                  <a:pt x="214" y="0"/>
                </a:lnTo>
                <a:lnTo>
                  <a:pt x="214" y="233"/>
                </a:lnTo>
                <a:lnTo>
                  <a:pt x="0" y="366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67400" y="4368960"/>
            <a:ext cx="542880" cy="3711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67400" y="4159080"/>
            <a:ext cx="882360" cy="20988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42" y="132"/>
                </a:moveTo>
                <a:lnTo>
                  <a:pt x="556" y="0"/>
                </a:lnTo>
                <a:lnTo>
                  <a:pt x="222" y="0"/>
                </a:lnTo>
                <a:lnTo>
                  <a:pt x="0" y="132"/>
                </a:lnTo>
                <a:lnTo>
                  <a:pt x="342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4308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6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43080" y="4827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43080" y="44560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08600" y="4815000"/>
            <a:ext cx="339840" cy="93960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65720" y="5024520"/>
            <a:ext cx="542880" cy="7300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08600" y="4084560"/>
            <a:ext cx="339840" cy="93996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65720" y="4294080"/>
            <a:ext cx="542880" cy="730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08600" y="3726000"/>
            <a:ext cx="339840" cy="568080"/>
          </a:xfrm>
          <a:custGeom>
            <a:avLst/>
            <a:gdLst/>
            <a:ahLst/>
            <a:rect l="l" t="t" r="r" b="b"/>
            <a:pathLst>
              <a:path w="214" h="358">
                <a:moveTo>
                  <a:pt x="0" y="358"/>
                </a:moveTo>
                <a:lnTo>
                  <a:pt x="0" y="124"/>
                </a:lnTo>
                <a:lnTo>
                  <a:pt x="214" y="0"/>
                </a:lnTo>
                <a:lnTo>
                  <a:pt x="214" y="226"/>
                </a:lnTo>
                <a:lnTo>
                  <a:pt x="0" y="35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65720" y="3922560"/>
            <a:ext cx="54288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65720" y="3726000"/>
            <a:ext cx="882720" cy="196560"/>
          </a:xfrm>
          <a:custGeom>
            <a:avLst/>
            <a:gdLst/>
            <a:ahLst/>
            <a:rect l="l" t="t" r="r" b="b"/>
            <a:pathLst>
              <a:path w="556" h="124">
                <a:moveTo>
                  <a:pt x="342" y="124"/>
                </a:moveTo>
                <a:lnTo>
                  <a:pt x="556" y="0"/>
                </a:lnTo>
                <a:lnTo>
                  <a:pt x="214" y="0"/>
                </a:lnTo>
                <a:lnTo>
                  <a:pt x="0" y="124"/>
                </a:lnTo>
                <a:lnTo>
                  <a:pt x="342" y="124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39960" y="52974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39960" y="45673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39960" y="40100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92880" y="4703760"/>
            <a:ext cx="353880" cy="1050840"/>
          </a:xfrm>
          <a:custGeom>
            <a:avLst/>
            <a:gdLst/>
            <a:ahLst/>
            <a:rect l="l" t="t" r="r" b="b"/>
            <a:pathLst>
              <a:path w="223" h="662">
                <a:moveTo>
                  <a:pt x="0" y="662"/>
                </a:moveTo>
                <a:lnTo>
                  <a:pt x="0" y="124"/>
                </a:lnTo>
                <a:lnTo>
                  <a:pt x="223" y="0"/>
                </a:lnTo>
                <a:lnTo>
                  <a:pt x="223" y="530"/>
                </a:lnTo>
                <a:lnTo>
                  <a:pt x="0" y="66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2600" y="4900680"/>
            <a:ext cx="530280" cy="8539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92880" y="4108320"/>
            <a:ext cx="353880" cy="792360"/>
          </a:xfrm>
          <a:custGeom>
            <a:avLst/>
            <a:gdLst/>
            <a:ahLst/>
            <a:rect l="l" t="t" r="r" b="b"/>
            <a:pathLst>
              <a:path w="223" h="499">
                <a:moveTo>
                  <a:pt x="0" y="499"/>
                </a:moveTo>
                <a:lnTo>
                  <a:pt x="0" y="125"/>
                </a:lnTo>
                <a:lnTo>
                  <a:pt x="223" y="0"/>
                </a:lnTo>
                <a:lnTo>
                  <a:pt x="223" y="375"/>
                </a:lnTo>
                <a:lnTo>
                  <a:pt x="0" y="499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2600" y="4307040"/>
            <a:ext cx="530280" cy="5936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92880" y="3798720"/>
            <a:ext cx="353880" cy="508320"/>
          </a:xfrm>
          <a:custGeom>
            <a:avLst/>
            <a:gdLst/>
            <a:ahLst/>
            <a:rect l="l" t="t" r="r" b="b"/>
            <a:pathLst>
              <a:path w="223" h="320">
                <a:moveTo>
                  <a:pt x="0" y="320"/>
                </a:moveTo>
                <a:lnTo>
                  <a:pt x="0" y="133"/>
                </a:lnTo>
                <a:lnTo>
                  <a:pt x="223" y="0"/>
                </a:lnTo>
                <a:lnTo>
                  <a:pt x="223" y="195"/>
                </a:lnTo>
                <a:lnTo>
                  <a:pt x="0" y="32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2600" y="4010040"/>
            <a:ext cx="530280" cy="2970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62600" y="3798720"/>
            <a:ext cx="884160" cy="21132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34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34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8640" y="5235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5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38640" y="4518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38640" y="40719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91200" y="5049720"/>
            <a:ext cx="352440" cy="704880"/>
          </a:xfrm>
          <a:custGeom>
            <a:avLst/>
            <a:gdLst/>
            <a:ahLst/>
            <a:rect l="l" t="t" r="r" b="b"/>
            <a:pathLst>
              <a:path w="222" h="444">
                <a:moveTo>
                  <a:pt x="0" y="444"/>
                </a:moveTo>
                <a:lnTo>
                  <a:pt x="0" y="133"/>
                </a:lnTo>
                <a:lnTo>
                  <a:pt x="222" y="0"/>
                </a:lnTo>
                <a:lnTo>
                  <a:pt x="222" y="312"/>
                </a:lnTo>
                <a:lnTo>
                  <a:pt x="0" y="44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46880" y="5261040"/>
            <a:ext cx="544320" cy="493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91200" y="4356000"/>
            <a:ext cx="352440" cy="905040"/>
          </a:xfrm>
          <a:custGeom>
            <a:avLst/>
            <a:gdLst/>
            <a:ahLst/>
            <a:rect l="l" t="t" r="r" b="b"/>
            <a:pathLst>
              <a:path w="222" h="570">
                <a:moveTo>
                  <a:pt x="0" y="570"/>
                </a:moveTo>
                <a:lnTo>
                  <a:pt x="0" y="133"/>
                </a:lnTo>
                <a:lnTo>
                  <a:pt x="222" y="0"/>
                </a:lnTo>
                <a:lnTo>
                  <a:pt x="222" y="437"/>
                </a:lnTo>
                <a:lnTo>
                  <a:pt x="0" y="57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46880" y="4567320"/>
            <a:ext cx="544320" cy="6937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91200" y="3997440"/>
            <a:ext cx="352440" cy="569880"/>
          </a:xfrm>
          <a:custGeom>
            <a:avLst/>
            <a:gdLst/>
            <a:ahLst/>
            <a:rect l="l" t="t" r="r" b="b"/>
            <a:pathLst>
              <a:path w="222" h="359">
                <a:moveTo>
                  <a:pt x="0" y="359"/>
                </a:moveTo>
                <a:lnTo>
                  <a:pt x="0" y="125"/>
                </a:lnTo>
                <a:lnTo>
                  <a:pt x="222" y="0"/>
                </a:lnTo>
                <a:lnTo>
                  <a:pt x="222" y="226"/>
                </a:lnTo>
                <a:lnTo>
                  <a:pt x="0" y="35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46880" y="4195800"/>
            <a:ext cx="54432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46880" y="3997440"/>
            <a:ext cx="896760" cy="198360"/>
          </a:xfrm>
          <a:custGeom>
            <a:avLst/>
            <a:gdLst/>
            <a:ahLst/>
            <a:rect l="l" t="t" r="r" b="b"/>
            <a:pathLst>
              <a:path w="565" h="125">
                <a:moveTo>
                  <a:pt x="343" y="125"/>
                </a:moveTo>
                <a:lnTo>
                  <a:pt x="565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36960" y="54086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36960" y="4815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36960" y="4281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8080" y="4889520"/>
            <a:ext cx="339840" cy="865080"/>
          </a:xfrm>
          <a:custGeom>
            <a:avLst/>
            <a:gdLst/>
            <a:ahLst/>
            <a:rect l="l" t="t" r="r" b="b"/>
            <a:pathLst>
              <a:path w="214" h="545">
                <a:moveTo>
                  <a:pt x="0" y="545"/>
                </a:moveTo>
                <a:lnTo>
                  <a:pt x="0" y="132"/>
                </a:lnTo>
                <a:lnTo>
                  <a:pt x="214" y="0"/>
                </a:lnTo>
                <a:lnTo>
                  <a:pt x="214" y="413"/>
                </a:lnTo>
                <a:lnTo>
                  <a:pt x="0" y="545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45200" y="5099040"/>
            <a:ext cx="542880" cy="655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88080" y="3638520"/>
            <a:ext cx="339840" cy="1460520"/>
          </a:xfrm>
          <a:custGeom>
            <a:avLst/>
            <a:gdLst/>
            <a:ahLst/>
            <a:rect l="l" t="t" r="r" b="b"/>
            <a:pathLst>
              <a:path w="214" h="920">
                <a:moveTo>
                  <a:pt x="0" y="920"/>
                </a:moveTo>
                <a:lnTo>
                  <a:pt x="0" y="125"/>
                </a:lnTo>
                <a:lnTo>
                  <a:pt x="214" y="0"/>
                </a:lnTo>
                <a:lnTo>
                  <a:pt x="214" y="788"/>
                </a:lnTo>
                <a:lnTo>
                  <a:pt x="0" y="92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45200" y="3836880"/>
            <a:ext cx="542880" cy="12621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88080" y="3179880"/>
            <a:ext cx="339840" cy="657000"/>
          </a:xfrm>
          <a:custGeom>
            <a:avLst/>
            <a:gdLst/>
            <a:ahLst/>
            <a:rect l="l" t="t" r="r" b="b"/>
            <a:pathLst>
              <a:path w="214" h="414">
                <a:moveTo>
                  <a:pt x="0" y="414"/>
                </a:moveTo>
                <a:lnTo>
                  <a:pt x="0" y="133"/>
                </a:lnTo>
                <a:lnTo>
                  <a:pt x="214" y="0"/>
                </a:lnTo>
                <a:lnTo>
                  <a:pt x="214" y="289"/>
                </a:lnTo>
                <a:lnTo>
                  <a:pt x="0" y="414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45200" y="3390840"/>
            <a:ext cx="542880" cy="4460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45200" y="3179880"/>
            <a:ext cx="882720" cy="210960"/>
          </a:xfrm>
          <a:custGeom>
            <a:avLst/>
            <a:gdLst/>
            <a:ahLst/>
            <a:rect l="l" t="t" r="r" b="b"/>
            <a:pathLst>
              <a:path w="556" h="133">
                <a:moveTo>
                  <a:pt x="342" y="133"/>
                </a:moveTo>
                <a:lnTo>
                  <a:pt x="556" y="0"/>
                </a:lnTo>
                <a:lnTo>
                  <a:pt x="223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3384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7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33840" y="4381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48240" y="35402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74160" y="4281480"/>
            <a:ext cx="352440" cy="1473120"/>
          </a:xfrm>
          <a:custGeom>
            <a:avLst/>
            <a:gdLst/>
            <a:ahLst/>
            <a:rect l="l" t="t" r="r" b="b"/>
            <a:pathLst>
              <a:path w="222" h="928">
                <a:moveTo>
                  <a:pt x="0" y="928"/>
                </a:moveTo>
                <a:lnTo>
                  <a:pt x="0" y="133"/>
                </a:lnTo>
                <a:lnTo>
                  <a:pt x="222" y="0"/>
                </a:lnTo>
                <a:lnTo>
                  <a:pt x="222" y="796"/>
                </a:lnTo>
                <a:lnTo>
                  <a:pt x="0" y="92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43880" y="4492800"/>
            <a:ext cx="530280" cy="12618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74160" y="1967040"/>
            <a:ext cx="352440" cy="2525760"/>
          </a:xfrm>
          <a:custGeom>
            <a:avLst/>
            <a:gdLst/>
            <a:ahLst/>
            <a:rect l="l" t="t" r="r" b="b"/>
            <a:pathLst>
              <a:path w="222" h="1591">
                <a:moveTo>
                  <a:pt x="0" y="1591"/>
                </a:moveTo>
                <a:lnTo>
                  <a:pt x="0" y="133"/>
                </a:lnTo>
                <a:lnTo>
                  <a:pt x="222" y="0"/>
                </a:lnTo>
                <a:lnTo>
                  <a:pt x="222" y="1458"/>
                </a:lnTo>
                <a:lnTo>
                  <a:pt x="0" y="159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43880" y="2178000"/>
            <a:ext cx="530280" cy="23148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74160" y="1496880"/>
            <a:ext cx="352440" cy="681120"/>
          </a:xfrm>
          <a:custGeom>
            <a:avLst/>
            <a:gdLst/>
            <a:ahLst/>
            <a:rect l="l" t="t" r="r" b="b"/>
            <a:pathLst>
              <a:path w="222" h="429">
                <a:moveTo>
                  <a:pt x="0" y="429"/>
                </a:moveTo>
                <a:lnTo>
                  <a:pt x="0" y="125"/>
                </a:lnTo>
                <a:lnTo>
                  <a:pt x="222" y="0"/>
                </a:lnTo>
                <a:lnTo>
                  <a:pt x="222" y="296"/>
                </a:lnTo>
                <a:lnTo>
                  <a:pt x="0" y="42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43880" y="1695600"/>
            <a:ext cx="530280" cy="482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43880" y="1496880"/>
            <a:ext cx="882720" cy="19872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86800" y="502452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86800" y="32418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86800" y="18432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066680" y="1371240"/>
            <a:ext cx="1800" cy="4344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22320" y="573732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922320" y="525456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22320" y="477216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922320" y="42894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922320" y="38070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922320" y="33242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922320" y="284148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922320" y="23590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22320" y="18748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922320" y="139212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4040" y="5638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20" y="515628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1920" y="46735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920" y="4191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20" y="3708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1400" y="32241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1400" y="27417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1400" y="225900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1400" y="1776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1400" y="1293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79640" y="5754600"/>
            <a:ext cx="7121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57373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79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6224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59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5744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56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040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372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356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19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182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16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011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642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8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629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47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455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44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281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250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236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079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062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031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18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44560" y="1682640"/>
            <a:ext cx="4037040" cy="890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9240" y="1793880"/>
            <a:ext cx="108000" cy="9828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26120" y="1731960"/>
            <a:ext cx="126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TF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9240" y="2077920"/>
            <a:ext cx="108000" cy="10008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56360" y="2016000"/>
            <a:ext cx="171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MG/3GPP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9240" y="2363760"/>
            <a:ext cx="108000" cy="982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1640" y="2301840"/>
            <a:ext cx="2615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other TBs without STF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828720"/>
            <a:ext cx="9367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1920" y="700200"/>
            <a:ext cx="36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7240" y="914400"/>
            <a:ext cx="10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cost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to draft a deliverable</a:t>
            </a:r>
            <a:br>
              <a:rPr sz="2400"/>
            </a:b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(management STFs are excluded)</a:t>
            </a:r>
            <a:br>
              <a:rPr sz="1600"/>
            </a:br>
            <a:endParaRPr b="1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62120" y="1447920"/>
            <a:ext cx="7613640" cy="4694040"/>
            <a:chOff x="762120" y="1447920"/>
            <a:chExt cx="7613640" cy="4694040"/>
          </a:xfrm>
        </p:grpSpPr>
        <p:sp>
          <p:nvSpPr>
            <p:cNvPr id="338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0" y="137"/>
                  </a:moveTo>
                  <a:lnTo>
                    <a:pt x="209" y="0"/>
                  </a:lnTo>
                  <a:lnTo>
                    <a:pt x="4479" y="0"/>
                  </a:lnTo>
                  <a:lnTo>
                    <a:pt x="4270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65400" y="51418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65400" y="4729320"/>
              <a:ext cx="7110360" cy="21888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65400" y="4305240"/>
              <a:ext cx="7110360" cy="23040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65400" y="3894120"/>
              <a:ext cx="7110360" cy="2192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65400" y="348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65400" y="3059280"/>
              <a:ext cx="7110360" cy="23004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65400" y="2647800"/>
              <a:ext cx="7110360" cy="21780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65400" y="22366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65400" y="182556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4479" y="0"/>
                  </a:moveTo>
                  <a:lnTo>
                    <a:pt x="4270" y="137"/>
                  </a:lnTo>
                  <a:lnTo>
                    <a:pt x="0" y="137"/>
                  </a:lnTo>
                  <a:lnTo>
                    <a:pt x="209" y="0"/>
                  </a:lnTo>
                  <a:lnTo>
                    <a:pt x="447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98720" y="2066760"/>
              <a:ext cx="318960" cy="3703680"/>
            </a:xfrm>
            <a:custGeom>
              <a:avLst/>
              <a:gdLst/>
              <a:ahLst/>
              <a:rect l="l" t="t" r="r" b="b"/>
              <a:pathLst>
                <a:path w="201" h="2333">
                  <a:moveTo>
                    <a:pt x="0" y="2333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2196"/>
                  </a:lnTo>
                  <a:lnTo>
                    <a:pt x="0" y="233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14520" y="2284560"/>
              <a:ext cx="484200" cy="348588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14520" y="2066760"/>
              <a:ext cx="803160" cy="21780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51200" y="18367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42,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67120" y="2975040"/>
              <a:ext cx="318960" cy="2795400"/>
            </a:xfrm>
            <a:custGeom>
              <a:avLst/>
              <a:gdLst/>
              <a:ahLst/>
              <a:rect l="l" t="t" r="r" b="b"/>
              <a:pathLst>
                <a:path w="201" h="1761">
                  <a:moveTo>
                    <a:pt x="0" y="176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624"/>
                  </a:lnTo>
                  <a:lnTo>
                    <a:pt x="0" y="176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82920" y="3192480"/>
              <a:ext cx="484200" cy="257796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82920" y="297504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35360" y="26971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1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35520" y="2720880"/>
              <a:ext cx="318960" cy="3049560"/>
            </a:xfrm>
            <a:custGeom>
              <a:avLst/>
              <a:gdLst/>
              <a:ahLst/>
              <a:rect l="l" t="t" r="r" b="b"/>
              <a:pathLst>
                <a:path w="201" h="1921">
                  <a:moveTo>
                    <a:pt x="0" y="192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784"/>
                  </a:lnTo>
                  <a:lnTo>
                    <a:pt x="0" y="192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51320" y="2938320"/>
              <a:ext cx="484200" cy="28321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51320" y="272088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09880" y="23623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4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03920" y="3616200"/>
              <a:ext cx="317520" cy="2154240"/>
            </a:xfrm>
            <a:custGeom>
              <a:avLst/>
              <a:gdLst/>
              <a:ahLst/>
              <a:rect l="l" t="t" r="r" b="b"/>
              <a:pathLst>
                <a:path w="200" h="1357">
                  <a:moveTo>
                    <a:pt x="0" y="1357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20"/>
                  </a:lnTo>
                  <a:lnTo>
                    <a:pt x="0" y="1357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19720" y="3833640"/>
              <a:ext cx="484200" cy="19368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19720" y="36162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006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3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72320" y="3556080"/>
              <a:ext cx="317520" cy="2214360"/>
            </a:xfrm>
            <a:custGeom>
              <a:avLst/>
              <a:gdLst/>
              <a:ahLst/>
              <a:rect l="l" t="t" r="r" b="b"/>
              <a:pathLst>
                <a:path w="200" h="1395">
                  <a:moveTo>
                    <a:pt x="0" y="1395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58"/>
                  </a:lnTo>
                  <a:lnTo>
                    <a:pt x="0" y="1395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88120" y="3773520"/>
              <a:ext cx="484200" cy="19969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88120" y="355608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834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4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40360" y="4003560"/>
              <a:ext cx="317520" cy="1766880"/>
            </a:xfrm>
            <a:custGeom>
              <a:avLst/>
              <a:gdLst/>
              <a:ahLst/>
              <a:rect l="l" t="t" r="r" b="b"/>
              <a:pathLst>
                <a:path w="200" h="1113">
                  <a:moveTo>
                    <a:pt x="0" y="1113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76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56520" y="4221000"/>
              <a:ext cx="483840" cy="154944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56520" y="4003560"/>
              <a:ext cx="80136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9400" y="35812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8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8760" y="4100400"/>
              <a:ext cx="317520" cy="1670040"/>
            </a:xfrm>
            <a:custGeom>
              <a:avLst/>
              <a:gdLst/>
              <a:ahLst/>
              <a:rect l="l" t="t" r="r" b="b"/>
              <a:pathLst>
                <a:path w="200" h="1052">
                  <a:moveTo>
                    <a:pt x="0" y="1052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15"/>
                  </a:lnTo>
                  <a:lnTo>
                    <a:pt x="0" y="1052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24560" y="4317840"/>
              <a:ext cx="484200" cy="14526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24560" y="41004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365760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7,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173240" y="2017800"/>
              <a:ext cx="1440" cy="372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104840" y="574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104840" y="53341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104840" y="49230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1104840" y="451008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1104840" y="408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104840" y="367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104840" y="3263760"/>
              <a:ext cx="6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104840" y="28400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104840" y="24289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104840" y="201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20600" y="564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20600" y="523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14400" y="4826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14400" y="4413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14400" y="399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14400" y="3578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14400" y="31669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2743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2332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192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120" y="1447920"/>
              <a:ext cx="119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kEUR/deli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65400" y="5770440"/>
              <a:ext cx="677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73240" y="574524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33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018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702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386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070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75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043840" y="577044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724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408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89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773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457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141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825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95440" y="214200"/>
            <a:ext cx="489096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welve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years of STFs 1988-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762120" rIns="762120" tIns="46080" bIns="46080" anchor="ctr">
            <a:normAutofit fontScale="96000"/>
          </a:bodyPr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24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STF Team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 new STFs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65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E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xperts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in total 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0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xperts in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&gt; 1,00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D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eliverables produced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directly by STF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*</a:t>
            </a:r>
            <a:br>
              <a:rPr sz="2400"/>
            </a:b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96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br>
              <a:rPr sz="2400"/>
            </a:b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13160" y="1127160"/>
            <a:ext cx="36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30640" y="352584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30640" y="359712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2520" y="5257800"/>
            <a:ext cx="43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* </a:t>
            </a:r>
            <a:r>
              <a:rPr b="1" i="1" lang="en-GB" sz="1400" spc="-1" strike="noStrike">
                <a:solidFill>
                  <a:srgbClr val="fafd00"/>
                </a:solidFill>
                <a:latin typeface="Arial"/>
              </a:rPr>
              <a:t>(management and project support not include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0T12:43:08Z</dcterms:created>
  <dc:creator>Alberto Berrini</dc:creator>
  <dc:description/>
  <dc:language>en-US</dc:language>
  <cp:lastModifiedBy>Superuser</cp:lastModifiedBy>
  <cp:lastPrinted>1999-08-24T14:04:52Z</cp:lastPrinted>
  <dcterms:modified xsi:type="dcterms:W3CDTF">2002-01-02T15:22:54Z</dcterms:modified>
  <cp:revision>64</cp:revision>
  <dc:subject/>
  <dc:title>STFs</dc:title>
</cp:coreProperties>
</file>