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9028-FFA3-4DEB-BF9C-6DCA6CD51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6309-7C54-4759-BFBC-93498753C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C05E-D2BE-4846-AC05-A3A0B6497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6049-DBBC-4C04-A9C1-33A9696C8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6ECC-7644-439F-B47A-63F49ADCD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8D5D-7215-4C1B-AF37-9BCDD5885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E393-255A-48B7-9CCC-3742BD853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1147-C7B3-4F27-BDCE-12E44ADA2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AB51-486E-439A-92D9-D9D2B5ADC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ECF7-9CA5-4B35-98A9-684046740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8887-BA2E-4F0C-BAE9-9E639B744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70B3-AE66-4947-BE52-0CCEB201B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B5F8F-4880-4D49-A3D2-134D78F7874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ReqIF 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8T11:40:36Z</dcterms:created>
  <dc:creator>Michael Jastram</dc:creator>
  <dc:description/>
  <dc:language>en-US</dc:language>
  <cp:lastModifiedBy>Michael Jastram</cp:lastModifiedBy>
  <dcterms:modified xsi:type="dcterms:W3CDTF">2012-10-08T11:41:32Z</dcterms:modified>
  <cp:revision>1</cp:revision>
  <dc:subject/>
  <dc:title>ReqIF Test File</dc:title>
</cp:coreProperties>
</file>